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DEDB-167B-4428-A151-8441A5D04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740F-265C-4831-84B1-80E894DC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6BA2-DDC7-4E38-98E5-C128C93B9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C684-0CAB-434C-B560-937473B50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755F-BD8C-49E5-86C9-0D98ED55F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E494-99AA-4467-8598-2C0FBD6B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E42A-D383-448B-8446-DD5B9888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C0B6-AE69-4251-B304-F4287B2F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EDA6-3B63-46A8-9D68-A5740F09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9C13-EF47-43E5-9E83-CD035951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192E-7CD3-46CC-BF5F-63C25D23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FF42-70F2-458E-A449-29423A83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544A-9E56-4E58-B606-744BCD06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B05C-1FE4-4E1E-92E1-36589072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6B0E-DAC5-4985-B230-F017E5AA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8F08-9FD2-4E64-9833-A728AEEC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3856-8FB9-45BD-920E-57ACE2C70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A2DF9-5AA0-40B2-B818-017E0099B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2F4CD-9358-4720-AB84-11EEFADF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F021F-02FC-4B90-8BB2-B2D8198F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4B692-8AE9-4767-B8F6-F7FE3C11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46381-4AA4-4C3E-A42B-E7861A38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FAB0-126F-47DC-9DBA-12458DFC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754BA-A2E8-4417-8954-61734F06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79092-85EC-439F-9FE7-C8C12E59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132DF-38C6-4575-A6F0-41AB6908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ACEB4-3A47-49B1-87BE-A783BC0C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44FEA-121C-4247-9D84-5D5533B3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75468-72B6-4BFA-9A29-00AE907AB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3AE6A-922C-4D4B-8908-6B329900E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7DDDB-1307-428A-9F1A-637DA9BE9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D9D5A-9380-47F6-B73F-52708360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88908-E111-4D6E-BA53-A7233D08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EC59-AB4B-4A08-883E-140AC467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A9786-F216-4E00-B612-20824549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95E2A-2062-4636-AC4B-FCB34BC1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94E16-2859-472F-9A2D-F469581A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794AA-ECC6-4F8E-A7E2-4041F147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EB0E0-9534-40C6-B7EC-CFB5EA8D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ED668-88C5-431F-81F0-9FE128EE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8DA81-1803-42C8-B541-D7B471C2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06267-B05B-4486-9CB7-7E8A00AEB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DC808-DEAA-48A7-8FF5-7B0B40EF1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10DCB-D8ED-4ECB-AA61-7BEEB1529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812E-1682-44DF-97C7-023D2DDA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70790-33C6-4444-BC6D-CE716C89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257D9-A869-41B1-AB82-088ABC41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08621-6935-4EC2-9597-1597B41B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F3F40-CE99-4214-BE17-477A93A3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86F0F-5FF4-492D-8EC8-8DFB1B74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A5297-E121-4145-8D00-A6E473F7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00F0C-0DBF-4F41-9A51-E14998CF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19E15-8629-42F0-9220-37DF8645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848A6-83C5-41D6-B9C7-A3CB7963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47C37-3668-4F5A-B24C-772CFCEFF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14C4-FDB4-4CD0-91C2-4294DA3B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96AFA-C66C-4677-A185-BB50F5171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B5B4-13B5-44B7-832E-9FEA8616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3A7A-9526-412B-BD69-11AE29E4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5B2F-5E1B-48A1-8506-571847E0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2F03-E75C-4707-970B-E40275C1961D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6550-F28A-4BD7-89F5-A63A6C3BD932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DA2E-2879-4872-AD5F-48E02E04F03F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traight Connector 10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FE2E-F721-48CB-9B51-F659980B0142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5208-4D0B-4194-B363-715ECE3C2556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26600" y="4652640"/>
            <a:ext cx="7777080" cy="1508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ctr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Centre de ressources pour l'enseignement professionnel </a:t>
            </a:r>
            <a:br>
              <a:rPr sz="2400"/>
            </a:b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en économie-gestion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ww.cerpeg.ac-versailles.fr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219" name="Rectangle 5" descr=""/>
          <p:cNvPicPr/>
          <p:nvPr/>
        </p:nvPicPr>
        <p:blipFill>
          <a:blip r:embed="rId2"/>
          <a:stretch/>
        </p:blipFill>
        <p:spPr>
          <a:xfrm>
            <a:off x="3687840" y="1116000"/>
            <a:ext cx="517500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1" name="Espace réservé du contenu 2"/>
          <p:cNvSpPr/>
          <p:nvPr/>
        </p:nvSpPr>
        <p:spPr>
          <a:xfrm>
            <a:off x="755640" y="1844640"/>
            <a:ext cx="7416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Un des cinq centres de ressources du dispositif national en économie-gestion pour la formation continue des enseign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Réseau pédagogique mis en place par la direction générale de l'enseignement scolaire (DGESCO) selon des orientations proposées par l'inspection génér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Sous la responsabilité d’un IG : Didier Mich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Espace réservé du pied de page 4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3"/>
          <p:cNvSpPr/>
          <p:nvPr/>
        </p:nvSpPr>
        <p:spPr>
          <a:xfrm>
            <a:off x="611280" y="1989000"/>
            <a:ext cx="7921440" cy="31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Destiné principalement aux professeurs d'économie gestion de lycée professio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Pour les formations des niveaux IV et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Dans les domaines de la gestion et de l’économie dr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Espace réservé du pied de page 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9" name="ZoneTexte 3"/>
          <p:cNvSpPr/>
          <p:nvPr/>
        </p:nvSpPr>
        <p:spPr>
          <a:xfrm>
            <a:off x="468360" y="2060640"/>
            <a:ext cx="752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Il s'appuie su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6840" indent="-228600">
              <a:lnSpc>
                <a:spcPct val="100000"/>
              </a:lnSpc>
              <a:buClr>
                <a:srgbClr val="c80064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réseau de profess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Wingdings" charset="2"/>
              <a:buChar char="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otivés par l’innovation pédagog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Wingdings" charset="2"/>
              <a:buChar char="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enant des expériences dans leurs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6840" indent="-228600">
              <a:lnSpc>
                <a:spcPct val="100000"/>
              </a:lnSpc>
              <a:buClr>
                <a:srgbClr val="c80064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comité de pilo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Espace réservé du pied de page 1"/>
          <p:cNvSpPr/>
          <p:nvPr/>
        </p:nvSpPr>
        <p:spPr>
          <a:xfrm>
            <a:off x="684360" y="6208560"/>
            <a:ext cx="4951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Calibri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Espace réservé de la date 4"/>
          <p:cNvSpPr/>
          <p:nvPr/>
        </p:nvSpPr>
        <p:spPr>
          <a:xfrm>
            <a:off x="6248520" y="6208560"/>
            <a:ext cx="2139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Calibri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e 5"/>
          <p:cNvGrpSpPr/>
          <p:nvPr/>
        </p:nvGrpSpPr>
        <p:grpSpPr>
          <a:xfrm>
            <a:off x="1130400" y="1235160"/>
            <a:ext cx="4103640" cy="2843280"/>
            <a:chOff x="1130400" y="1235160"/>
            <a:chExt cx="4103640" cy="2843280"/>
          </a:xfrm>
        </p:grpSpPr>
        <p:grpSp>
          <p:nvGrpSpPr>
            <p:cNvPr id="234" name="Ellipse 26"/>
            <p:cNvGrpSpPr/>
            <p:nvPr/>
          </p:nvGrpSpPr>
          <p:grpSpPr>
            <a:xfrm>
              <a:off x="1130400" y="1235160"/>
              <a:ext cx="4103640" cy="2843280"/>
              <a:chOff x="1130400" y="1235160"/>
              <a:chExt cx="4103640" cy="2843280"/>
            </a:xfrm>
          </p:grpSpPr>
          <p:pic>
            <p:nvPicPr>
              <p:cNvPr id="235" name="Ellipse 26" descr=""/>
              <p:cNvPicPr/>
              <p:nvPr/>
            </p:nvPicPr>
            <p:blipFill>
              <a:blip r:embed="rId3"/>
              <a:stretch/>
            </p:blipFill>
            <p:spPr>
              <a:xfrm>
                <a:off x="1130400" y="1235160"/>
                <a:ext cx="4103640" cy="284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1750680" y="1667880"/>
                <a:ext cx="2869200" cy="19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e 2"/>
            <p:cNvGrpSpPr/>
            <p:nvPr/>
          </p:nvGrpSpPr>
          <p:grpSpPr>
            <a:xfrm>
              <a:off x="1695240" y="2068560"/>
              <a:ext cx="1292400" cy="418680"/>
              <a:chOff x="1695240" y="2068560"/>
              <a:chExt cx="1292400" cy="418680"/>
            </a:xfrm>
          </p:grpSpPr>
          <p:pic>
            <p:nvPicPr>
              <p:cNvPr id="238" name="Rectangle 28" descr=""/>
              <p:cNvPicPr/>
              <p:nvPr/>
            </p:nvPicPr>
            <p:blipFill>
              <a:blip r:embed="rId4"/>
              <a:stretch/>
            </p:blipFill>
            <p:spPr>
              <a:xfrm>
                <a:off x="1866960" y="2186640"/>
                <a:ext cx="927360" cy="27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Rectangle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1695240" y="2068560"/>
                <a:ext cx="1292400" cy="41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0" name="Groupe 10"/>
          <p:cNvGrpSpPr/>
          <p:nvPr/>
        </p:nvGrpSpPr>
        <p:grpSpPr>
          <a:xfrm>
            <a:off x="3817800" y="1338120"/>
            <a:ext cx="4104000" cy="2907000"/>
            <a:chOff x="3817800" y="1338120"/>
            <a:chExt cx="4104000" cy="2907000"/>
          </a:xfrm>
        </p:grpSpPr>
        <p:grpSp>
          <p:nvGrpSpPr>
            <p:cNvPr id="241" name="Ellipse 22"/>
            <p:cNvGrpSpPr/>
            <p:nvPr/>
          </p:nvGrpSpPr>
          <p:grpSpPr>
            <a:xfrm>
              <a:off x="3817800" y="1338120"/>
              <a:ext cx="4104000" cy="2907000"/>
              <a:chOff x="3817800" y="1338120"/>
              <a:chExt cx="4104000" cy="2907000"/>
            </a:xfrm>
          </p:grpSpPr>
          <p:pic>
            <p:nvPicPr>
              <p:cNvPr id="242" name="Ellipse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3817800" y="1338120"/>
                <a:ext cx="4104000" cy="29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"/>
              <p:cNvSpPr/>
              <p:nvPr/>
            </p:nvSpPr>
            <p:spPr>
              <a:xfrm>
                <a:off x="4437360" y="1779840"/>
                <a:ext cx="2869560" cy="20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Groupe 7"/>
            <p:cNvGrpSpPr/>
            <p:nvPr/>
          </p:nvGrpSpPr>
          <p:grpSpPr>
            <a:xfrm>
              <a:off x="6464880" y="2172240"/>
              <a:ext cx="931680" cy="418320"/>
              <a:chOff x="6464880" y="2172240"/>
              <a:chExt cx="931680" cy="418320"/>
            </a:xfrm>
          </p:grpSpPr>
          <p:pic>
            <p:nvPicPr>
              <p:cNvPr id="245" name="Rectangle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6571080" y="2289960"/>
                <a:ext cx="696600" cy="2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Rectangle 25" descr=""/>
              <p:cNvPicPr/>
              <p:nvPr/>
            </p:nvPicPr>
            <p:blipFill>
              <a:blip r:embed="rId8"/>
              <a:stretch/>
            </p:blipFill>
            <p:spPr>
              <a:xfrm>
                <a:off x="6464880" y="2172240"/>
                <a:ext cx="931680" cy="418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7" name="Groupe 15"/>
          <p:cNvGrpSpPr/>
          <p:nvPr/>
        </p:nvGrpSpPr>
        <p:grpSpPr>
          <a:xfrm>
            <a:off x="1092240" y="3032280"/>
            <a:ext cx="3836880" cy="2989080"/>
            <a:chOff x="1092240" y="3032280"/>
            <a:chExt cx="3836880" cy="2989080"/>
          </a:xfrm>
        </p:grpSpPr>
        <p:grpSp>
          <p:nvGrpSpPr>
            <p:cNvPr id="248" name="Ellipse 18"/>
            <p:cNvGrpSpPr/>
            <p:nvPr/>
          </p:nvGrpSpPr>
          <p:grpSpPr>
            <a:xfrm>
              <a:off x="1176480" y="3032280"/>
              <a:ext cx="3752640" cy="2803320"/>
              <a:chOff x="1176480" y="3032280"/>
              <a:chExt cx="3752640" cy="2803320"/>
            </a:xfrm>
          </p:grpSpPr>
          <p:pic>
            <p:nvPicPr>
              <p:cNvPr id="249" name="Ellipse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1176480" y="3032280"/>
                <a:ext cx="3752640" cy="280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>
                <a:off x="1744920" y="3462840"/>
                <a:ext cx="2620800" cy="194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Groupe 12"/>
            <p:cNvGrpSpPr/>
            <p:nvPr/>
          </p:nvGrpSpPr>
          <p:grpSpPr>
            <a:xfrm>
              <a:off x="1092240" y="4744800"/>
              <a:ext cx="3422880" cy="1276560"/>
              <a:chOff x="1092240" y="4744800"/>
              <a:chExt cx="3422880" cy="1276560"/>
            </a:xfrm>
          </p:grpSpPr>
          <p:pic>
            <p:nvPicPr>
              <p:cNvPr id="252" name="Rectangle 20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95960" y="4744800"/>
                <a:ext cx="1412640" cy="66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Rectangle 21" descr=""/>
              <p:cNvPicPr/>
              <p:nvPr/>
            </p:nvPicPr>
            <p:blipFill>
              <a:blip r:embed="rId11"/>
              <a:stretch/>
            </p:blipFill>
            <p:spPr>
              <a:xfrm>
                <a:off x="1092240" y="4893840"/>
                <a:ext cx="3422880" cy="1127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4" name="Groupe 20"/>
          <p:cNvGrpSpPr/>
          <p:nvPr/>
        </p:nvGrpSpPr>
        <p:grpSpPr>
          <a:xfrm>
            <a:off x="4035600" y="3014640"/>
            <a:ext cx="3978000" cy="2816280"/>
            <a:chOff x="4035600" y="3014640"/>
            <a:chExt cx="3978000" cy="2816280"/>
          </a:xfrm>
        </p:grpSpPr>
        <p:grpSp>
          <p:nvGrpSpPr>
            <p:cNvPr id="255" name="Ellipse 14"/>
            <p:cNvGrpSpPr/>
            <p:nvPr/>
          </p:nvGrpSpPr>
          <p:grpSpPr>
            <a:xfrm>
              <a:off x="4035600" y="3014640"/>
              <a:ext cx="3978000" cy="2816280"/>
              <a:chOff x="4035600" y="3014640"/>
              <a:chExt cx="3978000" cy="2816280"/>
            </a:xfrm>
          </p:grpSpPr>
          <p:pic>
            <p:nvPicPr>
              <p:cNvPr id="256" name="Ellips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4035600" y="3014640"/>
                <a:ext cx="3978000" cy="281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4635360" y="3446640"/>
                <a:ext cx="2781720" cy="19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Groupe 17"/>
            <p:cNvGrpSpPr/>
            <p:nvPr/>
          </p:nvGrpSpPr>
          <p:grpSpPr>
            <a:xfrm>
              <a:off x="6214320" y="4347000"/>
              <a:ext cx="1419120" cy="881640"/>
              <a:chOff x="6214320" y="4347000"/>
              <a:chExt cx="1419120" cy="881640"/>
            </a:xfrm>
          </p:grpSpPr>
          <p:pic>
            <p:nvPicPr>
              <p:cNvPr id="259" name="Rectangle 16" descr=""/>
              <p:cNvPicPr/>
              <p:nvPr/>
            </p:nvPicPr>
            <p:blipFill>
              <a:blip r:embed="rId13"/>
              <a:stretch/>
            </p:blipFill>
            <p:spPr>
              <a:xfrm>
                <a:off x="6214320" y="4779000"/>
                <a:ext cx="1163880" cy="44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Rectangle 17" descr=""/>
              <p:cNvPicPr/>
              <p:nvPr/>
            </p:nvPicPr>
            <p:blipFill>
              <a:blip r:embed="rId14"/>
              <a:stretch/>
            </p:blipFill>
            <p:spPr>
              <a:xfrm>
                <a:off x="6279480" y="4347000"/>
                <a:ext cx="1353960" cy="804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61" name="Groupe 30"/>
          <p:cNvGrpSpPr/>
          <p:nvPr/>
        </p:nvGrpSpPr>
        <p:grpSpPr>
          <a:xfrm>
            <a:off x="2583000" y="2263680"/>
            <a:ext cx="3978000" cy="2818080"/>
            <a:chOff x="2583000" y="2263680"/>
            <a:chExt cx="3978000" cy="2818080"/>
          </a:xfrm>
        </p:grpSpPr>
        <p:grpSp>
          <p:nvGrpSpPr>
            <p:cNvPr id="262" name="Ellipse 8"/>
            <p:cNvGrpSpPr/>
            <p:nvPr/>
          </p:nvGrpSpPr>
          <p:grpSpPr>
            <a:xfrm>
              <a:off x="2583000" y="2263680"/>
              <a:ext cx="3978000" cy="2818080"/>
              <a:chOff x="2583000" y="2263680"/>
              <a:chExt cx="3978000" cy="2818080"/>
            </a:xfrm>
          </p:grpSpPr>
          <p:pic>
            <p:nvPicPr>
              <p:cNvPr id="263" name="Ellipse 8" descr=""/>
              <p:cNvPicPr/>
              <p:nvPr/>
            </p:nvPicPr>
            <p:blipFill>
              <a:blip r:embed="rId15"/>
              <a:stretch/>
            </p:blipFill>
            <p:spPr>
              <a:xfrm>
                <a:off x="2583000" y="2263680"/>
                <a:ext cx="3978000" cy="281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"/>
              <p:cNvSpPr/>
              <p:nvPr/>
            </p:nvSpPr>
            <p:spPr>
              <a:xfrm>
                <a:off x="3181680" y="2696040"/>
                <a:ext cx="2785680" cy="19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Groupe 9"/>
            <p:cNvGrpSpPr/>
            <p:nvPr/>
          </p:nvGrpSpPr>
          <p:grpSpPr>
            <a:xfrm>
              <a:off x="2934720" y="3274200"/>
              <a:ext cx="3208680" cy="728280"/>
              <a:chOff x="2934720" y="3274200"/>
              <a:chExt cx="3208680" cy="728280"/>
            </a:xfrm>
          </p:grpSpPr>
          <p:pic>
            <p:nvPicPr>
              <p:cNvPr id="266" name="Rectangle 12" descr=""/>
              <p:cNvPicPr/>
              <p:nvPr/>
            </p:nvPicPr>
            <p:blipFill>
              <a:blip r:embed="rId16"/>
              <a:stretch/>
            </p:blipFill>
            <p:spPr>
              <a:xfrm>
                <a:off x="3713040" y="3302640"/>
                <a:ext cx="1439280" cy="69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" name="Rectangle 13" descr=""/>
              <p:cNvPicPr/>
              <p:nvPr/>
            </p:nvPicPr>
            <p:blipFill>
              <a:blip r:embed="rId17"/>
              <a:stretch/>
            </p:blipFill>
            <p:spPr>
              <a:xfrm>
                <a:off x="2934720" y="3274200"/>
                <a:ext cx="3208680" cy="72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68" name="Espace réservé du pied de page 3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Espace réservé de la date 32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71" name="Espace réservé du contenu 2"/>
          <p:cNvSpPr/>
          <p:nvPr/>
        </p:nvSpPr>
        <p:spPr>
          <a:xfrm>
            <a:off x="755640" y="1916280"/>
            <a:ext cx="806436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sa mission</a:t>
            </a:r>
            <a:r>
              <a:rPr b="0" lang="fr-FR" sz="2400" spc="-1" strike="noStrike">
                <a:solidFill>
                  <a:srgbClr val="c80064"/>
                </a:solidFill>
                <a:latin typeface="Calibri"/>
              </a:rPr>
              <a:t> :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ssurer un soutien pédagogique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uprès des professeurs d'économie-gestion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e lycée professionn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Outils et ressources pédag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périmentations pédag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eille informationn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ormation des enseign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compagnement des rénov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Espace réservé du pied de page 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Espace réservé de la date 6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"/>
          <p:cNvSpPr/>
          <p:nvPr/>
        </p:nvSpPr>
        <p:spPr>
          <a:xfrm>
            <a:off x="755640" y="148428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80064"/>
                </a:solidFill>
                <a:latin typeface="Arial"/>
              </a:rPr>
              <a:t>www.cerpeg.ac-versailles.f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755640" y="2736720"/>
            <a:ext cx="74167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ise en ligne régulière de ressources sur le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nnonce des publications sur la liste L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efonte du site Internet dans les prochaines sem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Espace réservé du pied de page 4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grpSp>
        <p:nvGrpSpPr>
          <p:cNvPr id="280" name="Groupe 1"/>
          <p:cNvGrpSpPr/>
          <p:nvPr/>
        </p:nvGrpSpPr>
        <p:grpSpPr>
          <a:xfrm>
            <a:off x="1784520" y="1628640"/>
            <a:ext cx="5667120" cy="3888000"/>
            <a:chOff x="1784520" y="1628640"/>
            <a:chExt cx="5667120" cy="3888000"/>
          </a:xfrm>
        </p:grpSpPr>
        <p:grpSp>
          <p:nvGrpSpPr>
            <p:cNvPr id="281" name="Groupe 5"/>
            <p:cNvGrpSpPr/>
            <p:nvPr/>
          </p:nvGrpSpPr>
          <p:grpSpPr>
            <a:xfrm>
              <a:off x="1815840" y="1628640"/>
              <a:ext cx="3360240" cy="2309400"/>
              <a:chOff x="1815840" y="1628640"/>
              <a:chExt cx="3360240" cy="2309400"/>
            </a:xfrm>
          </p:grpSpPr>
          <p:grpSp>
            <p:nvGrpSpPr>
              <p:cNvPr id="282" name="Ellipse 26"/>
              <p:cNvGrpSpPr/>
              <p:nvPr/>
            </p:nvGrpSpPr>
            <p:grpSpPr>
              <a:xfrm>
                <a:off x="1815840" y="1628640"/>
                <a:ext cx="3360240" cy="2309400"/>
                <a:chOff x="1815840" y="1628640"/>
                <a:chExt cx="3360240" cy="2309400"/>
              </a:xfrm>
            </p:grpSpPr>
            <p:pic>
              <p:nvPicPr>
                <p:cNvPr id="283" name="Ellipse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15840" y="1628640"/>
                  <a:ext cx="3360240" cy="2309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4" name=""/>
                <p:cNvSpPr/>
                <p:nvPr/>
              </p:nvSpPr>
              <p:spPr>
                <a:xfrm>
                  <a:off x="2324880" y="1984680"/>
                  <a:ext cx="2347920" cy="16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Groupe 2"/>
              <p:cNvGrpSpPr/>
              <p:nvPr/>
            </p:nvGrpSpPr>
            <p:grpSpPr>
              <a:xfrm>
                <a:off x="2279520" y="2309040"/>
                <a:ext cx="1057680" cy="338760"/>
                <a:chOff x="2279520" y="2309040"/>
                <a:chExt cx="1057680" cy="338760"/>
              </a:xfrm>
            </p:grpSpPr>
            <p:pic>
              <p:nvPicPr>
                <p:cNvPr id="286" name="Rectangle 2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382480" y="2391480"/>
                  <a:ext cx="833040" cy="239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7" name="Rectangle 2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279520" y="2309040"/>
                  <a:ext cx="1057680" cy="338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88" name="Groupe 10"/>
            <p:cNvGrpSpPr/>
            <p:nvPr/>
          </p:nvGrpSpPr>
          <p:grpSpPr>
            <a:xfrm>
              <a:off x="4016160" y="1712160"/>
              <a:ext cx="3360240" cy="2361600"/>
              <a:chOff x="4016160" y="1712160"/>
              <a:chExt cx="3360240" cy="2361600"/>
            </a:xfrm>
          </p:grpSpPr>
          <p:grpSp>
            <p:nvGrpSpPr>
              <p:cNvPr id="289" name="Ellipse 22"/>
              <p:cNvGrpSpPr/>
              <p:nvPr/>
            </p:nvGrpSpPr>
            <p:grpSpPr>
              <a:xfrm>
                <a:off x="4016160" y="1712160"/>
                <a:ext cx="3360240" cy="2361600"/>
                <a:chOff x="4016160" y="1712160"/>
                <a:chExt cx="3360240" cy="2361600"/>
              </a:xfrm>
            </p:grpSpPr>
            <p:pic>
              <p:nvPicPr>
                <p:cNvPr id="290" name="Ellips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016160" y="1712160"/>
                  <a:ext cx="3360240" cy="236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1" name=""/>
                <p:cNvSpPr/>
                <p:nvPr/>
              </p:nvSpPr>
              <p:spPr>
                <a:xfrm>
                  <a:off x="4525200" y="2074680"/>
                  <a:ext cx="2347920" cy="16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Groupe 7"/>
              <p:cNvGrpSpPr/>
              <p:nvPr/>
            </p:nvGrpSpPr>
            <p:grpSpPr>
              <a:xfrm>
                <a:off x="6184080" y="2392200"/>
                <a:ext cx="762480" cy="338400"/>
                <a:chOff x="6184080" y="2392200"/>
                <a:chExt cx="762480" cy="338400"/>
              </a:xfrm>
            </p:grpSpPr>
            <p:pic>
              <p:nvPicPr>
                <p:cNvPr id="293" name="Rectangle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246720" y="2470680"/>
                  <a:ext cx="622800" cy="243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4" name="Rectangle 2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184080" y="2392200"/>
                  <a:ext cx="762480" cy="33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95" name="Groupe 15"/>
            <p:cNvGrpSpPr/>
            <p:nvPr/>
          </p:nvGrpSpPr>
          <p:grpSpPr>
            <a:xfrm>
              <a:off x="1784520" y="3088440"/>
              <a:ext cx="3142080" cy="2428200"/>
              <a:chOff x="1784520" y="3088440"/>
              <a:chExt cx="3142080" cy="2428200"/>
            </a:xfrm>
          </p:grpSpPr>
          <p:grpSp>
            <p:nvGrpSpPr>
              <p:cNvPr id="296" name="Ellipse 18"/>
              <p:cNvGrpSpPr/>
              <p:nvPr/>
            </p:nvGrpSpPr>
            <p:grpSpPr>
              <a:xfrm>
                <a:off x="1852920" y="3088440"/>
                <a:ext cx="3073680" cy="2277720"/>
                <a:chOff x="1852920" y="3088440"/>
                <a:chExt cx="3073680" cy="2277720"/>
              </a:xfrm>
            </p:grpSpPr>
            <p:pic>
              <p:nvPicPr>
                <p:cNvPr id="297" name="Ellipse 18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852920" y="3088440"/>
                  <a:ext cx="3073680" cy="2277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8" name=""/>
                <p:cNvSpPr/>
                <p:nvPr/>
              </p:nvSpPr>
              <p:spPr>
                <a:xfrm>
                  <a:off x="2318760" y="3437640"/>
                  <a:ext cx="2145960" cy="158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Groupe 12"/>
              <p:cNvGrpSpPr/>
              <p:nvPr/>
            </p:nvGrpSpPr>
            <p:grpSpPr>
              <a:xfrm>
                <a:off x="1784520" y="4479480"/>
                <a:ext cx="2802600" cy="1037160"/>
                <a:chOff x="1784520" y="4479480"/>
                <a:chExt cx="2802600" cy="1037160"/>
              </a:xfrm>
            </p:grpSpPr>
            <p:pic>
              <p:nvPicPr>
                <p:cNvPr id="300" name="Rectangle 20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273760" y="4479480"/>
                  <a:ext cx="1159560" cy="536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1" name="Rectangle 21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784520" y="4598640"/>
                  <a:ext cx="2802600" cy="91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02" name="Groupe 20"/>
            <p:cNvGrpSpPr/>
            <p:nvPr/>
          </p:nvGrpSpPr>
          <p:grpSpPr>
            <a:xfrm>
              <a:off x="4194360" y="3073680"/>
              <a:ext cx="3257280" cy="2289240"/>
              <a:chOff x="4194360" y="3073680"/>
              <a:chExt cx="3257280" cy="2289240"/>
            </a:xfrm>
          </p:grpSpPr>
          <p:grpSp>
            <p:nvGrpSpPr>
              <p:cNvPr id="303" name="Ellipse 14"/>
              <p:cNvGrpSpPr/>
              <p:nvPr/>
            </p:nvGrpSpPr>
            <p:grpSpPr>
              <a:xfrm>
                <a:off x="4194360" y="3073680"/>
                <a:ext cx="3257280" cy="2289240"/>
                <a:chOff x="4194360" y="3073680"/>
                <a:chExt cx="3257280" cy="2289240"/>
              </a:xfrm>
            </p:grpSpPr>
            <p:pic>
              <p:nvPicPr>
                <p:cNvPr id="304" name="Ellipse 14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194360" y="3073680"/>
                  <a:ext cx="3257280" cy="2289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5" name=""/>
                <p:cNvSpPr/>
                <p:nvPr/>
              </p:nvSpPr>
              <p:spPr>
                <a:xfrm>
                  <a:off x="4689000" y="3426840"/>
                  <a:ext cx="2271240" cy="158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Groupe 17"/>
              <p:cNvGrpSpPr/>
              <p:nvPr/>
            </p:nvGrpSpPr>
            <p:grpSpPr>
              <a:xfrm>
                <a:off x="5978160" y="4156560"/>
                <a:ext cx="1158840" cy="714240"/>
                <a:chOff x="5978160" y="4156560"/>
                <a:chExt cx="1158840" cy="714240"/>
              </a:xfrm>
            </p:grpSpPr>
            <p:pic>
              <p:nvPicPr>
                <p:cNvPr id="307" name="Rectangle 16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978160" y="4510800"/>
                  <a:ext cx="909000" cy="360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Rectangle 17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023520" y="4156560"/>
                  <a:ext cx="1113480" cy="651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09" name="Groupe 30"/>
            <p:cNvGrpSpPr/>
            <p:nvPr/>
          </p:nvGrpSpPr>
          <p:grpSpPr>
            <a:xfrm>
              <a:off x="3004920" y="2464200"/>
              <a:ext cx="3256560" cy="2288520"/>
              <a:chOff x="3004920" y="2464200"/>
              <a:chExt cx="3256560" cy="2288520"/>
            </a:xfrm>
          </p:grpSpPr>
          <p:grpSp>
            <p:nvGrpSpPr>
              <p:cNvPr id="310" name="Ellipse 8"/>
              <p:cNvGrpSpPr/>
              <p:nvPr/>
            </p:nvGrpSpPr>
            <p:grpSpPr>
              <a:xfrm>
                <a:off x="3004920" y="2464200"/>
                <a:ext cx="3256560" cy="2288520"/>
                <a:chOff x="3004920" y="2464200"/>
                <a:chExt cx="3256560" cy="2288520"/>
              </a:xfrm>
            </p:grpSpPr>
            <p:pic>
              <p:nvPicPr>
                <p:cNvPr id="311" name="Ellipse 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3004920" y="2464200"/>
                  <a:ext cx="3256560" cy="2288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2" name=""/>
                <p:cNvSpPr/>
                <p:nvPr/>
              </p:nvSpPr>
              <p:spPr>
                <a:xfrm>
                  <a:off x="3499560" y="2817720"/>
                  <a:ext cx="2274480" cy="15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Groupe 9"/>
              <p:cNvGrpSpPr/>
              <p:nvPr/>
            </p:nvGrpSpPr>
            <p:grpSpPr>
              <a:xfrm>
                <a:off x="3297960" y="3285720"/>
                <a:ext cx="2620080" cy="589680"/>
                <a:chOff x="3297960" y="3285720"/>
                <a:chExt cx="2620080" cy="589680"/>
              </a:xfrm>
            </p:grpSpPr>
            <p:pic>
              <p:nvPicPr>
                <p:cNvPr id="314" name="Rectangle 1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3891600" y="3285720"/>
                  <a:ext cx="1265040" cy="589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Rectangle 1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297960" y="3285720"/>
                  <a:ext cx="2620080" cy="589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316" name="Espace réservé du pied de page 3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Espace réservé de la date 10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ZoneTexte 11"/>
          <p:cNvSpPr/>
          <p:nvPr/>
        </p:nvSpPr>
        <p:spPr>
          <a:xfrm>
            <a:off x="7377120" y="522936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c80064"/>
                </a:solidFill>
                <a:latin typeface="Calibri"/>
              </a:rPr>
              <a:t>F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8:14:53Z</dcterms:created>
  <dc:creator>Pat</dc:creator>
  <dc:description/>
  <dc:language>en-US</dc:language>
  <cp:lastModifiedBy>Géraldine FONDEVILLE</cp:lastModifiedBy>
  <dcterms:modified xsi:type="dcterms:W3CDTF">2011-10-12T08:25:11Z</dcterms:modified>
  <cp:revision>8</cp:revision>
  <dc:subject/>
  <dc:title>Présentation PowerPoint</dc:title>
</cp:coreProperties>
</file>