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4780-D133-4511-9155-ABB6E65ED91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BEFF-7836-4210-A7F7-C388C175B1B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6751-FE2B-48D6-939E-231E30E7535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4920-CFDB-44A8-9C84-EDA95E161F8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BC57-7FE0-4F5D-950B-7FDABB376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A6EA-47EB-47B6-91EE-EB27D5CF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1983-D155-4B37-8A5C-1F9D3D1A0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E616-0E7D-4E27-8888-4956924E0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02DA-B676-4792-9F81-BE4EB5A08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B964-1650-422F-B38D-3AF4D9EF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FA4E-3C24-47D0-8007-BCC5B1B0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B725-2387-4FBC-9450-7DC89DA5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D64F-AE7A-4F9F-98FF-74BA53CE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2741-922F-41C4-9C9A-776586A0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16AC-83F4-451F-A852-46610307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ADE8-CBFE-444B-B61B-DA1EB431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90D5-053D-4595-9363-8BDDFAA7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9DDD-A0EB-43EB-B7EF-70726280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0C88-8F9B-4648-9202-3D3DC0D7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9B0A-37EA-4B97-B4EC-C1EC777EC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BF92-17D8-4979-8712-9293C7AEA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4519A-A3EF-48B0-9A10-70BECF0AE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87E37-5CFD-4F05-90B7-FB9C93DB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E286C-92E9-44AD-AD94-B9583023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34EBB-078A-44BB-A87C-E9078EDA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43315-19AA-4B9B-A1E5-60CC27D3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ACFC-946C-4124-8BB7-BB103FF1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C4B15-6A83-4F8D-BCB4-D06977E5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7CF34-046E-4C8B-B5A1-A41E6984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EB404-6C96-4BEC-A682-6A3A953B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05FEC-C2E1-4968-8B40-D358B8E6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E60F7-0987-4DC8-94C0-9DD038A9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2F31C-CF5F-43B1-89DA-295EB4B24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5C25B-4FDB-4EDA-85F2-6C6F9FD26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91253-A78A-4750-8B90-DE3030D1F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17B48-9FB2-4F03-8115-EC63BC69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C359E-98CC-4E71-9049-603C853C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EEDC-3EB0-476F-99AA-B2BE5162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F5FF2-40E9-4F3A-872D-D51249AA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D3BA6-F37F-462E-B3AD-D4C86CE7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9AF1A-040A-4661-AA07-229A32B0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E8F65-5AC5-4427-A7FA-81571CF5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0D7A5-7A72-4626-81EF-B1081733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6932C-E61E-41D1-A696-31219439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E663F-B0C8-40B2-A3CB-5319CA10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C3EC9-DF53-44E5-8140-06606B255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5F040-4C1F-4277-ACD9-F5CF3F3DB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BA411-0AA5-4510-923B-618B5E877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EF29-3F77-4EF3-9B88-BB902F64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EDEB3-3D53-4DCD-9AF1-5680DFDB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901C5-563C-44EA-8986-9F11D32C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F8691-5BCA-41DB-9DB0-E2F991A4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9178A-54C4-47F9-8826-74FAEBC2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05F67-7D98-47D6-A522-1038A712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FFCA6-6579-444B-8329-53843983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02A2C-D8B9-4402-BE10-310E6ADA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EFD5D-85B0-4142-93E6-CBD609A4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C33DD-F025-4C16-B8B9-5F5F57F5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8AC35-9C43-400B-8427-8D300C6F4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D9A1-E9F9-4DC4-B4D0-2B0C36F2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2EE8F-40AE-4A64-851C-CDF30CA1A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EE3FF-0FF2-432B-B14D-1BB42D3FB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F20CC-2F4D-4DCA-9BEB-74242657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3DA32-9765-47AD-9637-3EA5DD3E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91043-7F98-4D53-80E1-734A4FBC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AD212-24B7-475B-9880-EB402456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BF2EC-DF8B-42FD-95E6-A0938C8B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A3048-0403-44D7-8C5A-5CAABA97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E0513-EC81-4522-AF70-1B0C3F62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5A0E0-ED20-4E5F-8B1A-C3128752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2028-4776-400E-BBE5-A1451355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3A88D-D347-435C-AECF-ABC25C1A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48862-9295-40F7-BFC5-82958D346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A2441-589B-4D30-9DAA-18B69CAD4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6C719-CC63-450C-BA54-58F9502D0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0E0A1-163A-493B-9BE7-FC7DE96F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5BAE8-9EAA-4E03-A329-FA8AD9A4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63141-C0DB-4946-B212-5F387CF6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7D64D-D23A-46D6-B85F-975DA279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A2AE7-CB60-4CE5-A2A4-E3672A42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E29F2-5431-4670-8C76-6DE50190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2758-F50B-49B2-91F5-66CA9455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B18A9-62C0-4805-821B-0CF749CF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3B691-160D-4805-B1C0-6A92D106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0D453-828C-47AC-929E-5419A4BF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E96D3-6D96-4ABB-A124-8221D7621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9AEDD-D1A0-4331-8EC3-07214439F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32280-508E-46BA-8037-D539DAE46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CBFD1-CB12-419C-96BA-CED997AF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9AAFC-C761-4378-A889-14AF78B7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4EA3A-CE2D-47F2-834E-6C67B586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F8C01-7E2F-45CE-B5D8-7233A016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937A-9161-4A0C-9C9D-ABCD52EA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3A6BE-7258-410D-97DA-3D726D64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1EC83-265F-41B0-9B4F-662859BD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57536-E558-4964-B2EC-F31FCDE6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B37CF-08B6-4A7B-9C31-690F8F53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14630-E788-484A-A2C2-3C28BC42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7DCC0-081E-4511-A1E6-4A21F458D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80ED5-3008-427E-B042-B0FC13543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7B1E-2DFE-4352-96ED-56E47AF7866A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17DA-4F65-4DF9-8BDD-BC552161FC43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F5CC-8A5A-4CB3-9100-806EB7AFA92B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4456-83C3-4F9F-A766-EAF6999F514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227F-6E55-4BE3-B446-7FAF34D4FDEC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AA7D-4171-4A63-9E69-59EB6C252D9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29FF-4DCF-4EE7-9D09-6380FDE65A79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72F0-12D0-4407-A0AF-CBEE0A58477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1559-AE14-434C-9C10-947A1652DE70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53CB-D83F-416C-977C-4414C43BFAF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96A2-5651-4817-A81B-E0BBBBE9125A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A222-EE2F-4EB6-A38A-C7DC9E3A2E0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DB94-988B-4E68-8C28-82FAD6324BCD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2F3B-69E2-4B43-8EB7-36AE200E8BF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E8FC-14D1-4455-ABF4-10DA24426A75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D27E-C668-4AA5-B33E-83214A89551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4. Gestion administrative des relations social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822240" y="1699920"/>
            <a:ext cx="7521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36540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mise en œuvre de procédures relevant de la santé et la sécurité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7348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Produire des supports associés aux procédures santé - sécurité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6540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mise en place d’activités sociales et culturell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7348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Mettre en œuvre des actions à destination du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585E-8988-4B33-ACBB-06C3AA53DE8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5580000" y="4941720"/>
            <a:ext cx="356400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NIVEAU DE PRISE EN COMPTE DE LA COHE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6"/>
          <p:cNvSpPr/>
          <p:nvPr/>
        </p:nvSpPr>
        <p:spPr>
          <a:xfrm>
            <a:off x="6767640" y="234936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COHERENCE &amp; LISIBI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Bouton d'action : Personnalisé 7"/>
          <p:cNvSpPr/>
          <p:nvPr/>
        </p:nvSpPr>
        <p:spPr>
          <a:xfrm>
            <a:off x="8317080" y="3789360"/>
            <a:ext cx="826920" cy="431640"/>
          </a:xfrm>
          <a:custGeom>
            <a:avLst/>
            <a:gdLst>
              <a:gd name="textAreaLeft" fmla="*/ 27720 w 826920"/>
              <a:gd name="textAreaRight" fmla="*/ 799200 w 826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1364" h="21600">
                <a:moveTo>
                  <a:pt x="0" y="0"/>
                </a:moveTo>
                <a:lnTo>
                  <a:pt x="41364" y="0"/>
                </a:lnTo>
                <a:lnTo>
                  <a:pt x="41364" y="21600"/>
                </a:lnTo>
                <a:lnTo>
                  <a:pt x="0" y="21600"/>
                </a:lnTo>
                <a:close/>
              </a:path>
              <a:path fill="lightenLess" w="41364" h="21600">
                <a:moveTo>
                  <a:pt x="0" y="0"/>
                </a:moveTo>
                <a:lnTo>
                  <a:pt x="41364" y="0"/>
                </a:lnTo>
                <a:lnTo>
                  <a:pt x="39964" y="1400"/>
                </a:lnTo>
                <a:lnTo>
                  <a:pt x="1400" y="1400"/>
                </a:lnTo>
                <a:close/>
              </a:path>
              <a:path fill="darken" w="41364" h="21600">
                <a:moveTo>
                  <a:pt x="41364" y="0"/>
                </a:moveTo>
                <a:lnTo>
                  <a:pt x="41364" y="21600"/>
                </a:lnTo>
                <a:lnTo>
                  <a:pt x="39964" y="20200"/>
                </a:lnTo>
                <a:lnTo>
                  <a:pt x="39964" y="1400"/>
                </a:lnTo>
                <a:close/>
              </a:path>
              <a:path fill="darkenLess" w="41364" h="21600">
                <a:moveTo>
                  <a:pt x="41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64" y="20200"/>
                </a:lnTo>
                <a:close/>
              </a:path>
              <a:path fill="lighten" w="41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Bouton d'action : Personnalisé 8"/>
          <p:cNvSpPr/>
          <p:nvPr/>
        </p:nvSpPr>
        <p:spPr>
          <a:xfrm>
            <a:off x="8388360" y="1773360"/>
            <a:ext cx="792000" cy="43164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18" h="21600">
                <a:moveTo>
                  <a:pt x="0" y="0"/>
                </a:moveTo>
                <a:lnTo>
                  <a:pt x="39618" y="0"/>
                </a:lnTo>
                <a:lnTo>
                  <a:pt x="39618" y="21600"/>
                </a:lnTo>
                <a:lnTo>
                  <a:pt x="0" y="21600"/>
                </a:lnTo>
                <a:close/>
              </a:path>
              <a:path fill="lightenLess" w="39618" h="21600">
                <a:moveTo>
                  <a:pt x="0" y="0"/>
                </a:moveTo>
                <a:lnTo>
                  <a:pt x="39618" y="0"/>
                </a:lnTo>
                <a:lnTo>
                  <a:pt x="38218" y="1400"/>
                </a:lnTo>
                <a:lnTo>
                  <a:pt x="1400" y="1400"/>
                </a:lnTo>
                <a:close/>
              </a:path>
              <a:path fill="darken" w="39618" h="21600">
                <a:moveTo>
                  <a:pt x="39618" y="0"/>
                </a:moveTo>
                <a:lnTo>
                  <a:pt x="39618" y="21600"/>
                </a:lnTo>
                <a:lnTo>
                  <a:pt x="38218" y="20200"/>
                </a:lnTo>
                <a:lnTo>
                  <a:pt x="38218" y="1400"/>
                </a:lnTo>
                <a:close/>
              </a:path>
              <a:path fill="darkenLess" w="39618" h="21600">
                <a:moveTo>
                  <a:pt x="39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8" y="20200"/>
                </a:lnTo>
                <a:close/>
              </a:path>
              <a:path fill="lighten" w="39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situation du pôle 2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3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7C0E-CBCD-481A-AF64-AC4788E217D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"/>
          <p:cNvSpPr/>
          <p:nvPr/>
        </p:nvSpPr>
        <p:spPr>
          <a:xfrm>
            <a:off x="533880" y="884160"/>
            <a:ext cx="752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2.1. Gestion administrative courante du personnel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3b81bd"/>
                </a:solidFill>
                <a:latin typeface="Arial"/>
                <a:ea typeface="Times New Roman"/>
              </a:rPr>
              <a:t>2.2.2 Tenue et suivi des dossiers salari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468360" y="1268280"/>
          <a:ext cx="8207280" cy="446436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975040"/>
              </a:tblGrid>
              <a:tr h="20340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23200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documentation juridique et soci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réglement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xtraits de conventions et accords collectif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dèles de décla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rmul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ertificats, des attest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ntrats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nsignes de tenue des dossiers dans l’ent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ssiers du personne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registre du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en matière de confidenti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 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gestion opérationnelle du suivi de dossier 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Gestion Électronique des Donn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des de classement et d’archivag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législation du travail adaptée au secteur,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anche, statut, mé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incipaux types de contrats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rmes de rupture du contrat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rmalités légales et administratives liées à l’embauche, au suivi et au départ du salari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bligations relatives à la médecine du travail et aux organismes socia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et procédures de confidenti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venants aux contr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Missions tempor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availleurs étrangers UE et hors 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élé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gés spécif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Emplois protég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ccident du travai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cès d’un salari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éparation d’un contrôle administr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1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formation inexac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ossier déclass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erte de 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dossiers des personnels sont mis à jour et les formalités administratives sont réalisées dans le respect de la législation du travai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ualiser des dossiers de personnel dans le respect de la législation du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abilité et exhaustivité des dossiers du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17" name="Bouton d'action : Document 7"/>
          <p:cNvSpPr/>
          <p:nvPr/>
        </p:nvSpPr>
        <p:spPr>
          <a:xfrm>
            <a:off x="7812000" y="5661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7007" h="21600">
                <a:moveTo>
                  <a:pt x="7977" y="3985"/>
                </a:moveTo>
                <a:lnTo>
                  <a:pt x="14974" y="3985"/>
                </a:lnTo>
                <a:lnTo>
                  <a:pt x="19030" y="7484"/>
                </a:lnTo>
                <a:lnTo>
                  <a:pt x="19030" y="17615"/>
                </a:lnTo>
                <a:lnTo>
                  <a:pt x="7977" y="17615"/>
                </a:lnTo>
                <a:close/>
              </a:path>
              <a:path fill="darken" w="27007" h="21600">
                <a:moveTo>
                  <a:pt x="14974" y="3985"/>
                </a:moveTo>
                <a:lnTo>
                  <a:pt x="19030" y="7484"/>
                </a:lnTo>
                <a:lnTo>
                  <a:pt x="14974" y="7484"/>
                </a:lnTo>
                <a:close/>
              </a:path>
            </a:pathLst>
          </a:custGeom>
          <a:noFill/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situation du pôle</a:t>
            </a:r>
            <a:r>
              <a:rPr b="0" lang="fr-FR" sz="3200" spc="-1" strike="noStrike">
                <a:solidFill>
                  <a:srgbClr val="00b0f0"/>
                </a:solidFill>
                <a:latin typeface="Franklin Gothic Medium"/>
              </a:rPr>
              <a:t> 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EFAE-7DA1-46D2-90D7-A77482EA29F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"/>
          <p:cNvSpPr/>
          <p:nvPr/>
        </p:nvSpPr>
        <p:spPr>
          <a:xfrm>
            <a:off x="60120" y="764280"/>
            <a:ext cx="919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2.2. Gestion administrative des ressources humaines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3b81bd"/>
                </a:solidFill>
                <a:latin typeface="Arial"/>
                <a:ea typeface="Times New Roman"/>
              </a:rPr>
              <a:t>2.2.2 Participation à la mise en œuvre d’un programme d’accue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250920" y="1197000"/>
          <a:ext cx="8712000" cy="5083200"/>
        </p:xfrm>
        <a:graphic>
          <a:graphicData uri="http://schemas.openxmlformats.org/drawingml/2006/table">
            <a:tbl>
              <a:tblPr/>
              <a:tblGrid>
                <a:gridCol w="2307960"/>
                <a:gridCol w="3426120"/>
                <a:gridCol w="2977920"/>
              </a:tblGrid>
              <a:tr h="1753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5264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documentation juridique et sociale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’état des entr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procédur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ssier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charte graph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intégration du personnel 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procédures d’accueil des salariés ou stagi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dispositifs d’intég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outils de suivi des procédure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cuments composi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njeux de l’intég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’image de l’entrepr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ohésion soci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ulture d’entrepr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s document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structuration du document : titres, inter tit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mise en page du document : textes, images, schémas, cartes, plans, énumé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s temps et modes des verbes : infinitif, présent de l'indic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formulation de consignes et consei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 lexique du métier de l'organ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ctualisation d’un document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iversité des profils salariés accueill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éparation d’une visite de loca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Suivi et bilan d’un programm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7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formations manquantes ou erron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Questions non traitées dans les document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Situation non prévue dans la procédur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mise en œuvre du programme d’accueil respecte les consignes données en matière d’intégration du personne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liquer un programm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ect des consignes d’intégration du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3" name="Bouton d'action : Document 6"/>
          <p:cNvSpPr/>
          <p:nvPr/>
        </p:nvSpPr>
        <p:spPr>
          <a:xfrm>
            <a:off x="8136000" y="508464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Less" w="21600" h="21615">
                <a:moveTo>
                  <a:pt x="5273" y="3993"/>
                </a:moveTo>
                <a:lnTo>
                  <a:pt x="12271" y="3993"/>
                </a:lnTo>
                <a:lnTo>
                  <a:pt x="16327" y="7492"/>
                </a:lnTo>
                <a:lnTo>
                  <a:pt x="16327" y="17623"/>
                </a:lnTo>
                <a:lnTo>
                  <a:pt x="5273" y="17623"/>
                </a:lnTo>
                <a:close/>
              </a:path>
              <a:path fill="darken" w="21600" h="21615">
                <a:moveTo>
                  <a:pt x="12271" y="3993"/>
                </a:moveTo>
                <a:lnTo>
                  <a:pt x="16327" y="7492"/>
                </a:lnTo>
                <a:lnTo>
                  <a:pt x="12271" y="7492"/>
                </a:lnTo>
                <a:close/>
              </a:path>
            </a:pathLst>
          </a:custGeom>
          <a:noFill/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Quelques caractéristiques de ce pôl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006560" y="1267920"/>
            <a:ext cx="813744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Des situations liées à la taille et la structure de l'organisation, parfois rencontrées lors de PFMP.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Des situations à fort potentiel de développement installées dans un cadre juridique robuste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… </a:t>
            </a: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donc, une évaluation en étude de cas.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7A1D-C3A9-4359-B275-81BE31B02F0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2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Gestion administrative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des relations avec le personn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7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755280" y="549360"/>
            <a:ext cx="7521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e gestionnaire administratif assure les activités nécessaires au bon déroulement de la gestion administrative des relations avec les salarié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Opérations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 courantes de gestion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du personnel pour tout type de contrat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Opérations</a:t>
            </a:r>
            <a:r>
              <a:rPr b="0" lang="fr-FR" sz="2000" spc="-1" strike="noStrike">
                <a:solidFill>
                  <a:srgbClr val="00b0f0"/>
                </a:solidFill>
                <a:latin typeface="Franklin Gothic Book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ponctuelle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relatives aux mouvements de personnel, à leur carrière et à leur formation 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Activités de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suivi administratif financier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(préparation de la paie, budgets, indicateurs) 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Activités de gestion administrative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 relations sociales 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2E7D-49A1-478E-86FD-1CD0CE80D37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1042920" y="4419000"/>
            <a:ext cx="7274160" cy="1313640"/>
          </a:xfrm>
          <a:prstGeom prst="rect">
            <a:avLst/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Franklin Gothic Book"/>
              </a:rPr>
              <a:t>Respect  des délais et des consig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Franklin Gothic Book"/>
              </a:rPr>
              <a:t>Respect</a:t>
            </a:r>
            <a:r>
              <a:rPr b="0" lang="fr-FR" sz="2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Franklin Gothic Book"/>
              </a:rPr>
              <a:t>de la législation en vigueur et des règles et procé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6"/>
          <p:cNvSpPr/>
          <p:nvPr/>
        </p:nvSpPr>
        <p:spPr>
          <a:xfrm>
            <a:off x="4427640" y="2637000"/>
            <a:ext cx="3529080" cy="72072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1. Gestion administrative courante du pers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826920" y="1197000"/>
            <a:ext cx="7521840" cy="387504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00">
                <a:alpha val="50000"/>
              </a:srgbClr>
            </a:solidFill>
            <a:miter/>
          </a:ln>
        </p:spPr>
        <p:txBody>
          <a:bodyPr anchor="t">
            <a:normAutofit/>
          </a:bodyPr>
          <a:p>
            <a:pPr lvl="2" marL="4017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Tenue et suivi des dossiers des salariés 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ctualiser des dossiers de personnel dans le respect de la législation du travail 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Gestion administrative des temps de travai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Décompter et planifier le temps de travai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9009-E197-488F-9B04-C4418F0F4A5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6767640" y="422100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9"/>
          <p:cNvSpPr/>
          <p:nvPr/>
        </p:nvSpPr>
        <p:spPr>
          <a:xfrm>
            <a:off x="6767640" y="263700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FIABILITE &amp; EXHAUSTIV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1. Gestion administrative courante du pers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6920" y="119700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17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et suivi des déplacements du personne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Préparer et contrôler des déplacement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1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1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Transmission d’informations à destination du personnel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pprécier la nature et le degré de confidentialité de l’information à destination du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0AE0-7F75-4083-A57C-66875B8ADCC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6767640" y="479736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QUALITE DE LA 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6767640" y="206064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FFICACITE DU SU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Bouton d'action : Personnalisé 7"/>
          <p:cNvSpPr/>
          <p:nvPr/>
        </p:nvSpPr>
        <p:spPr>
          <a:xfrm>
            <a:off x="8388360" y="3500280"/>
            <a:ext cx="792000" cy="433440"/>
          </a:xfrm>
          <a:custGeom>
            <a:avLst/>
            <a:gdLst>
              <a:gd name="textAreaLeft" fmla="*/ 28080 w 792000"/>
              <a:gd name="textAreaRight" fmla="*/ 763920 w 792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9454" h="21600">
                <a:moveTo>
                  <a:pt x="0" y="0"/>
                </a:moveTo>
                <a:lnTo>
                  <a:pt x="39454" y="0"/>
                </a:lnTo>
                <a:lnTo>
                  <a:pt x="39454" y="21600"/>
                </a:lnTo>
                <a:lnTo>
                  <a:pt x="0" y="21600"/>
                </a:lnTo>
                <a:close/>
              </a:path>
              <a:path fill="lightenLess" w="39454" h="21600">
                <a:moveTo>
                  <a:pt x="0" y="0"/>
                </a:moveTo>
                <a:lnTo>
                  <a:pt x="39454" y="0"/>
                </a:lnTo>
                <a:lnTo>
                  <a:pt x="38054" y="1400"/>
                </a:lnTo>
                <a:lnTo>
                  <a:pt x="1400" y="1400"/>
                </a:lnTo>
                <a:close/>
              </a:path>
              <a:path fill="darken" w="39454" h="21600">
                <a:moveTo>
                  <a:pt x="39454" y="0"/>
                </a:moveTo>
                <a:lnTo>
                  <a:pt x="39454" y="21600"/>
                </a:lnTo>
                <a:lnTo>
                  <a:pt x="38054" y="20200"/>
                </a:lnTo>
                <a:lnTo>
                  <a:pt x="38054" y="1400"/>
                </a:lnTo>
                <a:close/>
              </a:path>
              <a:path fill="darkenLess" w="39454" h="21600">
                <a:moveTo>
                  <a:pt x="394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54" y="20200"/>
                </a:lnTo>
                <a:close/>
              </a:path>
              <a:path fill="lighten" w="394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66520" y="476280"/>
            <a:ext cx="75214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2. Gestion administrative des ressources humain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822240" y="1699920"/>
            <a:ext cx="7521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2" marL="349200" indent="-1422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au recrutement du personnel 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48280" indent="-1422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8374a"/>
                </a:solidFill>
                <a:latin typeface="Franklin Gothic Book"/>
              </a:rPr>
              <a:t>Assurer des opérations administratives liées aux étapes d’un recrutement</a:t>
            </a:r>
            <a:endParaRPr b="0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9200" indent="-1422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mise en œuvre d'un programme d'accuei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48280" indent="-142200">
              <a:lnSpc>
                <a:spcPct val="21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8374a"/>
                </a:solidFill>
                <a:latin typeface="Franklin Gothic Book"/>
              </a:rPr>
              <a:t>Appliquer un programme d’accueil </a:t>
            </a:r>
            <a:endParaRPr b="0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9200" indent="-1422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7EED-84B2-45E5-ABE5-5DC4AE2A1F2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6767640" y="422100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 DE CONSIG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6767640" y="2924280"/>
            <a:ext cx="2376360" cy="64908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 ET SECU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Bouton d'action : Personnalisé 7"/>
          <p:cNvSpPr/>
          <p:nvPr/>
        </p:nvSpPr>
        <p:spPr>
          <a:xfrm>
            <a:off x="8388360" y="1916280"/>
            <a:ext cx="792000" cy="433080"/>
          </a:xfrm>
          <a:custGeom>
            <a:avLst/>
            <a:gdLst>
              <a:gd name="textAreaLeft" fmla="*/ 28080 w 792000"/>
              <a:gd name="textAreaRight" fmla="*/ 763920 w 79200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39486" h="21600">
                <a:moveTo>
                  <a:pt x="0" y="0"/>
                </a:moveTo>
                <a:lnTo>
                  <a:pt x="39486" y="0"/>
                </a:lnTo>
                <a:lnTo>
                  <a:pt x="39486" y="21600"/>
                </a:lnTo>
                <a:lnTo>
                  <a:pt x="0" y="21600"/>
                </a:lnTo>
                <a:close/>
              </a:path>
              <a:path fill="lightenLess" w="39486" h="21600">
                <a:moveTo>
                  <a:pt x="0" y="0"/>
                </a:moveTo>
                <a:lnTo>
                  <a:pt x="39486" y="0"/>
                </a:lnTo>
                <a:lnTo>
                  <a:pt x="38086" y="1400"/>
                </a:lnTo>
                <a:lnTo>
                  <a:pt x="1400" y="1400"/>
                </a:lnTo>
                <a:close/>
              </a:path>
              <a:path fill="darken" w="39486" h="21600">
                <a:moveTo>
                  <a:pt x="39486" y="0"/>
                </a:moveTo>
                <a:lnTo>
                  <a:pt x="39486" y="21600"/>
                </a:lnTo>
                <a:lnTo>
                  <a:pt x="38086" y="20200"/>
                </a:lnTo>
                <a:lnTo>
                  <a:pt x="38086" y="1400"/>
                </a:lnTo>
                <a:close/>
              </a:path>
              <a:path fill="darkenLess" w="39486" h="21600">
                <a:moveTo>
                  <a:pt x="394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86" y="20200"/>
                </a:lnTo>
                <a:close/>
              </a:path>
              <a:path fill="lighten" w="394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Bouton d'action : Personnalisé 8"/>
          <p:cNvSpPr/>
          <p:nvPr/>
        </p:nvSpPr>
        <p:spPr>
          <a:xfrm>
            <a:off x="8388360" y="364500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2. Gestion administrative des ressources humain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822240" y="1699920"/>
            <a:ext cx="75218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Suivi administratif des carrières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ppliquer à chaque cas traité les règles spécifiques de suivi de carrière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et suivi de la formation du personnel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ssurer des opérations administratives liées à la formation du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7178-7FA5-49AE-A831-56B30C6F569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6767640" y="515772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 &amp; SECU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6767640" y="306864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QUALITE &amp; PERTIN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12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3. Gestion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administrative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rémunération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et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budget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pers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84360" y="1700280"/>
            <a:ext cx="7519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des bulletins de salaire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Renseigner et contrôler la vraisemblance des états préparatoires aux bulletins de salaire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des déclarations social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Renseigner des états préparatoires aux déclarations sociale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préparation et au suivi budgétaire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Mettre à jour un état budgétaire et signaler les écart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3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9E1D-165D-4838-9655-73FCEB86796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6767640" y="558972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6767640" y="465300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COHERENCE 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6767640" y="2924280"/>
            <a:ext cx="2376360" cy="64908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COHERENCE 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4. Gestion administrative des relations social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822240" y="1700280"/>
            <a:ext cx="75218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2" marL="39348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Suivi administratif des obligations liées aux instances représentatives du personne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1740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Organiser des élections et des consultations d’instances représentative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des tableaux de bord, des indicateurs sociaux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1740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Mettre à jour des indicateurs sociaux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49F6-FA94-4FB7-940B-CF2F6CC290C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6767640" y="508464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XACTITUDE &amp; LISIBI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6767640" y="357336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Edith Simon</cp:lastModifiedBy>
  <dcterms:modified xsi:type="dcterms:W3CDTF">2011-10-21T21:15:07Z</dcterms:modified>
  <cp:revision>80</cp:revision>
  <dc:subject/>
  <dc:title>Baccalauréat professionnel Gestion -- Administration</dc:title>
</cp:coreProperties>
</file>