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14C9-1A91-400D-B17E-08111CB7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A82F-5E8F-4F07-B78A-20089A08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BC72-51F4-4284-86F2-21BF439E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F839-6E1D-4174-A25B-601E84FE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5142-E99F-45E0-B15F-A91DE1F8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432C-641A-42F7-9FF2-75E401B0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84F9-04A2-4CFF-A7F9-FE37092D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2A16-5BD4-4127-94D9-F4E28DD5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0ADD-831D-4B0D-B358-77BB2A48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C3FB-526A-4FB7-9E36-1C08F3E9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7716-0212-47F3-8F26-0790BA54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CE81-A8A6-4333-B4E9-3F62308D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CAA9-0BD3-4746-910A-053EC943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3849-D180-40A9-929B-E52314D9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2C62-6379-4EAF-9F11-355B3D8A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C9EA-2FE2-4F8A-B4CF-FB803329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6830-8866-437C-95C6-30DC5A6C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6D4E6-6A8D-4E7B-A031-77B522DB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CD3CF-2A69-4F5C-90BD-E7938740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95B19-6B50-4CA6-A41F-AA99AC91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39491-2BD6-4749-951B-EA82CEE9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86958-02CE-422E-AF13-A3ADA3AC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BE1C-E084-4181-85B1-BC097C95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28187-CB73-4C96-B0BE-A15EB916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38557-40BD-4EA1-9934-6C1C07EF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B63A4-197E-4515-807A-A15C197A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A9044-6014-4FE6-B3A3-F674E3D5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CDFC3-72F0-4985-8C24-C8FABFE4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6A65C-266D-4424-8B62-7764F05B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9F59A-8FFB-486E-8151-7124505F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0C76A-FFC1-4345-92A6-03B65BD0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119C7-0827-4FA2-939A-B7A2320F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F7C79-EE66-4392-8F25-B297ED90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C2D9-F051-4C1F-A6E9-471F0A17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6D530-D394-4936-A9E1-C204419A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ED527-D9A6-48C3-9A6D-F24718CA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52FE9-5180-4CCA-9D51-D26E7F15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F122D-46D2-4AA8-B925-FD80439D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05FE0-57CC-4DB2-A13F-C219717F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602EB-C96D-45B6-854F-8E984C11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F1EDF-4B96-43BE-8CC2-FD47493E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3AFA2-F423-41B1-9560-4DDC3A79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1589D-E968-44FD-9BA9-09DD4767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5907F-13BF-443C-96E2-4BBB0FB6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F27B-F8D7-4688-AB55-5A26B0C0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44D69-53D7-4AAC-8C4E-E63FB93B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5E74C-5133-4666-8793-746ACACB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2FDF4-DC36-499A-80D5-D76D867A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F88BB-F268-4675-9AA0-EF62E9AD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3B26E-B0B6-45C0-80E5-70B7A25C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03BBB-614C-4C26-BC74-92E4FA87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501A2-F359-42B5-9902-EC927B9F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4DF1C-EFF5-4009-BD80-9326F7D6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5850D-830A-4EBF-A4C5-68FACEF2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2C7E1-8D8E-442A-A375-38E4DB504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C261-96EB-439F-80B2-793D1B11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FEC4D-5937-4DF6-8F9B-FB0DF9EA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FE42-BE94-4A11-8708-29FEFD64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1A66-7F69-41AC-858C-1003A034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EFC7-2A33-49B7-9706-C4A34280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3E08-DD91-43CA-9E0D-E017B1E58DB2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59EB-368E-4742-BCDF-7078FA83D524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E607-34C1-4B83-B51A-62F620BAB851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63E9-A29A-4C48-BE9A-4DC3431FDC36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C397-105E-438E-B7A2-E73D10139B5B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26600" y="4652640"/>
            <a:ext cx="7777080" cy="1508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ctr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Centre de ressources pour l'enseignement professionnel </a:t>
            </a:r>
            <a:br>
              <a:rPr sz="2400"/>
            </a:b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en économie-gestion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ww.cerpeg.ac-versailles.fr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19" name="Rectangle 5" descr=""/>
          <p:cNvPicPr/>
          <p:nvPr/>
        </p:nvPicPr>
        <p:blipFill>
          <a:blip r:embed="rId2"/>
          <a:stretch/>
        </p:blipFill>
        <p:spPr>
          <a:xfrm>
            <a:off x="3687840" y="1116000"/>
            <a:ext cx="51750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1" name="Espace réservé du contenu 2"/>
          <p:cNvSpPr/>
          <p:nvPr/>
        </p:nvSpPr>
        <p:spPr>
          <a:xfrm>
            <a:off x="755640" y="1844640"/>
            <a:ext cx="7416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Un des cinq centres de ressources du dispositif national en économie-gestion pour la formation continue des enseign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Réseau pédagogique mis en place par la direction générale de l'enseignement scolaire (DGESCO) selon des orientations proposées par l'inspection génér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Sous la responsabilité d’un IG : Didier Mich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611280" y="1989000"/>
            <a:ext cx="7921440" cy="31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estiné principalement aux professeurs d'économie gestion de lycée professi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Pour les formations des niveaux IV et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ans les domaines de la gestion et de l’économie dr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9" name="ZoneTexte 3"/>
          <p:cNvSpPr/>
          <p:nvPr/>
        </p:nvSpPr>
        <p:spPr>
          <a:xfrm>
            <a:off x="468360" y="2060640"/>
            <a:ext cx="75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l s'appuie su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réseau de profess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otivés par l’innovation pédag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enant des expériences dans leurs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comité de pilo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Espace réservé du pied de page 1"/>
          <p:cNvSpPr/>
          <p:nvPr/>
        </p:nvSpPr>
        <p:spPr>
          <a:xfrm>
            <a:off x="684360" y="6208560"/>
            <a:ext cx="4951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Espace réservé de la date 4"/>
          <p:cNvSpPr/>
          <p:nvPr/>
        </p:nvSpPr>
        <p:spPr>
          <a:xfrm>
            <a:off x="6248520" y="6208560"/>
            <a:ext cx="213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e 5"/>
          <p:cNvGrpSpPr/>
          <p:nvPr/>
        </p:nvGrpSpPr>
        <p:grpSpPr>
          <a:xfrm>
            <a:off x="1130400" y="1235160"/>
            <a:ext cx="4103640" cy="2843280"/>
            <a:chOff x="1130400" y="1235160"/>
            <a:chExt cx="4103640" cy="2843280"/>
          </a:xfrm>
        </p:grpSpPr>
        <p:grpSp>
          <p:nvGrpSpPr>
            <p:cNvPr id="234" name="Ellipse 26"/>
            <p:cNvGrpSpPr/>
            <p:nvPr/>
          </p:nvGrpSpPr>
          <p:grpSpPr>
            <a:xfrm>
              <a:off x="1130400" y="1235160"/>
              <a:ext cx="4103640" cy="2843280"/>
              <a:chOff x="1130400" y="1235160"/>
              <a:chExt cx="4103640" cy="2843280"/>
            </a:xfrm>
          </p:grpSpPr>
          <p:pic>
            <p:nvPicPr>
              <p:cNvPr id="235" name="Ellips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30400" y="1235160"/>
                <a:ext cx="4103640" cy="28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750680" y="1667880"/>
                <a:ext cx="2869200" cy="19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e 2"/>
            <p:cNvGrpSpPr/>
            <p:nvPr/>
          </p:nvGrpSpPr>
          <p:grpSpPr>
            <a:xfrm>
              <a:off x="1695240" y="2068560"/>
              <a:ext cx="1292400" cy="418680"/>
              <a:chOff x="1695240" y="2068560"/>
              <a:chExt cx="1292400" cy="418680"/>
            </a:xfrm>
          </p:grpSpPr>
          <p:pic>
            <p:nvPicPr>
              <p:cNvPr id="238" name="Rectangle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1866960" y="2186640"/>
                <a:ext cx="927360" cy="27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Rectangle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1695240" y="2068560"/>
                <a:ext cx="1292400" cy="41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0" name="Groupe 10"/>
          <p:cNvGrpSpPr/>
          <p:nvPr/>
        </p:nvGrpSpPr>
        <p:grpSpPr>
          <a:xfrm>
            <a:off x="3817800" y="1338120"/>
            <a:ext cx="4104000" cy="2907000"/>
            <a:chOff x="3817800" y="1338120"/>
            <a:chExt cx="4104000" cy="2907000"/>
          </a:xfrm>
        </p:grpSpPr>
        <p:grpSp>
          <p:nvGrpSpPr>
            <p:cNvPr id="241" name="Ellipse 22"/>
            <p:cNvGrpSpPr/>
            <p:nvPr/>
          </p:nvGrpSpPr>
          <p:grpSpPr>
            <a:xfrm>
              <a:off x="3817800" y="1338120"/>
              <a:ext cx="4104000" cy="2907000"/>
              <a:chOff x="3817800" y="1338120"/>
              <a:chExt cx="4104000" cy="2907000"/>
            </a:xfrm>
          </p:grpSpPr>
          <p:pic>
            <p:nvPicPr>
              <p:cNvPr id="242" name="Ellipse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3817800" y="1338120"/>
                <a:ext cx="4104000" cy="29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4437360" y="1779840"/>
                <a:ext cx="2869560" cy="20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e 7"/>
            <p:cNvGrpSpPr/>
            <p:nvPr/>
          </p:nvGrpSpPr>
          <p:grpSpPr>
            <a:xfrm>
              <a:off x="6464880" y="2172240"/>
              <a:ext cx="931680" cy="418320"/>
              <a:chOff x="6464880" y="2172240"/>
              <a:chExt cx="931680" cy="418320"/>
            </a:xfrm>
          </p:grpSpPr>
          <p:pic>
            <p:nvPicPr>
              <p:cNvPr id="245" name="Rectangl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571080" y="2289960"/>
                <a:ext cx="696600" cy="2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Rectangle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6464880" y="2172240"/>
                <a:ext cx="931680" cy="41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7" name="Groupe 15"/>
          <p:cNvGrpSpPr/>
          <p:nvPr/>
        </p:nvGrpSpPr>
        <p:grpSpPr>
          <a:xfrm>
            <a:off x="1092240" y="3032280"/>
            <a:ext cx="3836880" cy="2989080"/>
            <a:chOff x="1092240" y="3032280"/>
            <a:chExt cx="3836880" cy="2989080"/>
          </a:xfrm>
        </p:grpSpPr>
        <p:grpSp>
          <p:nvGrpSpPr>
            <p:cNvPr id="248" name="Ellipse 18"/>
            <p:cNvGrpSpPr/>
            <p:nvPr/>
          </p:nvGrpSpPr>
          <p:grpSpPr>
            <a:xfrm>
              <a:off x="1176480" y="3032280"/>
              <a:ext cx="3752640" cy="2803320"/>
              <a:chOff x="1176480" y="3032280"/>
              <a:chExt cx="3752640" cy="2803320"/>
            </a:xfrm>
          </p:grpSpPr>
          <p:pic>
            <p:nvPicPr>
              <p:cNvPr id="249" name="Ellips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1176480" y="3032280"/>
                <a:ext cx="3752640" cy="280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1744920" y="3462840"/>
                <a:ext cx="2620800" cy="19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e 12"/>
            <p:cNvGrpSpPr/>
            <p:nvPr/>
          </p:nvGrpSpPr>
          <p:grpSpPr>
            <a:xfrm>
              <a:off x="1092240" y="4744800"/>
              <a:ext cx="3422880" cy="1276560"/>
              <a:chOff x="1092240" y="4744800"/>
              <a:chExt cx="3422880" cy="1276560"/>
            </a:xfrm>
          </p:grpSpPr>
          <p:pic>
            <p:nvPicPr>
              <p:cNvPr id="252" name="Rectangle 20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5960" y="4744800"/>
                <a:ext cx="1412640" cy="66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Rectangl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92240" y="4893840"/>
                <a:ext cx="3422880" cy="112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4" name="Groupe 20"/>
          <p:cNvGrpSpPr/>
          <p:nvPr/>
        </p:nvGrpSpPr>
        <p:grpSpPr>
          <a:xfrm>
            <a:off x="4035600" y="3014640"/>
            <a:ext cx="3978000" cy="2816280"/>
            <a:chOff x="4035600" y="3014640"/>
            <a:chExt cx="3978000" cy="2816280"/>
          </a:xfrm>
        </p:grpSpPr>
        <p:grpSp>
          <p:nvGrpSpPr>
            <p:cNvPr id="255" name="Ellipse 14"/>
            <p:cNvGrpSpPr/>
            <p:nvPr/>
          </p:nvGrpSpPr>
          <p:grpSpPr>
            <a:xfrm>
              <a:off x="4035600" y="3014640"/>
              <a:ext cx="3978000" cy="2816280"/>
              <a:chOff x="4035600" y="3014640"/>
              <a:chExt cx="3978000" cy="2816280"/>
            </a:xfrm>
          </p:grpSpPr>
          <p:pic>
            <p:nvPicPr>
              <p:cNvPr id="256" name="Ellips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4035600" y="3014640"/>
                <a:ext cx="3978000" cy="281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4635360" y="3446640"/>
                <a:ext cx="2781720" cy="19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e 17"/>
            <p:cNvGrpSpPr/>
            <p:nvPr/>
          </p:nvGrpSpPr>
          <p:grpSpPr>
            <a:xfrm>
              <a:off x="6214320" y="4347000"/>
              <a:ext cx="1419120" cy="881640"/>
              <a:chOff x="6214320" y="4347000"/>
              <a:chExt cx="1419120" cy="881640"/>
            </a:xfrm>
          </p:grpSpPr>
          <p:pic>
            <p:nvPicPr>
              <p:cNvPr id="259" name="Rectangle 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6214320" y="4779000"/>
                <a:ext cx="1163880" cy="44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Rectangle 17" descr=""/>
              <p:cNvPicPr/>
              <p:nvPr/>
            </p:nvPicPr>
            <p:blipFill>
              <a:blip r:embed="rId14"/>
              <a:stretch/>
            </p:blipFill>
            <p:spPr>
              <a:xfrm>
                <a:off x="6279480" y="4347000"/>
                <a:ext cx="1353960" cy="804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1" name="Groupe 30"/>
          <p:cNvGrpSpPr/>
          <p:nvPr/>
        </p:nvGrpSpPr>
        <p:grpSpPr>
          <a:xfrm>
            <a:off x="2583000" y="2263680"/>
            <a:ext cx="3978000" cy="2818080"/>
            <a:chOff x="2583000" y="2263680"/>
            <a:chExt cx="3978000" cy="2818080"/>
          </a:xfrm>
        </p:grpSpPr>
        <p:grpSp>
          <p:nvGrpSpPr>
            <p:cNvPr id="262" name="Ellipse 8"/>
            <p:cNvGrpSpPr/>
            <p:nvPr/>
          </p:nvGrpSpPr>
          <p:grpSpPr>
            <a:xfrm>
              <a:off x="2583000" y="2263680"/>
              <a:ext cx="3978000" cy="2818080"/>
              <a:chOff x="2583000" y="2263680"/>
              <a:chExt cx="3978000" cy="2818080"/>
            </a:xfrm>
          </p:grpSpPr>
          <p:pic>
            <p:nvPicPr>
              <p:cNvPr id="263" name="Ellipse 8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83000" y="2263680"/>
                <a:ext cx="3978000" cy="28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3181680" y="2696040"/>
                <a:ext cx="2785680" cy="19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e 9"/>
            <p:cNvGrpSpPr/>
            <p:nvPr/>
          </p:nvGrpSpPr>
          <p:grpSpPr>
            <a:xfrm>
              <a:off x="2934720" y="3274200"/>
              <a:ext cx="3208680" cy="728280"/>
              <a:chOff x="2934720" y="3274200"/>
              <a:chExt cx="3208680" cy="728280"/>
            </a:xfrm>
          </p:grpSpPr>
          <p:pic>
            <p:nvPicPr>
              <p:cNvPr id="266" name="Rectangle 12" descr=""/>
              <p:cNvPicPr/>
              <p:nvPr/>
            </p:nvPicPr>
            <p:blipFill>
              <a:blip r:embed="rId16"/>
              <a:stretch/>
            </p:blipFill>
            <p:spPr>
              <a:xfrm>
                <a:off x="3713040" y="3302640"/>
                <a:ext cx="1439280" cy="69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Rectangle 13" descr=""/>
              <p:cNvPicPr/>
              <p:nvPr/>
            </p:nvPicPr>
            <p:blipFill>
              <a:blip r:embed="rId17"/>
              <a:stretch/>
            </p:blipFill>
            <p:spPr>
              <a:xfrm>
                <a:off x="2934720" y="3274200"/>
                <a:ext cx="3208680" cy="72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8" name="Espace réservé du pied de page 3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Espace réservé de la date 32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1" name="Espace réservé du contenu 2"/>
          <p:cNvSpPr/>
          <p:nvPr/>
        </p:nvSpPr>
        <p:spPr>
          <a:xfrm>
            <a:off x="755640" y="1916280"/>
            <a:ext cx="806436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sa mission</a:t>
            </a:r>
            <a:r>
              <a:rPr b="0" lang="fr-FR" sz="2400" spc="-1" strike="noStrike">
                <a:solidFill>
                  <a:srgbClr val="c80064"/>
                </a:solidFill>
                <a:latin typeface="Calibri"/>
              </a:rPr>
              <a:t> :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ssurer un soutien pédagogique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uprès des professeurs d'économie-gestio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ycée profession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utils et ressource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périmentation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eille informationn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ormation des enseign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compagnement des réno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Espace réservé de la date 6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"/>
          <p:cNvSpPr/>
          <p:nvPr/>
        </p:nvSpPr>
        <p:spPr>
          <a:xfrm>
            <a:off x="755640" y="1484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80064"/>
                </a:solidFill>
                <a:latin typeface="Arial"/>
              </a:rPr>
              <a:t>www.cerpeg.ac-versailles.f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755640" y="2736720"/>
            <a:ext cx="7416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se en ligne régulière de ressources sur le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nonce des publications sur la liste L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fonte du site Internet dans les prochaines sem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e 1"/>
          <p:cNvGrpSpPr/>
          <p:nvPr/>
        </p:nvGrpSpPr>
        <p:grpSpPr>
          <a:xfrm>
            <a:off x="1784520" y="1628640"/>
            <a:ext cx="5667120" cy="3888000"/>
            <a:chOff x="1784520" y="1628640"/>
            <a:chExt cx="5667120" cy="3888000"/>
          </a:xfrm>
        </p:grpSpPr>
        <p:grpSp>
          <p:nvGrpSpPr>
            <p:cNvPr id="281" name="Groupe 5"/>
            <p:cNvGrpSpPr/>
            <p:nvPr/>
          </p:nvGrpSpPr>
          <p:grpSpPr>
            <a:xfrm>
              <a:off x="1815840" y="1628640"/>
              <a:ext cx="3360240" cy="2309400"/>
              <a:chOff x="1815840" y="1628640"/>
              <a:chExt cx="3360240" cy="2309400"/>
            </a:xfrm>
          </p:grpSpPr>
          <p:grpSp>
            <p:nvGrpSpPr>
              <p:cNvPr id="282" name="Ellipse 26"/>
              <p:cNvGrpSpPr/>
              <p:nvPr/>
            </p:nvGrpSpPr>
            <p:grpSpPr>
              <a:xfrm>
                <a:off x="1815840" y="1628640"/>
                <a:ext cx="3360240" cy="2309400"/>
                <a:chOff x="1815840" y="1628640"/>
                <a:chExt cx="3360240" cy="2309400"/>
              </a:xfrm>
            </p:grpSpPr>
            <p:pic>
              <p:nvPicPr>
                <p:cNvPr id="283" name="Ellips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15840" y="1628640"/>
                  <a:ext cx="3360240" cy="230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>
                  <a:off x="2324880" y="1984680"/>
                  <a:ext cx="2347920" cy="16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e 2"/>
              <p:cNvGrpSpPr/>
              <p:nvPr/>
            </p:nvGrpSpPr>
            <p:grpSpPr>
              <a:xfrm>
                <a:off x="2279520" y="2309040"/>
                <a:ext cx="1057680" cy="338760"/>
                <a:chOff x="2279520" y="2309040"/>
                <a:chExt cx="1057680" cy="338760"/>
              </a:xfrm>
            </p:grpSpPr>
            <p:pic>
              <p:nvPicPr>
                <p:cNvPr id="286" name="Rectangle 2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382480" y="2391480"/>
                  <a:ext cx="833040" cy="23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Rectangle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279520" y="2309040"/>
                  <a:ext cx="1057680" cy="338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88" name="Groupe 10"/>
            <p:cNvGrpSpPr/>
            <p:nvPr/>
          </p:nvGrpSpPr>
          <p:grpSpPr>
            <a:xfrm>
              <a:off x="4016160" y="1712160"/>
              <a:ext cx="3360240" cy="2361600"/>
              <a:chOff x="4016160" y="1712160"/>
              <a:chExt cx="3360240" cy="2361600"/>
            </a:xfrm>
          </p:grpSpPr>
          <p:grpSp>
            <p:nvGrpSpPr>
              <p:cNvPr id="289" name="Ellipse 22"/>
              <p:cNvGrpSpPr/>
              <p:nvPr/>
            </p:nvGrpSpPr>
            <p:grpSpPr>
              <a:xfrm>
                <a:off x="4016160" y="1712160"/>
                <a:ext cx="3360240" cy="2361600"/>
                <a:chOff x="4016160" y="1712160"/>
                <a:chExt cx="3360240" cy="2361600"/>
              </a:xfrm>
            </p:grpSpPr>
            <p:pic>
              <p:nvPicPr>
                <p:cNvPr id="290" name="Ellips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16160" y="1712160"/>
                  <a:ext cx="3360240" cy="236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1" name=""/>
                <p:cNvSpPr/>
                <p:nvPr/>
              </p:nvSpPr>
              <p:spPr>
                <a:xfrm>
                  <a:off x="4525200" y="2074680"/>
                  <a:ext cx="234792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Groupe 7"/>
              <p:cNvGrpSpPr/>
              <p:nvPr/>
            </p:nvGrpSpPr>
            <p:grpSpPr>
              <a:xfrm>
                <a:off x="6184080" y="2392200"/>
                <a:ext cx="762480" cy="338400"/>
                <a:chOff x="6184080" y="2392200"/>
                <a:chExt cx="762480" cy="338400"/>
              </a:xfrm>
            </p:grpSpPr>
            <p:pic>
              <p:nvPicPr>
                <p:cNvPr id="293" name="Rectangle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246720" y="2470680"/>
                  <a:ext cx="622800" cy="243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Rectangle 2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184080" y="2392200"/>
                  <a:ext cx="762480" cy="33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95" name="Groupe 15"/>
            <p:cNvGrpSpPr/>
            <p:nvPr/>
          </p:nvGrpSpPr>
          <p:grpSpPr>
            <a:xfrm>
              <a:off x="1784520" y="3088440"/>
              <a:ext cx="3142080" cy="2428200"/>
              <a:chOff x="1784520" y="3088440"/>
              <a:chExt cx="3142080" cy="2428200"/>
            </a:xfrm>
          </p:grpSpPr>
          <p:grpSp>
            <p:nvGrpSpPr>
              <p:cNvPr id="296" name="Ellipse 18"/>
              <p:cNvGrpSpPr/>
              <p:nvPr/>
            </p:nvGrpSpPr>
            <p:grpSpPr>
              <a:xfrm>
                <a:off x="1852920" y="3088440"/>
                <a:ext cx="3073680" cy="2277720"/>
                <a:chOff x="1852920" y="3088440"/>
                <a:chExt cx="3073680" cy="2277720"/>
              </a:xfrm>
            </p:grpSpPr>
            <p:pic>
              <p:nvPicPr>
                <p:cNvPr id="297" name="Ellipse 18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852920" y="3088440"/>
                  <a:ext cx="3073680" cy="2277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8" name=""/>
                <p:cNvSpPr/>
                <p:nvPr/>
              </p:nvSpPr>
              <p:spPr>
                <a:xfrm>
                  <a:off x="2318760" y="3437640"/>
                  <a:ext cx="2145960" cy="15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e 12"/>
              <p:cNvGrpSpPr/>
              <p:nvPr/>
            </p:nvGrpSpPr>
            <p:grpSpPr>
              <a:xfrm>
                <a:off x="1784520" y="4479480"/>
                <a:ext cx="2802600" cy="1037160"/>
                <a:chOff x="1784520" y="4479480"/>
                <a:chExt cx="2802600" cy="1037160"/>
              </a:xfrm>
            </p:grpSpPr>
            <p:pic>
              <p:nvPicPr>
                <p:cNvPr id="300" name="Rectangle 20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273760" y="4479480"/>
                  <a:ext cx="115956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Rectangle 2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784520" y="4598640"/>
                  <a:ext cx="2802600" cy="91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2" name="Groupe 20"/>
            <p:cNvGrpSpPr/>
            <p:nvPr/>
          </p:nvGrpSpPr>
          <p:grpSpPr>
            <a:xfrm>
              <a:off x="4194360" y="3073680"/>
              <a:ext cx="3257280" cy="2289240"/>
              <a:chOff x="4194360" y="3073680"/>
              <a:chExt cx="3257280" cy="2289240"/>
            </a:xfrm>
          </p:grpSpPr>
          <p:grpSp>
            <p:nvGrpSpPr>
              <p:cNvPr id="303" name="Ellipse 14"/>
              <p:cNvGrpSpPr/>
              <p:nvPr/>
            </p:nvGrpSpPr>
            <p:grpSpPr>
              <a:xfrm>
                <a:off x="4194360" y="3073680"/>
                <a:ext cx="3257280" cy="2289240"/>
                <a:chOff x="4194360" y="3073680"/>
                <a:chExt cx="3257280" cy="2289240"/>
              </a:xfrm>
            </p:grpSpPr>
            <p:pic>
              <p:nvPicPr>
                <p:cNvPr id="304" name="Ellipse 14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194360" y="3073680"/>
                  <a:ext cx="3257280" cy="2289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>
                  <a:off x="4689000" y="3426840"/>
                  <a:ext cx="2271240" cy="158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Groupe 17"/>
              <p:cNvGrpSpPr/>
              <p:nvPr/>
            </p:nvGrpSpPr>
            <p:grpSpPr>
              <a:xfrm>
                <a:off x="5978160" y="4156560"/>
                <a:ext cx="1158840" cy="714240"/>
                <a:chOff x="5978160" y="4156560"/>
                <a:chExt cx="1158840" cy="714240"/>
              </a:xfrm>
            </p:grpSpPr>
            <p:pic>
              <p:nvPicPr>
                <p:cNvPr id="307" name="Rectangle 16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978160" y="4510800"/>
                  <a:ext cx="90900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Rectangle 17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023520" y="4156560"/>
                  <a:ext cx="1113480" cy="651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9" name="Groupe 30"/>
            <p:cNvGrpSpPr/>
            <p:nvPr/>
          </p:nvGrpSpPr>
          <p:grpSpPr>
            <a:xfrm>
              <a:off x="3004920" y="2464200"/>
              <a:ext cx="3256560" cy="2288520"/>
              <a:chOff x="3004920" y="2464200"/>
              <a:chExt cx="3256560" cy="2288520"/>
            </a:xfrm>
          </p:grpSpPr>
          <p:grpSp>
            <p:nvGrpSpPr>
              <p:cNvPr id="310" name="Ellipse 8"/>
              <p:cNvGrpSpPr/>
              <p:nvPr/>
            </p:nvGrpSpPr>
            <p:grpSpPr>
              <a:xfrm>
                <a:off x="3004920" y="2464200"/>
                <a:ext cx="3256560" cy="2288520"/>
                <a:chOff x="3004920" y="2464200"/>
                <a:chExt cx="3256560" cy="2288520"/>
              </a:xfrm>
            </p:grpSpPr>
            <p:pic>
              <p:nvPicPr>
                <p:cNvPr id="311" name="Ellipse 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004920" y="2464200"/>
                  <a:ext cx="3256560" cy="2288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"/>
                <p:cNvSpPr/>
                <p:nvPr/>
              </p:nvSpPr>
              <p:spPr>
                <a:xfrm>
                  <a:off x="3499560" y="2817720"/>
                  <a:ext cx="2274480" cy="15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Groupe 9"/>
              <p:cNvGrpSpPr/>
              <p:nvPr/>
            </p:nvGrpSpPr>
            <p:grpSpPr>
              <a:xfrm>
                <a:off x="3297960" y="3285720"/>
                <a:ext cx="2620080" cy="589680"/>
                <a:chOff x="3297960" y="3285720"/>
                <a:chExt cx="2620080" cy="589680"/>
              </a:xfrm>
            </p:grpSpPr>
            <p:pic>
              <p:nvPicPr>
                <p:cNvPr id="314" name="Rectangle 1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891600" y="3285720"/>
                  <a:ext cx="126504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Rectangle 1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297960" y="3285720"/>
                  <a:ext cx="262008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16" name="Espace réservé du pied de page 3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Espace réservé de la date 10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ZoneTexte 11"/>
          <p:cNvSpPr/>
          <p:nvPr/>
        </p:nvSpPr>
        <p:spPr>
          <a:xfrm>
            <a:off x="7377120" y="522936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c80064"/>
                </a:solidFill>
                <a:latin typeface="Calibri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8:14:53Z</dcterms:created>
  <dc:creator>Pat</dc:creator>
  <dc:description/>
  <dc:language>en-US</dc:language>
  <cp:lastModifiedBy>Géraldine FONDEVILLE</cp:lastModifiedBy>
  <dcterms:modified xsi:type="dcterms:W3CDTF">2011-10-12T08:25:11Z</dcterms:modified>
  <cp:revision>8</cp:revision>
  <dc:subject/>
  <dc:title>Présentation PowerPoint</dc:title>
</cp:coreProperties>
</file>