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1C45-E932-48C8-9FE8-CA620FDCC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2142-9D4E-4025-8E9F-FD585742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23E0-CC1D-4DA5-A8A4-30DFD9626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CA36-DE1A-4C93-A648-EDA6BAAE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52E4-AF36-4EBE-9B32-1F13B638D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981F-39E2-4C8E-9470-8C1A5774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1C32-5C4D-405E-8AF8-7998286F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0331-B5A9-448C-B536-75C9ACB7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AE7E-CEBC-4442-B0FA-F70BE863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2941-126C-42DB-826B-0DF16E48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0B30-3EAC-47AE-A70E-10E4C098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F267-7F78-4410-B09E-68E6B9FC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58A1-ED03-44F0-BB61-4C8653CD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9D68-9394-47D5-9CCD-18533AE6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12C1-90E4-4F89-859D-0C9B38EE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673D-3A93-4D55-B815-011CD5BC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EAA7-44D7-42C8-A5D9-64E4C818B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EF657-473A-4A1F-998D-F145F72B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6A25E-C43D-4451-B3CA-6FE5603A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797D1-38CB-44F6-936C-909C98EE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FE725-3D03-48F5-88B6-3146F6D2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9E59C-078A-4836-A1B7-7DF06734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F479-977A-4719-8E40-A43C7712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371EB-A53C-45D1-A982-36D73B4D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99C3D-8323-435F-88C9-025A4FC3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CE69D-12EA-44A2-955A-01AE2333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F1103-86A5-4196-B221-208C604A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1D8B8-2916-4E61-A19A-8F844504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675B7-7ACA-4CF0-BA27-A125F5A0E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18AF4-8558-43CC-B5F4-CFDEE48E6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C71C5-F516-4DB5-B025-FF6C7506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73B2D-7CAC-4597-992D-B764B973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C9800-8C35-4206-A8C0-E2F1CCAC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33B1-D40F-477D-9651-6C833C3F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236F7-FD47-4689-81CB-378A3538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281F4-D9C4-498B-9101-46F9A585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08FB8-7541-4817-ACC9-38CC1867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D7661-E95F-4278-8EA6-5254464F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5410C-C2C0-423F-B848-A88C3812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174F6-743D-473B-8B75-2ADFDCB4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A6379-3DBD-446B-90A7-1398E5C1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BB29C-77D7-47C3-BBBF-C8845A7EC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412F8-83AA-42AD-9760-C7AD1726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AF2A9-737A-47CB-9B6D-65AE1DADB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B2B1-E3B7-40F0-82F0-6AB8A926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2A100-4530-415F-BD11-18D69B9F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65DFE-37E2-4CBC-88C2-5DD68F2A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25DA3-1435-4264-AD3E-E47E0004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D613D-56B6-4C5E-8F3D-84B10F81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10147-D56A-4F99-A4ED-51525DA8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CF98A-3D25-4543-9381-BDF74E8B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BEF8D-0D77-49A9-AFC3-04D7AFB8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0101C-AEEF-4E9A-BECE-A49D055A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746CB-F399-4F34-B697-8872CDB0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1CFD1-2AEA-4991-A12D-517F8FBF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D31C-F28D-43FB-BCCB-B41AD971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692DA-9157-431C-8DC9-AD8DFCEB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85B8C-C68E-4629-9B58-45774B32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7CFC8-F2BE-4846-B8A7-B5BDF39A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C7DCB-5A94-4F0C-A69A-0501233C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CEC01-D49D-4B1E-A8DF-91330266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0E038-4197-4C74-847C-213422A0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7FDB7-F7D7-4F33-90A9-59BDAE4C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630D3-B21E-44E0-A972-BC31B821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F5530-CA81-4A58-80CC-09349108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1A120-7CC9-4710-9341-3DF0CE3A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45D8-D18B-4DB2-867E-9478EA43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88BA8-F50D-43BF-B05C-4D6B4B50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3CC1F-CD2B-4164-B9C7-9489186DC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89565-54A4-483B-A909-AEA40208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204B9-8AE3-40F4-A37D-BDF28C38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D073B-A0C0-4C6C-B6C2-5320DC02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B3CC9-081A-4FE3-9A07-BA76C65F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C9345-0CC1-4E28-9085-8F1FBC76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3B166-2555-478C-A436-8DD3B8B9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08380-C492-4268-855F-F695AA29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6F011-A8B8-4F6A-B14A-2C4E666B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C9C5-926D-48ED-9248-916E3194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21AB6-925A-4F28-B483-9A47AE11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DC59C-0EAD-4476-B8A9-E75D98E0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1E974-A962-403D-AEB7-41E4BC07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609EA-E39E-4315-8854-51DD9B8BE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F2225-B255-4DD5-8CCA-22EABF1F8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E85CF-2761-4A6C-96B6-E40AFEE1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47051-022D-4120-8EB8-811BE7F8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2D57C-49E6-4FDA-8DF4-72B87463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08DB2-1F67-4196-B4F1-0C7C9D81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8A204-6FFE-401B-9932-91B670B9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7278-AB21-4296-8CF2-A7354F2A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1DA97-BB88-4F80-B62B-FEF751E2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D5985-2D93-4317-AF8E-2D9F7035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FEBBE-1C5C-4E93-B666-FD52083E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D7CEF-46AD-454C-98FD-9D97DA3A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4690A-2D43-4B4D-9900-CD051E6B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409C5-3B1E-47E9-839C-6CC3A6B2A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2A57B-0D24-4CA7-8C85-103000E2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D41B-D4CA-4524-81BF-51328CFB13BF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1E9C-952C-421B-925D-27A475EF1DA2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9F89-FF0C-411F-A1D8-968EE7C5E183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360B-4272-46DC-BDC3-C9B0A0FFFAB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B1F1-F325-4F23-A17C-7C1BE4D3B023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A714-F076-442F-84B4-10AD2E4F8E7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0E10-2006-4F13-9E7A-ABC11E5396DF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7F49-5A75-4E2E-877E-35D85C8D8A6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3CC7-08E8-498C-8654-8900F53CF087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39C6-91F1-416A-8DCF-71BE79789AA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6398-4F88-43D8-B8BE-0CB0950CC591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A899-377D-4684-BD8A-1E924336585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4B36-B5B1-4EF0-91D7-452FEF44FA7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4EFA-5B69-431D-9789-0A0ADF6F873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4BF9-ABBD-492A-B90C-B1F657A3343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B075-2FD7-418D-8140-C1899FD59F1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46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47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Épreuve E2 – Gestion administrative des relations avec le pers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0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1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Objectifs de l’épreuv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26920" y="1125360"/>
            <a:ext cx="752184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Quatre classes de situations sont concernées par l’épreuve E2 :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.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1 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courante du personnel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2 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essources humaine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 2.3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émunérations et de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budgets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4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elations sociale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3DB8-3B1D-44D5-9129-89FCF4867F5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ZoneTexte 5"/>
          <p:cNvSpPr/>
          <p:nvPr/>
        </p:nvSpPr>
        <p:spPr>
          <a:xfrm>
            <a:off x="576360" y="4149720"/>
            <a:ext cx="78134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Les compétences du pôle 2 et les critères d’évaluation du pôl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ZoneTexte 11"/>
          <p:cNvSpPr/>
          <p:nvPr/>
        </p:nvSpPr>
        <p:spPr>
          <a:xfrm>
            <a:off x="576360" y="5516640"/>
            <a:ext cx="7812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Maîtrise orthographique et syntax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oneTexte 10"/>
          <p:cNvSpPr/>
          <p:nvPr/>
        </p:nvSpPr>
        <p:spPr>
          <a:xfrm>
            <a:off x="3203640" y="4508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Objectifs de l’épreuv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6920" y="1125360"/>
            <a:ext cx="75218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 candidat doi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traiter des situations professionnelle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relevant de la gestion administrative des relations avec le personnel, dan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les limites de complexité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e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’aléa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apportées par la description des situations professionnelles dans le référentiel de certification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objectif est donc d’évaluer si le candidat est capable de :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e situer et situer sa réflexion et son action dans un processus RH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ppliquer des consignes, des procédures, des textes règlementaires concernant les relations avec le personnel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oduire, renseigner, chiffrer, mettre à jour et contrôler des documents et des formulaire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vérifier la qualité orthographique et syntaxique des documents traité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624F-A8DA-4E0D-B808-D229F6FC7CC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E2 - Gestion administrative des relations avec le personnel – Coefficient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08000" y="1413000"/>
          <a:ext cx="8929800" cy="4581360"/>
        </p:xfrm>
        <a:graphic>
          <a:graphicData uri="http://schemas.openxmlformats.org/drawingml/2006/table">
            <a:tbl>
              <a:tblPr/>
              <a:tblGrid>
                <a:gridCol w="1728720"/>
                <a:gridCol w="2158920"/>
                <a:gridCol w="1513080"/>
                <a:gridCol w="1871640"/>
                <a:gridCol w="1657440"/>
              </a:tblGrid>
              <a:tr h="459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Candida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4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ublic ou privé sous contra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section d'apprentissage habilité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ublic ou privé sous contra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section d'apprentissage habilité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rivé hors contrat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une section d'apprentissage non habilité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rivé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andidat justifiant de 3 années d’activité professionnell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nseignement à d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 habil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280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28008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onctuel écr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on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C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</a:tbl>
          </a:graphicData>
        </a:graphic>
      </p:graphicFrame>
      <p:sp>
        <p:nvSpPr>
          <p:cNvPr id="36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6001-E125-4E42-8FD5-4C340D41FAB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Épreuve Ponctuelle : Étude de cas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900000" y="1483920"/>
            <a:ext cx="75218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lusieurs dossier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indépendant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et contextualisés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dossier traite d’une ou plusieurs «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situations-problème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» empruntées à la réalité professionnelle et inscrite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54400" indent="-144000" algn="just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ans le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cadre juridique et règlementaire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 propre à la gestion administrative des relations avec le personnel.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54400" indent="-144000" algn="just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ans le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respect des processus internes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, des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procédures et des consignes 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latives aux activités de gestion administrative des relations avec le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s situations font apparaître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es niveaux de complexité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e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’aléa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els qu’ils sont décrits dans le référentiel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épreuve prend appui sur de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ocuments et ressources documentaires décrivant les situations de travail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à traiter et nécessaires à la résolution du cas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F5A8-AE19-495B-A17D-CD6E6CD9F87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Épreuve Ponctuelle : Étude de cas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26920" y="13413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épreuve ne nécessite pas, pendant son déroulement, de mettre un poste de travail informatique à la disposition du candidat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a correction est assurée par un professeur ayant en charge des enseignements professionnels dans le baccalauréat professionnel Gestion-Administration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32AE-2EAE-42E3-963E-5DFB4EDEB81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Forme CCF: 4 situations écrit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55280" y="1196640"/>
            <a:ext cx="75214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1ère situation d’évaluation E2A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1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2ème situation d’évaluation E2B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2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3ème situation d’évaluation E2C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3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4ème situation d’évaluation E2D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4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situation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1 heure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oefficient 1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situation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étude de ca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oposition de note au jury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2E5D-5D03-4CE7-B2DF-ECEA1D700F7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Connecteur droit avec flèche 10"/>
          <p:cNvCxnSpPr/>
          <p:nvPr/>
        </p:nvCxnSpPr>
        <p:spPr>
          <a:xfrm>
            <a:off x="5111280" y="1412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0" name="Connecteur droit avec flèche 12"/>
          <p:cNvCxnSpPr/>
          <p:nvPr/>
        </p:nvCxnSpPr>
        <p:spPr>
          <a:xfrm>
            <a:off x="5111280" y="184428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1" name="Connecteur droit avec flèche 13"/>
          <p:cNvCxnSpPr/>
          <p:nvPr/>
        </p:nvCxnSpPr>
        <p:spPr>
          <a:xfrm>
            <a:off x="5111280" y="2204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2" name="Connecteur droit avec flèche 14"/>
          <p:cNvCxnSpPr/>
          <p:nvPr/>
        </p:nvCxnSpPr>
        <p:spPr>
          <a:xfrm>
            <a:off x="5111280" y="2636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sp>
        <p:nvSpPr>
          <p:cNvPr id="383" name="Flèche vers le bas 15"/>
          <p:cNvSpPr/>
          <p:nvPr/>
        </p:nvSpPr>
        <p:spPr>
          <a:xfrm>
            <a:off x="4211640" y="4508640"/>
            <a:ext cx="289080" cy="649080"/>
          </a:xfrm>
          <a:prstGeom prst="downArrow">
            <a:avLst>
              <a:gd name="adj1" fmla="val 50000"/>
              <a:gd name="adj2" fmla="val 49959"/>
            </a:avLst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 N. SEV</cp:lastModifiedBy>
  <dcterms:modified xsi:type="dcterms:W3CDTF">2011-10-11T16:18:04Z</dcterms:modified>
  <cp:revision>60</cp:revision>
  <dc:subject/>
  <dc:title>Baccalauréat professionnel Gestion -- Administration</dc:title>
</cp:coreProperties>
</file>