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move the slide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F2814-D684-4FEA-911F-586BF16769B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A69DA-3DDF-476D-A21C-79B2966F6827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30D8E-230D-4407-9B67-DBF58953D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2836A-8FD9-4286-8D22-95FF9DE0A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12B91-B768-4224-A0BB-A0501AA11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EFE62-F3C7-4E80-8FBB-7FAE5FF37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319E0-5B75-45BF-BA49-4A7A6789F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EE616-9B60-493A-83A1-AE0755782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27410-8B0A-443E-9FE5-286CA4B99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0E2D7-081F-4382-9A8B-D281001F4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13CD2-E8D9-4B68-8A5E-DC2E9B9F7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8EED5-D757-4020-B3F7-002BBA869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04E75-4527-497D-8A67-B178708B9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348FD-369B-43B6-8F06-A73F0E3A6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A33DA-7075-463D-8C79-DAED96BE6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9B84D-E6A4-42EF-93A9-A4A567F4D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9EC43-5AC6-4516-BC0F-35586485C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636A1-66DA-4742-8895-37BF861AA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8888B-5256-4472-92AD-4EEA88E6A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32DD77-BC4A-49B8-B75F-0F1AB8891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678657-2CDD-4021-8A93-53067C298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DDBDEC-F957-434F-B3E3-7C1C9C830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B579ED-F46A-41BB-94E6-0DFB49502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F6E609-F20C-4782-ACDB-7ACF86B93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3B8EF-E7E8-4A7B-81BC-37986CA46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77254D-20A4-48A4-A267-6A4B62F5D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849C44-A0A4-4DFF-A13B-EC76E348C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926058-B3C9-4C8A-A0C1-BEDDF35DA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5F81D5-61C0-4A2F-A559-7396831F1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8DFB9A-4ACE-4673-A5D0-A5D6779F6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638934-C579-4F52-95C4-53F485BF7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DB3BF7-D789-45C9-A046-E4BAA0B72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110D14-9FAA-403F-8DEB-6D481FBA1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FD6374-1903-45E6-AFEF-22BF89240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7968F6-36E9-440A-9CA0-B285805E2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71373-5FB8-48A5-960F-22DE64237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3465E7-D520-4354-955A-BDA2403FD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AB416B-127A-4C7E-B474-E74BC9BE3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75F156-7D31-4273-B482-A496AB7BC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1B7428-27D6-42BF-A81F-AA622E0D0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EB64DE-F41C-45C5-A09C-42F00A52E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659123-2E75-440A-8B02-5A5B7DB0C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38E19B-65DF-4F4C-91B1-43CA159EC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662DF1-3F56-4A72-B4D4-573839C2F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B47FE7-2E17-4526-A6C4-B53075508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081686-0B05-4EDA-A681-218AF5142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992A8-F852-4EE2-AA9B-768BC8A0F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04B172-E4BE-4FF1-A4E0-986ED5727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240EFD-4685-4215-B900-81CE14F35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6CF5B9-5FB3-40F3-9256-E055DE288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F799D7-4156-44D6-99DA-1C854DB5C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FDD3C0-0D60-41C5-BDDE-7541B2A31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612837-AA6F-47DE-8D80-3B575FCFC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BB6558-2400-4CB6-BA6E-C2B62A877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CA81CE-2A62-4528-8828-3AF79248B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C373B4-6EBC-4ECB-A6A7-2EEBB15DD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44C284-869B-425C-91D6-BDD1A6F58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34D1F-6032-48D7-B9C5-E3AF4D645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6AB77C-E0EE-457C-8668-F7A28769D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C4310C-EB4A-4A87-91AF-7A45EA33F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2EAA0E-A562-4C3B-BD24-2393D6C4D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281044-DC07-4311-86A3-A6117EEEF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F836B7-CFBB-4B7F-BF4D-E3ECA5AEF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374F27-215E-425A-9CBA-FC9FB9ECC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76EB76-62C1-463F-AB43-FE651A276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6033BC-823F-49D1-8E55-C63551DB4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37559E-B4D0-40EF-9804-FC065FB12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664EB7-E4FD-4DBA-9C65-07C675EF6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53497-0FF3-47EB-BF12-97B7D4D84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F13068-A197-40DE-8213-539C50A2E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3B7F8E-7210-46E0-A83C-6914B6D87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50C20C-158B-40B4-BF9B-F2D06FC8C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F3A0E2-2EA7-4CB5-88DC-98460B8CC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84FB1D-E98F-4BAB-B266-039AF7CB8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044B73-5A07-498E-8ACA-8CA7F2B04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EE6C19-CBED-4286-BF48-9B4DD97CB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8EB71E-21C1-4E1F-A7A0-4852E5F91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7561AF-1696-48FF-B8C5-B9F7A49B9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42BBA8-0C74-4BC0-B520-B269A30FE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85C34-45B1-4EAC-8669-AF249D221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945BA4-0CFF-4FE3-AABD-6D42D9C02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4C2F14-2DC8-4121-8A61-A83DF7CC5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7F31E5-4D0A-40DA-B25D-9B488AB07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A78442-3CF9-41E6-A9E5-692D55DBA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F1F585-0F8C-465B-9C24-29B327D2C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0DFF71-F651-4CB6-91EE-2243CDC52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552540-9635-4651-AF77-F8F545672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A9132C-0BCE-4D9A-8EAF-C393D44B1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2AE890-D0DF-4FD5-806B-526C1D396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9C55B9-1D2E-4318-83E3-56F6696D8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0C5FC-87D9-4B83-B763-2C592F298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658FAD-5FEC-4D03-B55D-68A648069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BB8926-C0C6-45A1-808F-771443635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B000C3-B1E6-4A33-9E48-DC0265A8F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84120C-ADB2-4861-B3BA-3137CD67C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B25826-F6B0-492D-BC66-68E3C2B1E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BA9BC2-FDD6-4D4F-B4EC-E7281DED9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BD9EDE-F782-4CD8-B0BC-B0DDB3000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0C73F-4FCF-4F1B-A49D-757028481ED2}" type="datetime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Times New Roman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525160" y="6275880"/>
            <a:ext cx="323280" cy="3564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1A215-F68D-4673-A372-5A0E460DF177}" type="slidenum">
              <a:rPr b="0" lang="fr-F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ight Triangle 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b6c5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" name="Freeform 7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dae2eb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 rot="19048200">
            <a:off x="509040" y="5835240"/>
            <a:ext cx="1616040" cy="2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49BB9-6D4B-4691-BDFC-320427A025E6}" type="datetime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600" spc="-1" strike="noStrike">
                <a:solidFill>
                  <a:srgbClr val="28374a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8374a"/>
                </a:solidFill>
                <a:latin typeface="Times New Roman"/>
                <a:ea typeface="Calibri"/>
              </a:rPr>
              <a:t>PNP - Poitiers - 13 &amp; 14 octobre 20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525160" y="6275880"/>
            <a:ext cx="323280" cy="35640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B64FA-907B-404D-9C89-EF6F12304BE0}" type="slidenum">
              <a:rPr b="0" lang="fr-FR" sz="1600" spc="-1" strike="noStrike">
                <a:solidFill>
                  <a:srgbClr val="28374a"/>
                </a:solidFill>
                <a:latin typeface="Times New Roman"/>
              </a:rPr>
              <a:t>&lt;number&gt;</a:t>
            </a:fld>
            <a:r>
              <a:rPr b="0" lang="fr-FR" sz="1600" spc="-1" strike="noStrike">
                <a:solidFill>
                  <a:srgbClr val="28374a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7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CA9C7-17EE-471D-8308-EE5A89EFCFE8}" type="datetime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Times New Roman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464680" y="6483600"/>
            <a:ext cx="309960" cy="24696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12481-C253-4E92-B06D-28E1482ED2E3}" type="slidenum">
              <a:rPr b="0" lang="fr-FR" sz="1600" spc="-1" strike="noStrike">
                <a:solidFill>
                  <a:srgbClr val="28374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0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93399-4D32-4AB8-90B8-96C4624B9BEB}" type="datetime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Times New Roman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8464680" y="6456600"/>
            <a:ext cx="309960" cy="26928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2A1B7-A289-4630-8D27-AD2798C97A9C}" type="slidenum">
              <a:rPr b="0" lang="fr-FR" sz="1600" spc="-1" strike="noStrike">
                <a:solidFill>
                  <a:srgbClr val="28374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3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D776E-4165-42EE-9F70-C30154EEC13B}" type="datetime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Times New Roman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464680" y="6456600"/>
            <a:ext cx="309960" cy="26928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0ECEC-2611-4B96-B670-A88A52D243D9}" type="slidenum">
              <a:rPr b="0" lang="fr-FR" sz="1600" spc="-1" strike="noStrike">
                <a:solidFill>
                  <a:srgbClr val="28374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6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BDF69-DBA8-4464-BFAB-737D8C046BA2}" type="datetime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Times New Roman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8541000" y="6483600"/>
            <a:ext cx="309960" cy="24696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BC85E-4A3B-4FEE-80D7-E2EC9AE4A59F}" type="slidenum">
              <a:rPr b="0" lang="fr-FR" sz="1600" spc="-1" strike="noStrike">
                <a:solidFill>
                  <a:srgbClr val="28374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9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B31B9-ACA6-41A2-82BE-BE51346B26AD}" type="datetime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Times New Roman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529840" y="6456600"/>
            <a:ext cx="255960" cy="26928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7EE87-801E-4E50-B1A7-73EF6FBC9CA8}" type="slidenum">
              <a:rPr b="0" lang="fr-FR" sz="1600" spc="-1" strike="noStrike">
                <a:solidFill>
                  <a:srgbClr val="28374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ight Triangle 1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2" name="Right Triangle 17"/>
          <p:cNvSpPr/>
          <p:nvPr/>
        </p:nvSpPr>
        <p:spPr>
          <a:xfrm rot="5400000">
            <a:off x="433440" y="-433440"/>
            <a:ext cx="6858000" cy="7724880"/>
          </a:xfrm>
          <a:prstGeom prst="rtTriangle">
            <a:avLst/>
          </a:pr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22"/>
          </p:nvPr>
        </p:nvSpPr>
        <p:spPr>
          <a:xfrm rot="19183200">
            <a:off x="609480" y="5890680"/>
            <a:ext cx="1379520" cy="2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24F0E-D1F4-4DC2-9A8D-97C6FAF8D1BD}" type="datetime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23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4343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434342"/>
                </a:solidFill>
                <a:latin typeface="Times New Roman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24"/>
          </p:nvPr>
        </p:nvSpPr>
        <p:spPr>
          <a:xfrm>
            <a:off x="8474400" y="6275880"/>
            <a:ext cx="356400" cy="35640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3E67E-A0F9-4CAF-BED7-950FF82DC9FF}" type="slidenum">
              <a:rPr b="0" lang="fr-FR" sz="1600" spc="-1" strike="noStrike">
                <a:solidFill>
                  <a:srgbClr val="28374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 rot="19107000">
            <a:off x="801360" y="1817280"/>
            <a:ext cx="6294240" cy="120348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Franklin Gothic Medium"/>
              </a:rPr>
              <a:t>Baccalauréat professionnel</a:t>
            </a:r>
            <a:br>
              <a:rPr sz="3600"/>
            </a:br>
            <a:r>
              <a:rPr b="0" lang="fr-FR" sz="4000" spc="-1" strike="noStrike">
                <a:solidFill>
                  <a:srgbClr val="c00000"/>
                </a:solidFill>
                <a:latin typeface="Franklin Gothic Medium"/>
              </a:rPr>
              <a:t>Gestion -- Administration</a:t>
            </a: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 rot="19126800">
            <a:off x="1645560" y="3153960"/>
            <a:ext cx="5708520" cy="398520"/>
          </a:xfrm>
          <a:prstGeom prst="rect">
            <a:avLst/>
          </a:prstGeom>
          <a:noFill/>
          <a:ln w="0">
            <a:noFill/>
          </a:ln>
        </p:spPr>
        <p:txBody>
          <a:bodyPr tIns="90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8374a"/>
                </a:solidFill>
                <a:latin typeface="Franklin Gothic Book"/>
                <a:ea typeface="Tunga"/>
              </a:rPr>
              <a:t>PROGRAMME NATIONAL DE PILOTAGE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pic>
        <p:nvPicPr>
          <p:cNvPr id="353" name="Picture 2" descr="E:\Mes docs\DD_Paris\AL\2010_2011\BTS_SIO\MENJVA_LOGO_Q.gif"/>
          <p:cNvPicPr/>
          <p:nvPr/>
        </p:nvPicPr>
        <p:blipFill>
          <a:blip r:embed="rId1"/>
          <a:stretch/>
        </p:blipFill>
        <p:spPr>
          <a:xfrm>
            <a:off x="108000" y="333360"/>
            <a:ext cx="2143080" cy="1981080"/>
          </a:xfrm>
          <a:prstGeom prst="rect">
            <a:avLst/>
          </a:prstGeom>
          <a:ln w="0">
            <a:noFill/>
          </a:ln>
        </p:spPr>
      </p:pic>
      <p:sp>
        <p:nvSpPr>
          <p:cNvPr id="354" name="Sous-titre 2"/>
          <p:cNvSpPr/>
          <p:nvPr/>
        </p:nvSpPr>
        <p:spPr>
          <a:xfrm>
            <a:off x="4140360" y="6265800"/>
            <a:ext cx="436860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Calibri"/>
                <a:ea typeface="Calibri"/>
              </a:rPr>
              <a:t>Poitiers – 13 &amp; 14 octobre 2011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 rot="19107000">
            <a:off x="801360" y="1817280"/>
            <a:ext cx="6294240" cy="120348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Franklin Gothic Medium"/>
              </a:rPr>
              <a:t>Pôle 1 – Gestion administrative des relations externes</a:t>
            </a: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subTitle"/>
          </p:nvPr>
        </p:nvSpPr>
        <p:spPr>
          <a:xfrm rot="19126800">
            <a:off x="1645560" y="3153960"/>
            <a:ext cx="5708520" cy="398520"/>
          </a:xfrm>
          <a:prstGeom prst="rect">
            <a:avLst/>
          </a:prstGeom>
          <a:noFill/>
          <a:ln w="0">
            <a:noFill/>
          </a:ln>
        </p:spPr>
        <p:txBody>
          <a:bodyPr tIns="90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8374a"/>
                </a:solidFill>
                <a:latin typeface="Franklin Gothic Book"/>
                <a:ea typeface="Tunga"/>
              </a:rPr>
              <a:t>PROGRAMME NATIONAL DE PILOTAGE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pic>
        <p:nvPicPr>
          <p:cNvPr id="357" name="Picture 2" descr="E:\Mes docs\DD_Paris\AL\2010_2011\BTS_SIO\MENJVA_LOGO_Q.gif"/>
          <p:cNvPicPr/>
          <p:nvPr/>
        </p:nvPicPr>
        <p:blipFill>
          <a:blip r:embed="rId1"/>
          <a:stretch/>
        </p:blipFill>
        <p:spPr>
          <a:xfrm>
            <a:off x="108000" y="333360"/>
            <a:ext cx="2143080" cy="1981080"/>
          </a:xfrm>
          <a:prstGeom prst="rect">
            <a:avLst/>
          </a:prstGeom>
          <a:ln w="0">
            <a:noFill/>
          </a:ln>
        </p:spPr>
      </p:pic>
      <p:sp>
        <p:nvSpPr>
          <p:cNvPr id="358" name="Sous-titre 2"/>
          <p:cNvSpPr/>
          <p:nvPr/>
        </p:nvSpPr>
        <p:spPr>
          <a:xfrm>
            <a:off x="4140360" y="6265800"/>
            <a:ext cx="436860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Calibri"/>
                <a:ea typeface="Calibri"/>
              </a:rPr>
              <a:t>Poitiers – 13 &amp; 14 octobre 2011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755280" y="549360"/>
            <a:ext cx="752148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28374a"/>
                </a:solidFill>
                <a:latin typeface="Franklin Gothic Book"/>
              </a:rPr>
              <a:t>Le gestionnaire administratif facilite les </a:t>
            </a:r>
            <a:r>
              <a:rPr b="0" lang="fr-FR" sz="1900" spc="-1" strike="noStrike">
                <a:solidFill>
                  <a:srgbClr val="ff0000"/>
                </a:solidFill>
                <a:latin typeface="Franklin Gothic Book"/>
              </a:rPr>
              <a:t>relations externes de l’organisation.</a:t>
            </a:r>
            <a:r>
              <a:rPr b="0" lang="fr-FR" sz="1900" spc="-1" strike="noStrike">
                <a:solidFill>
                  <a:srgbClr val="28374a"/>
                </a:solidFill>
                <a:latin typeface="Franklin Gothic Book"/>
              </a:rPr>
              <a:t> </a:t>
            </a:r>
            <a:endParaRPr b="1" lang="en-US" sz="19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28374a"/>
                </a:solidFill>
                <a:latin typeface="Franklin Gothic Book"/>
              </a:rPr>
              <a:t>Il assure de manière fiable la gestion administrative des relations avec les </a:t>
            </a:r>
            <a:r>
              <a:rPr b="0" lang="fr-FR" sz="1900" spc="-1" strike="noStrike">
                <a:solidFill>
                  <a:srgbClr val="ff0000"/>
                </a:solidFill>
                <a:latin typeface="Franklin Gothic Book"/>
              </a:rPr>
              <a:t>fournisseurs</a:t>
            </a:r>
            <a:r>
              <a:rPr b="0" lang="fr-FR" sz="1900" spc="-1" strike="noStrike">
                <a:solidFill>
                  <a:srgbClr val="28374a"/>
                </a:solidFill>
                <a:latin typeface="Franklin Gothic Book"/>
              </a:rPr>
              <a:t> (prestataires compris) et les sous-traitants dans le cadre du processus achats. </a:t>
            </a:r>
            <a:endParaRPr b="1" lang="en-US" sz="19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28374a"/>
                </a:solidFill>
                <a:latin typeface="Franklin Gothic Book"/>
              </a:rPr>
              <a:t>Il veille au bon déroulement des relations administratives avec les prospects, les </a:t>
            </a:r>
            <a:r>
              <a:rPr b="0" lang="fr-FR" sz="1900" spc="-1" strike="noStrike">
                <a:solidFill>
                  <a:srgbClr val="ff0000"/>
                </a:solidFill>
                <a:latin typeface="Franklin Gothic Book"/>
              </a:rPr>
              <a:t>clients</a:t>
            </a:r>
            <a:r>
              <a:rPr b="0" lang="fr-FR" sz="1900" spc="-1" strike="noStrike">
                <a:solidFill>
                  <a:srgbClr val="28374a"/>
                </a:solidFill>
                <a:latin typeface="Franklin Gothic Book"/>
              </a:rPr>
              <a:t>, les donneurs d’ordre dans le cadre des processus de vente de biens et de services marchands, mais aussi de mise à disposition de biens et de services non marchands.</a:t>
            </a:r>
            <a:endParaRPr b="1" lang="en-US" sz="19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28374a"/>
                </a:solidFill>
                <a:latin typeface="Franklin Gothic Book"/>
              </a:rPr>
              <a:t> </a:t>
            </a:r>
            <a:r>
              <a:rPr b="0" lang="fr-FR" sz="1900" spc="-1" strike="noStrike">
                <a:solidFill>
                  <a:srgbClr val="28374a"/>
                </a:solidFill>
                <a:latin typeface="Franklin Gothic Book"/>
              </a:rPr>
              <a:t>Par la prise en charge des activités de gestion administrative, il participe à la consolidation des relations avec les </a:t>
            </a:r>
            <a:r>
              <a:rPr b="0" lang="fr-FR" sz="1900" spc="-1" strike="noStrike">
                <a:solidFill>
                  <a:srgbClr val="ff0000"/>
                </a:solidFill>
                <a:latin typeface="Franklin Gothic Book"/>
              </a:rPr>
              <a:t>banques</a:t>
            </a:r>
            <a:r>
              <a:rPr b="0" lang="fr-FR" sz="1900" spc="-1" strike="noStrike">
                <a:solidFill>
                  <a:srgbClr val="28374a"/>
                </a:solidFill>
                <a:latin typeface="Franklin Gothic Book"/>
              </a:rPr>
              <a:t>, les </a:t>
            </a:r>
            <a:r>
              <a:rPr b="0" lang="fr-FR" sz="1900" spc="-1" strike="noStrike">
                <a:solidFill>
                  <a:srgbClr val="ff0000"/>
                </a:solidFill>
                <a:latin typeface="Franklin Gothic Book"/>
              </a:rPr>
              <a:t>administrations</a:t>
            </a:r>
            <a:r>
              <a:rPr b="0" lang="fr-FR" sz="1900" spc="-1" strike="noStrike">
                <a:solidFill>
                  <a:srgbClr val="28374a"/>
                </a:solidFill>
                <a:latin typeface="Franklin Gothic Book"/>
              </a:rPr>
              <a:t> et les </a:t>
            </a:r>
            <a:r>
              <a:rPr b="0" lang="fr-FR" sz="1900" spc="-1" strike="noStrike">
                <a:solidFill>
                  <a:srgbClr val="ff0000"/>
                </a:solidFill>
                <a:latin typeface="Franklin Gothic Book"/>
              </a:rPr>
              <a:t>partenaires-métiers</a:t>
            </a:r>
            <a:r>
              <a:rPr b="0" lang="fr-FR" sz="1900" spc="-1" strike="noStrike">
                <a:solidFill>
                  <a:srgbClr val="28374a"/>
                </a:solidFill>
                <a:latin typeface="Franklin Gothic Book"/>
              </a:rPr>
              <a:t>.</a:t>
            </a:r>
            <a:endParaRPr b="1" lang="en-US" sz="19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60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1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F2495-6885-4A59-99EB-F078B79F9EAA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1.1. Gestion administrative des relations avec les fournisseurs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822240" y="1100160"/>
            <a:ext cx="7521840" cy="513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2365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236520">
              <a:lnSpc>
                <a:spcPct val="2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Tenue des dossiers fournisseurs et sous-traitants</a:t>
            </a:r>
            <a:endParaRPr b="0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236520">
              <a:lnSpc>
                <a:spcPct val="2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Traitement des ordres d’achat, des commandes </a:t>
            </a:r>
            <a:endParaRPr b="0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236520">
              <a:lnSpc>
                <a:spcPct val="2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Traitement des livraisons, des factures et suivi des anomalies</a:t>
            </a:r>
            <a:endParaRPr b="0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236520">
              <a:lnSpc>
                <a:spcPct val="2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Évaluation et suivi des stocks</a:t>
            </a:r>
            <a:endParaRPr b="0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236520">
              <a:lnSpc>
                <a:spcPct val="2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Gestion des règlements et traitement des litiges</a:t>
            </a:r>
            <a:endParaRPr b="0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64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5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FEBCD-A6D3-43DB-9726-AF8083FC8FC1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1.2. Gestion administrative des relations avec les clients et les usagers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822240" y="1699920"/>
            <a:ext cx="7521840" cy="30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97440" indent="-162000">
              <a:lnSpc>
                <a:spcPct val="18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28374a"/>
                </a:solidFill>
                <a:latin typeface="Franklin Gothic Book"/>
              </a:rPr>
              <a:t>Participation à la gestion administrative de la prospection</a:t>
            </a:r>
            <a:endParaRPr b="0" lang="en-US" sz="19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97440" indent="-162000">
              <a:lnSpc>
                <a:spcPct val="18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28374a"/>
                </a:solidFill>
                <a:latin typeface="Franklin Gothic Book"/>
              </a:rPr>
              <a:t>Tenue des dossiers clients, donneurs d’ordre et usagers</a:t>
            </a:r>
            <a:endParaRPr b="0" lang="en-US" sz="19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97440" indent="-162000">
              <a:lnSpc>
                <a:spcPct val="18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28374a"/>
                </a:solidFill>
                <a:latin typeface="Franklin Gothic Book"/>
              </a:rPr>
              <a:t>Traitement des devis, des commandes</a:t>
            </a:r>
            <a:endParaRPr b="0" lang="en-US" sz="19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97440" indent="-162000">
              <a:lnSpc>
                <a:spcPct val="18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28374a"/>
                </a:solidFill>
                <a:latin typeface="Franklin Gothic Book"/>
              </a:rPr>
              <a:t>Traitement des livraisons et de la facturation</a:t>
            </a:r>
            <a:endParaRPr b="0" lang="en-US" sz="19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97440" indent="-162000">
              <a:lnSpc>
                <a:spcPct val="18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28374a"/>
                </a:solidFill>
                <a:latin typeface="Franklin Gothic Book"/>
              </a:rPr>
              <a:t>Traitement des règlements et suivi des litiges</a:t>
            </a:r>
            <a:endParaRPr b="0" lang="en-US" sz="1900" spc="-1" strike="noStrike">
              <a:solidFill>
                <a:srgbClr val="28374a"/>
              </a:solidFill>
              <a:latin typeface="Franklin Gothic Book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68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9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5F307-9D67-44EE-A7D3-C915ED756220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1.3. Gestion administrative des relations avec les autres partenaires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401760" indent="-163800">
              <a:lnSpc>
                <a:spcPct val="2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Suivi de la trésorerie et des relations avec les banques</a:t>
            </a:r>
            <a:endParaRPr b="0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401760" indent="-163800">
              <a:lnSpc>
                <a:spcPct val="2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Préparation des déclarations fiscales</a:t>
            </a:r>
            <a:endParaRPr b="0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401760" indent="-163800">
              <a:lnSpc>
                <a:spcPct val="2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Traitement des formalités administratives</a:t>
            </a:r>
            <a:endParaRPr b="0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401760" indent="-163800">
              <a:lnSpc>
                <a:spcPct val="2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Suivi des relations avec les partenaires-métiers</a:t>
            </a:r>
            <a:endParaRPr b="0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72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3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4FFA0-9083-418C-8B94-A3100F6982A1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22240" y="188640"/>
            <a:ext cx="752184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Un exemple de situation du pôle 1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5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6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546D1-14A7-45CC-BD8C-B72A1AD65AEF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graphicFrame>
        <p:nvGraphicFramePr>
          <p:cNvPr id="377" name=""/>
          <p:cNvGraphicFramePr/>
          <p:nvPr/>
        </p:nvGraphicFramePr>
        <p:xfrm>
          <a:off x="684360" y="1125360"/>
          <a:ext cx="7559640" cy="5029200"/>
        </p:xfrm>
        <a:graphic>
          <a:graphicData uri="http://schemas.openxmlformats.org/drawingml/2006/table">
            <a:tbl>
              <a:tblPr/>
              <a:tblGrid>
                <a:gridCol w="2519280"/>
                <a:gridCol w="2520720"/>
                <a:gridCol w="2519640"/>
              </a:tblGrid>
              <a:tr h="152640"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onnées de la situ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voirs associé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erformance attend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1676160">
                <a:tc rowSpan="2"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données comptables et commerciales de l’organisation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dossiers des fournisseurs et des donneurs d’ordr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échéanci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informations émanant des établissements financier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journaux de trésoreri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procédures de règlem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procédures de traitement des litig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exigences, comportementales et relationnelles, fixées par l’entité vis-à-vis de ses fournisseur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Cambria"/>
                        </a:rPr>
                        <a:t>- Un environnement numérique de travail de type PG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 rowSpan="2"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voirs de gestion et savoirs technologiqu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moyens et modes de règlem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contrôles de trésoreri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a conversion des devis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 processus automatisé des règlements aux fournisseurs avec un PG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Électronique des Documents (GED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voirs juridiques et économiqu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es obligations et la responsabilité contractuel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Savoirs rédactionne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- Lecture et écriture d’un genre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Le courrier de réclamation à un fournisseu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- Procédés d’écritu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r>
                        <a:rPr b="1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L’interpellation du fournisseu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0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La présentation de l’obje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0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L’enchaînement des fait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0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L’argument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0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La réfut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0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Le lexique du constat, de la demande, du désaccord, de la preuv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0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Les temps et modes des verbes : le passé composé, le futur de l'indicatif, le conditionne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0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La tournure impersonnelle et passiv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mplexit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Détection et rectification d’anomalies simples dans la tenue des comptes fournisseurs : saisie, imputation, codification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Combinaison de différents modes de règlement : escompte au comptant, échelonnem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Réclamations de fournisseu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Règlements en devis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438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é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Échéances non respecté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Réclamation non fondée d’un fournisseu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Règlement erron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Trésorerie exigeant une demande de rééchelonnement des règlem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152280"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mpét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ritère d’évalu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 rowSpan="2"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ésultats attendus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es règlements aux fournisseurs sont suivis et les litiges sont traités dans la limite des responsabilités imparti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41760" rIns="41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ssurer des règlements à des fournisseu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formité des règlem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78" name="Rectangle 1"/>
          <p:cNvSpPr/>
          <p:nvPr/>
        </p:nvSpPr>
        <p:spPr>
          <a:xfrm>
            <a:off x="376560" y="764280"/>
            <a:ext cx="8390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lasse 1.1. Gestion administrative des relations avec les fournisseurs</a:t>
            </a:r>
            <a:r>
              <a:rPr b="1" lang="fr-FR" sz="1000" spc="-1" strike="noStrike">
                <a:solidFill>
                  <a:srgbClr val="4f81bd"/>
                </a:solidFill>
                <a:latin typeface="Arial"/>
                <a:ea typeface="Times New Roman"/>
              </a:rPr>
              <a:t>	</a:t>
            </a:r>
            <a:r>
              <a:rPr b="1" lang="fr-FR" sz="1200" spc="-1" strike="noStrike">
                <a:solidFill>
                  <a:srgbClr val="3b81bd"/>
                </a:solidFill>
                <a:latin typeface="Arial"/>
                <a:ea typeface="Times New Roman"/>
              </a:rPr>
              <a:t>1.1.5 Gestion des règlements et traitement des litiges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Quelques caractéristiques de ce pôle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826560" y="907920"/>
            <a:ext cx="8137800" cy="513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8374a"/>
                </a:solidFill>
                <a:latin typeface="Franklin Gothic Book"/>
              </a:rPr>
              <a:t>Très étroitement lié au contexte des organisations et aux relations qu’elles entretiennent avec leurs partenaires …</a:t>
            </a: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8374a"/>
                </a:solidFill>
                <a:latin typeface="Franklin Gothic Book"/>
              </a:rPr>
              <a:t>… </a:t>
            </a:r>
            <a:r>
              <a:rPr b="0" lang="fr-FR" sz="2800" spc="-1" strike="noStrike">
                <a:solidFill>
                  <a:srgbClr val="28374a"/>
                </a:solidFill>
                <a:latin typeface="Franklin Gothic Book"/>
              </a:rPr>
              <a:t>et donc aux PFMP</a:t>
            </a: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8374a"/>
                </a:solidFill>
                <a:latin typeface="Franklin Gothic Book"/>
              </a:rPr>
              <a:t>… </a:t>
            </a:r>
            <a:r>
              <a:rPr b="0" lang="fr-FR" sz="2800" spc="-1" strike="noStrike">
                <a:solidFill>
                  <a:srgbClr val="28374a"/>
                </a:solidFill>
                <a:latin typeface="Franklin Gothic Book"/>
              </a:rPr>
              <a:t>avec, très logiquement, une évaluation en CCF</a:t>
            </a: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81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2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8D603-D2CF-44E0-8C6C-BCB448CE2D71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3T12:04:16Z</dcterms:created>
  <dc:creator>Martine Deconinck</dc:creator>
  <dc:description/>
  <dc:language>en-US</dc:language>
  <cp:lastModifiedBy>Edith Simon</cp:lastModifiedBy>
  <dcterms:modified xsi:type="dcterms:W3CDTF">2011-10-25T19:01:29Z</dcterms:modified>
  <cp:revision>16</cp:revision>
  <dc:subject/>
  <dc:title>Baccalauréat professionnel Gestion -- Administration</dc:title>
</cp:coreProperties>
</file>