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05E9-3C4D-46EE-A260-C9BE246F2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8B78-05B6-41E0-8435-095B0C8AC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7FAE-6F38-4B96-9A37-15F79F5A5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D441-F1BC-461C-A39D-019CDA2FE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BF9DD-F8D6-4D2E-9311-AEDA68A7B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06DDC-4355-4CE6-A038-0B42C7BF2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B2443-6151-4123-BD3B-BFA2D687B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670EF-C644-499C-B812-227E3809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E72A6-2243-49E4-8924-B22156B85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75068-DB2A-40C1-A082-5C958A829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4FBEE-8441-46E1-92A5-AC08E505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8E74-199E-46AD-AD2D-B1C33F932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189B2-23CF-4F23-8770-B74989BE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7EB83-5E91-4461-AE71-3226CCA9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24E3E-DB1D-4F23-B535-36877ECD5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4DF33-8DB6-4D4F-9810-11F5DB013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C797E-EE02-4E2C-9925-43AB6DC13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70873-57D5-4637-AB63-7FF10B3A6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4DF7C-3C5F-481F-93B6-0B182C56F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0BD55-3945-48B3-ABC4-69EBD0AB8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3C150-7E3C-4A92-9CAD-AACCEEDD4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69203-E49A-4D09-9CA4-CB657097F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D0E2-5279-43B1-B05D-BDA04F481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A75C9-6ABA-4855-BD98-610582329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8E208-B7E3-4A24-8237-325BA508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D5AE7-B540-4DE5-B8EF-CE5C4B52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081E1-7E3E-4A28-9B23-9DE1984B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55616-35A0-4EA9-9FC2-25A6B6BB8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72119-F8BD-4BA6-8F5C-63B0A8A52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3EE30-52E3-42F9-AB9A-47072115F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92A55-F584-499D-9541-F92DCEA5B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20635-E5D4-4310-A2ED-C45411F58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0AC70-AE4A-4453-B5E5-B6951900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E497-A04F-4EE9-9384-786560FCF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B518F-94CA-440C-B222-235CEF26C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7D6E6-18DD-4A68-8E9B-9680034A2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DE789-B3CD-43CC-8334-EFB73A07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5BC36-3BCD-4AE9-8F6C-C6E4A2C4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39A55-9732-47D2-AFD2-8BFFDB9F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FEAF8-A7DD-418C-BBDD-B40329BB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B3BE1-04E1-4FEB-9920-41949EC5E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FC8C2-1F39-4D5C-ACE7-7F4EE2A9C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8A7EF-365C-4BE5-AF5F-44DAD6CE6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3054E-B907-418C-B6A3-DCF564972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28F5-6EF6-4833-8771-4C42E46B5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9FEED-9F95-40C3-B393-8CE66866A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6A3AE-1B2A-4D06-A577-052F04C67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64114-6114-451F-8744-BA1A4F7F8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91FE2-3AF1-4097-ACE8-B2331759F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4E9A1-711E-4484-82D6-18AF460BB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54C9C-78FD-4D63-B92F-A623A8D0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52C60-C43E-4AFA-B569-3C134499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F5568-8D26-4D50-8EA0-40F3A500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840E6-E467-4D10-94AC-9FDC0272D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6F4EE-7793-4BD2-B4A9-81CAE6711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03AC-BF6F-477B-97CA-C6CF62119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EC0A8-4F2B-4641-B25D-3F1A7DFE0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6DF10-4815-4381-B83A-0400466F2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A1E604-FD02-42C9-A4FA-9D9F04915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08E0D-C6A5-43D6-9867-2E011B500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7F480-C0FD-44B0-AC8C-71B418906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496DE-72E0-4EC6-800B-B67C036E9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6F2D0-9C5C-41EC-9CEA-6BB2AFF3E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97EEE-3DF6-4582-8D6F-0D5DC5B0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B16F7-A466-49BF-9140-A0735723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C301C-3796-4F71-845C-D05DB80A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283F-27C1-488B-953B-8585A424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87FE9-0E94-4A1D-919F-3F3F119A1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835AE-6A96-47C8-814A-E7DE5AD52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7DBA1-F153-46A6-A8FA-977FD3323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752370-0D22-4F54-9A82-518146166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8D579-59C7-42EC-AA10-CA586611F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53C67-D8A6-4827-85FB-FA578F13D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696EB-DB37-49CC-9BEB-89BF2FEE2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3FD3C0-3B0E-4A39-894D-0A2EFE34E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C037E5-B382-4930-B57E-6E16B5E56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7A903-E61C-475B-A6FC-D53A1726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17C3-224C-47B2-9E6E-B9B5DC30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6C6DA-1671-4483-A4F6-5B72C957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02E955-ED39-4A57-8BF4-9A4188B7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4F796C-AC0C-4FF0-BC5E-B040910FA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E1293F-F108-4D51-9412-F7C00A8A6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8DD46-0320-4542-AFD9-2F7551CD0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D7BAAC-A4F3-4FED-B971-50DE2A102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7A6BF-930E-43AD-8211-9977DB4B1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2D40B8-F763-4347-AA4C-0B0E4D079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A70738-874D-4D6D-9AA9-4DA002717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4E781D-1106-497D-92A3-BCD82372E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BCA3-9AA0-4939-AA76-77FF7E63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772ECF-056B-423C-A4B2-DC547BF45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144CC8-E96A-458E-9D8F-0662132D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6586B-093A-4A4F-8330-F3E6DD82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87A96E-1471-47DA-89AD-3B9626BE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D9857-CAB8-4EE0-8F1F-1F6D2C9A8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E6D8B1-136A-4071-B154-58DC1147E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A5A50B-7310-4B5C-82E1-78AE2FD6A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C821-A38C-415A-AF8C-30B5C9340D72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118D0-2B0D-41F1-B999-E74D66093661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FE353-7FE5-4297-AE82-A56867338EAA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3E158-CE75-460C-A033-18D6531BF6A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r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9A3D8-5A13-4823-8A80-E982B9DFB26B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EC75B-A2A3-4364-882E-E8EA14DC320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A824A-0D58-41D9-9757-49769DE4CE3C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607A8-9AEB-43E8-9D29-D165FDB7C75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F7DA7-6210-459E-BC7D-760A77CA9829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EB342-BDC7-46D1-BB46-FA18E37E412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113FD-090A-4A92-8E35-A3DFF09BCACB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B4AC6-5510-4077-8553-667AAA58BEE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5E481-781D-425C-A8D1-8DF99EEF47BF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9A261-88CB-475B-BEE9-C72B67E79C2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C7B0A-BC54-459B-837C-AE93DDFFCC9D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B5D7A-C53F-404D-896A-E4239E19CA7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Baccalauréat professionnel</a:t>
            </a:r>
            <a:br>
              <a:rPr sz="3600"/>
            </a:br>
            <a:r>
              <a:rPr b="0" lang="fr-FR" sz="4000" spc="-1" strike="noStrike">
                <a:solidFill>
                  <a:srgbClr val="c00000"/>
                </a:solidFill>
                <a:latin typeface="Franklin Gothic Medium"/>
              </a:rPr>
              <a:t>Gestion -- Administration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46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47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Épreuve E2 – Gestion administrative des relations avec le personnel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0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1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Objectifs de l’épreuv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826920" y="1125360"/>
            <a:ext cx="752184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Quatre classes de situations sont concernées par l’épreuve E2 :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.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.1 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Gestion administrative courante du personnel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.2 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Gestion administrative des ressources humaines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 2.3 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Gestion administrative des rémunérations et des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budgets 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.4 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Gestion administrative des relations sociales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7DF97-E385-40C3-8DC1-83C32A2E93C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ZoneTexte 5"/>
          <p:cNvSpPr/>
          <p:nvPr/>
        </p:nvSpPr>
        <p:spPr>
          <a:xfrm>
            <a:off x="576360" y="4149720"/>
            <a:ext cx="781344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Franklin Gothic Book"/>
              </a:rPr>
              <a:t>Les compétences du pôle 2 et les critères d’évaluation du pôl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ZoneTexte 11"/>
          <p:cNvSpPr/>
          <p:nvPr/>
        </p:nvSpPr>
        <p:spPr>
          <a:xfrm>
            <a:off x="576360" y="5516640"/>
            <a:ext cx="78120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Franklin Gothic Book"/>
              </a:rPr>
              <a:t>Maîtrise orthographique et syntax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ZoneTexte 10"/>
          <p:cNvSpPr/>
          <p:nvPr/>
        </p:nvSpPr>
        <p:spPr>
          <a:xfrm>
            <a:off x="3203640" y="450864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Objectifs de l’épreuv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826920" y="1125360"/>
            <a:ext cx="75218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e candidat doit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traiter des situations professionnelles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relevant de la gestion administrative des relations avec le personnel, dans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les limites de complexité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 et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d’aléas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 apportées par la description des situations professionnelles dans le référentiel de certification.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’objectif est donc d’évaluer si le candidat est capable de :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se situer et situer sa réflexion et son action dans un processus RH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appliquer des consignes, des procédures, des textes règlementaires concernant les relations avec le personnel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produire, renseigner, chiffrer, mettre à jour et contrôler des documents et des formulaires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vérifier la qualité orthographique et syntaxique des documents traités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1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F5A86-E208-450C-BD96-67E6E73827E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E2 - Gestion administrative des relations avec le personnel – Coefficient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108000" y="1413000"/>
          <a:ext cx="8929800" cy="4581360"/>
        </p:xfrm>
        <a:graphic>
          <a:graphicData uri="http://schemas.openxmlformats.org/drawingml/2006/table">
            <a:tbl>
              <a:tblPr/>
              <a:tblGrid>
                <a:gridCol w="1728720"/>
                <a:gridCol w="2158920"/>
                <a:gridCol w="1513080"/>
                <a:gridCol w="1871640"/>
                <a:gridCol w="1657440"/>
              </a:tblGrid>
              <a:tr h="4597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Candida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7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4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colaire dans un établissement public ou privé sous contrat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pprenti dans un CFA ou section d'apprentissage habilité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ormation professionnelle continue dans un établissement 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colaire dans un établissement public ou privé sous contrat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pprenti dans un CFA ou section d'apprentissage habilité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ormation professionnelle continue dans un établissement 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colaire dans un établissement privé hors contrat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pprenti dans un CFA ou une section d'apprentissage non habilité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ormation professionnelle continue dans un établissement privé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Candidat justifiant de 3 années d’activité professionnelle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Enseignement à di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ormation professionnelle continue dans un établissement public habili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</a:tr>
              <a:tr h="2800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uré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uré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280080"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Ponctuel écr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 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Ponct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 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CC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</a:tr>
            </a:tbl>
          </a:graphicData>
        </a:graphic>
      </p:graphicFrame>
      <p:sp>
        <p:nvSpPr>
          <p:cNvPr id="365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1626C-3ACD-4047-A066-BD800F1EDC0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Épreuve Ponctuelle : Étude de cas écrit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900000" y="1483920"/>
            <a:ext cx="75218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Plusieurs dossiers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indépendants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 et contextualisés.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01680" indent="-3016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haque dossier traite d’une ou plusieurs «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situations-problèmes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» empruntées à la réalité professionnelle et inscrites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54400" indent="-144000" algn="just">
              <a:spcBef>
                <a:spcPts val="3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dans le </a:t>
            </a:r>
            <a:r>
              <a:rPr b="0" lang="fr-FR" sz="1800" spc="-1" strike="noStrike">
                <a:solidFill>
                  <a:srgbClr val="ff0000"/>
                </a:solidFill>
                <a:latin typeface="Franklin Gothic Book"/>
              </a:rPr>
              <a:t>cadre juridique et règlementaire</a:t>
            </a: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 propre à la gestion administrative des relations avec le personnel.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54400" indent="-144000" algn="just">
              <a:spcBef>
                <a:spcPts val="3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dans le </a:t>
            </a:r>
            <a:r>
              <a:rPr b="0" lang="fr-FR" sz="1800" spc="-1" strike="noStrike">
                <a:solidFill>
                  <a:srgbClr val="ff0000"/>
                </a:solidFill>
                <a:latin typeface="Franklin Gothic Book"/>
              </a:rPr>
              <a:t>respect des processus internes</a:t>
            </a: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, des </a:t>
            </a:r>
            <a:r>
              <a:rPr b="0" lang="fr-FR" sz="1800" spc="-1" strike="noStrike">
                <a:solidFill>
                  <a:srgbClr val="ff0000"/>
                </a:solidFill>
                <a:latin typeface="Franklin Gothic Book"/>
              </a:rPr>
              <a:t>procédures et des consignes </a:t>
            </a: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relatives aux activités de gestion administrative des relations avec le personnel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01680" indent="-3016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es situations font apparaître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des niveaux de complexité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et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d’aléas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tels qu’ils sont décrits dans le référentiel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01680" indent="-3016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’épreuve prend appui sur des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documents et ressources documentaires décrivant les situations de travail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à traiter et nécessaires à la résolution du cas.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A15EB-0A63-4AFB-8974-E0CA5BAE031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Épreuve Ponctuelle : Étude de cas écrit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826920" y="13413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’épreuve ne nécessite pas, pendant son déroulement, de mettre un poste de travail informatique à la disposition du candidat.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a correction est assurée par un professeur ayant en charge des enseignements professionnels dans le baccalauréat professionnel Gestion-Administration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3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1A258-84DB-4CF0-97B4-38834130480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Forme CCF: 4 situations écrit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755280" y="1196640"/>
            <a:ext cx="75214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1ère situation d’évaluation E2A –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1 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2ème situation d’évaluation E2B –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2 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3ème situation d’évaluation E2C –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3 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4ème situation d’évaluation E2D –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4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haque situation 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1 heure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oefficient 1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haque situation 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étude de cas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Proposition de note au jury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7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94152-13C4-450E-8DBF-7FF73E3BC23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9" name="Connecteur droit avec flèche 10"/>
          <p:cNvCxnSpPr/>
          <p:nvPr/>
        </p:nvCxnSpPr>
        <p:spPr>
          <a:xfrm>
            <a:off x="5111280" y="1412640"/>
            <a:ext cx="864360" cy="1080"/>
          </a:xfrm>
          <a:prstGeom prst="straightConnector1">
            <a:avLst/>
          </a:prstGeom>
          <a:ln w="9360">
            <a:solidFill>
              <a:srgbClr val="76787b"/>
            </a:solidFill>
            <a:miter/>
            <a:tailEnd len="med" type="arrow" w="med"/>
          </a:ln>
        </p:spPr>
      </p:cxnSp>
      <p:cxnSp>
        <p:nvCxnSpPr>
          <p:cNvPr id="380" name="Connecteur droit avec flèche 12"/>
          <p:cNvCxnSpPr/>
          <p:nvPr/>
        </p:nvCxnSpPr>
        <p:spPr>
          <a:xfrm>
            <a:off x="5111280" y="1844280"/>
            <a:ext cx="864360" cy="1080"/>
          </a:xfrm>
          <a:prstGeom prst="straightConnector1">
            <a:avLst/>
          </a:prstGeom>
          <a:ln w="9360">
            <a:solidFill>
              <a:srgbClr val="76787b"/>
            </a:solidFill>
            <a:miter/>
            <a:tailEnd len="med" type="arrow" w="med"/>
          </a:ln>
        </p:spPr>
      </p:cxnSp>
      <p:cxnSp>
        <p:nvCxnSpPr>
          <p:cNvPr id="381" name="Connecteur droit avec flèche 13"/>
          <p:cNvCxnSpPr/>
          <p:nvPr/>
        </p:nvCxnSpPr>
        <p:spPr>
          <a:xfrm>
            <a:off x="5111280" y="2204640"/>
            <a:ext cx="864360" cy="1080"/>
          </a:xfrm>
          <a:prstGeom prst="straightConnector1">
            <a:avLst/>
          </a:prstGeom>
          <a:ln w="9360">
            <a:solidFill>
              <a:srgbClr val="76787b"/>
            </a:solidFill>
            <a:miter/>
            <a:tailEnd len="med" type="arrow" w="med"/>
          </a:ln>
        </p:spPr>
      </p:cxnSp>
      <p:cxnSp>
        <p:nvCxnSpPr>
          <p:cNvPr id="382" name="Connecteur droit avec flèche 14"/>
          <p:cNvCxnSpPr/>
          <p:nvPr/>
        </p:nvCxnSpPr>
        <p:spPr>
          <a:xfrm>
            <a:off x="5111280" y="2636640"/>
            <a:ext cx="864360" cy="1080"/>
          </a:xfrm>
          <a:prstGeom prst="straightConnector1">
            <a:avLst/>
          </a:prstGeom>
          <a:ln w="9360">
            <a:solidFill>
              <a:srgbClr val="76787b"/>
            </a:solidFill>
            <a:miter/>
            <a:tailEnd len="med" type="arrow" w="med"/>
          </a:ln>
        </p:spPr>
      </p:cxnSp>
      <p:sp>
        <p:nvSpPr>
          <p:cNvPr id="383" name="Flèche vers le bas 15"/>
          <p:cNvSpPr/>
          <p:nvPr/>
        </p:nvSpPr>
        <p:spPr>
          <a:xfrm>
            <a:off x="4211640" y="4508640"/>
            <a:ext cx="289080" cy="649080"/>
          </a:xfrm>
          <a:prstGeom prst="downArrow">
            <a:avLst>
              <a:gd name="adj1" fmla="val 50000"/>
              <a:gd name="adj2" fmla="val 49959"/>
            </a:avLst>
          </a:pr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2:04:16Z</dcterms:created>
  <dc:creator>Martine Deconinck</dc:creator>
  <dc:description/>
  <dc:language>en-US</dc:language>
  <cp:lastModifiedBy> N. SEV</cp:lastModifiedBy>
  <dcterms:modified xsi:type="dcterms:W3CDTF">2011-10-11T16:18:04Z</dcterms:modified>
  <cp:revision>60</cp:revision>
  <dc:subject/>
  <dc:title>Baccalauréat professionnel Gestion -- Administration</dc:title>
</cp:coreProperties>
</file>