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EEE39-F07D-421F-AA6B-F660D11C5FA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49F46-2D2B-47F8-8822-18D43A001C1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B44A-3300-40E0-834F-CA0EDF3AE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B126-137F-491D-A4AE-48A3C5323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01A153-D7EF-4549-BE7F-47799BB21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21A619-8808-4220-8B48-BC0361B80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822240" y="-42984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algn="ctr">
              <a:spcBef>
                <a:spcPts val="799"/>
              </a:spcBef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2E8C36-6467-4494-9E33-8EE456CF5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9FF5B0-42FB-4B09-B28E-12FFDF7C2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E0CC58-0A74-4689-8C60-4496571D2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875F98-B383-4110-9D59-1B6729A0F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9ADCC9-216A-4EE7-A3AA-D177D6080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A7D67E-EED5-4A84-BF0E-C12A39A35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ADF5F8-B4AD-4B2F-B0FE-B4297C923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9328-59AB-4EC3-9AC6-DE6F9B7E7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6A44-8E2F-453E-BAF8-54B7BE5C4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4B376-5367-496D-AB36-6A7768568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82152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1F604-716C-4692-A70D-D0BE4C4C1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DA45C-CCC1-41DC-8C2A-0AEE74C90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19528-8968-40E4-BFCF-4EEB52102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EAEFC-2D90-4392-9ECA-0C6C56B84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-42984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algn="ctr">
              <a:spcBef>
                <a:spcPts val="799"/>
              </a:spcBef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AB6F0-FE7E-4FFD-BE6C-45598CA5C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1BD08-809D-49A3-9BC3-646A2ECA1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82152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10AC-35C6-437D-AF59-8994820AC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BF140-C2D8-457C-83EC-2B8DD7486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044E2-43FD-4CC7-BE53-1355C1154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B2235-DDC0-4A65-9C6E-8531DACCD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C1E42-6FBD-4BE3-927F-84BA15E2C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22B55-00EF-49FD-AF88-320087C98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32C401-2AC6-45F8-9A10-2270198AF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82152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31F0B1-189D-4431-9B6D-1FAD84D2E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5799A1-A96E-4AA8-9B6D-F480D9605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413EA8-019C-47BB-919E-CC00B5A14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896541-FCD9-4E51-8762-7A52949D4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DB87-E536-4E21-A05F-E6D8BB63E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-42984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algn="ctr">
              <a:spcBef>
                <a:spcPts val="799"/>
              </a:spcBef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00C638-9EE8-4ED3-8E3D-DB0A0FF94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3AA34B-8BE0-4440-99FF-E330ED32C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F8E457-3498-4197-A22D-C3F40D2E6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BE303D-2209-4711-8327-13C70E355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4807F2-0522-45BB-9C57-108532169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8BEC54-BD46-437C-907D-EF5D4117B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D93469-F2CA-4B73-BB70-FB97A145F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214D38-2F52-4A69-8C3C-DD8DBD2F8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82152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BB57B4-C5F3-4BBB-B31D-1342B26EF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8843F2-0D64-4FB9-9480-CA9D207AE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B064-A71E-4473-86B0-829B5B247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41224B-7FBE-48DC-B970-F3ED253AD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5BEB87-875C-40E6-B435-DFE026AB9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-42984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algn="ctr">
              <a:spcBef>
                <a:spcPts val="799"/>
              </a:spcBef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663AA4-ACF1-4A3C-B0F8-3FF9CF5ED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F66E95-DFB9-451E-B519-D97FEBE17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B25839-1B83-4D5F-9A96-6002FA30B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C8D524-E210-4975-AC35-AD0AA3F53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4E7E95-68C5-45E1-A630-81C55DB31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B2CAD7-0C37-43D8-BB68-B147F2DC4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5ECB1E-4371-49BF-9452-284DA6C54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AC4C5B-41BB-4A89-A0C3-259E44ECC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FE26-6617-4EE1-9549-E48678076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82152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1FD113-4604-4AC0-B703-BFBA7C69D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9D8A61-3F6C-4B57-9779-78B087FC7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C0AF03-DA4E-4AE7-9E37-0413CEEB7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5CEBE6-4315-4356-B52F-15C577BA4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-42984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algn="ctr">
              <a:spcBef>
                <a:spcPts val="799"/>
              </a:spcBef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1C3A0B-4990-4E66-AC06-86669592B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CD97B5-C947-4BB0-8FB9-4FDAF774F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D498EB-8D53-47C9-A5E1-9CEA5492A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69D783-5241-4664-9901-74B5D98D4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CEDBE1-43B9-450E-B8A8-5FF0246DB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492500-A90E-46D6-8281-9843FCDA0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-42984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algn="ctr">
              <a:spcBef>
                <a:spcPts val="799"/>
              </a:spcBef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6C6D-48CA-4592-BCFB-B62A0DE94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D9FF2C-D351-4B32-B72D-E018C2C10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F47DAF-26BB-49D7-A226-079276E0F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822240" y="82152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BA3B77-949A-4826-A3C4-3D2DA2846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F16071-5BDD-4C0D-AC30-E69E73CE7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5F49EB-0230-4135-A184-2C7A21697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D6ABEA-86DB-4BFE-AC5A-B51BBDA8C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822240" y="-42984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algn="ctr">
              <a:spcBef>
                <a:spcPts val="799"/>
              </a:spcBef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F6CD92-F0F1-4900-9C3C-3E5392E72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9439C9-85C9-48D7-8B03-128BDA748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CF7998-D434-4BA0-B394-317FD779E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2168B6-1B19-4CFF-93E2-E78F8845A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3D8B-4CDB-45B3-BEBD-3D6068BB8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BC21F5-1921-44EC-87F6-CA93947BB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4443EF-6559-4DBA-8BF2-391854761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D1515C-FFF5-4D7F-BCA3-E35486636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7620AA-DECB-44F0-AAF8-F970AEBC3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822240" y="82152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A101BC-FB5E-45E0-BF9D-976D28270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BB4954-B263-4022-A24E-57B9F65A9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847160-F90B-46E8-8129-16A9187B9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CC5CD7-057E-4906-90F9-EF9030A2E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822240" y="-42984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algn="ctr">
              <a:spcBef>
                <a:spcPts val="799"/>
              </a:spcBef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3CCA2A-56A7-4AF4-85FC-9FFBC94EB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BA2E1F-2566-4097-8FEF-589803B36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2709-99A8-47BA-AC2C-7B97E985E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A7869F-8CB6-4554-89C7-657B71F04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B1E315-5823-4610-BBE3-E51FD6150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A8FD72-E466-45C3-9F67-43EF98700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8FE179-DE6B-4967-83BC-7B01EC790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86B301-CD45-4562-8557-4562DB1A4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1EEDB2-867D-4720-940A-BAFC9919E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822240" y="82152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515CBF-87D1-44EE-B08B-0FA453951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FF2746-288D-4E09-8A9B-A15445876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415BDD-F3AC-486A-83E3-29B3790F5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8D7906-9DAE-4E44-9269-4D5D8C361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A7EA-0FE1-4423-A4A7-FCB98215B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822240" y="-42984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algn="ctr">
              <a:spcBef>
                <a:spcPts val="799"/>
              </a:spcBef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28F635-DDF3-46A7-89D8-6F08479FB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221AE0-1BF2-406F-87F6-84DE0E217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935F28-3B83-4CB3-BE17-D748606AB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9D8CBE-2C17-4BD8-A9DC-D750AE120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34CFEA-B8A1-4E7C-A6F8-5BF706AE7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B789EF-F021-4758-9268-E8CF18589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072A49-44AA-4867-B230-6B18CE6F0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D6ABE1-37C7-49B2-A58F-EA486CD2C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822240" y="82152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1EE690-A32D-4D12-961D-D9791B0F4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D4A66C-9825-407D-B328-46FDCA367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A82CD-9C4E-48AD-B52C-160E3C4E88C9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133360" y="6400440"/>
            <a:ext cx="60958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0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fr-FR" sz="800" spc="-1" strike="noStrike">
                <a:solidFill>
                  <a:srgbClr val="ff0000"/>
                </a:solidFill>
                <a:latin typeface="Times New Roman"/>
              </a:rPr>
              <a:t>ES</a:t>
            </a:r>
            <a:r>
              <a:rPr b="1" lang="fr-FR" sz="1000" spc="-1" strike="noStrike">
                <a:solidFill>
                  <a:srgbClr val="ff0000"/>
                </a:solidFill>
                <a:latin typeface="Times New Roman"/>
              </a:rPr>
              <a:t> P</a:t>
            </a:r>
            <a:r>
              <a:rPr b="1" lang="fr-FR" sz="800" spc="-1" strike="noStrike">
                <a:solidFill>
                  <a:srgbClr val="ff0000"/>
                </a:solidFill>
                <a:latin typeface="Times New Roman"/>
              </a:rPr>
              <a:t>ÉRIODES DE</a:t>
            </a:r>
            <a:r>
              <a:rPr b="1" lang="fr-FR" sz="1000" spc="-1" strike="noStrike">
                <a:solidFill>
                  <a:srgbClr val="ff0000"/>
                </a:solidFill>
                <a:latin typeface="Times New Roman"/>
              </a:rPr>
              <a:t> F</a:t>
            </a:r>
            <a:r>
              <a:rPr b="1" lang="fr-FR" sz="800" spc="-1" strike="noStrike">
                <a:solidFill>
                  <a:srgbClr val="ff0000"/>
                </a:solidFill>
                <a:latin typeface="Times New Roman"/>
              </a:rPr>
              <a:t>ORMATION EN</a:t>
            </a:r>
            <a:r>
              <a:rPr b="1" lang="fr-FR" sz="1000" spc="-1" strike="noStrike">
                <a:solidFill>
                  <a:srgbClr val="ff0000"/>
                </a:solidFill>
                <a:latin typeface="Times New Roman"/>
              </a:rPr>
              <a:t> M</a:t>
            </a:r>
            <a:r>
              <a:rPr b="1" lang="fr-FR" sz="800" spc="-1" strike="noStrike">
                <a:solidFill>
                  <a:srgbClr val="ff0000"/>
                </a:solidFill>
                <a:latin typeface="Times New Roman"/>
              </a:rPr>
              <a:t>ILIEU</a:t>
            </a:r>
            <a:r>
              <a:rPr b="1" lang="fr-FR" sz="1000" spc="-1" strike="noStrike">
                <a:solidFill>
                  <a:srgbClr val="ff0000"/>
                </a:solidFill>
                <a:latin typeface="Times New Roman"/>
              </a:rPr>
              <a:t> P</a:t>
            </a:r>
            <a:r>
              <a:rPr b="1" lang="fr-FR" sz="800" spc="-1" strike="noStrike">
                <a:solidFill>
                  <a:srgbClr val="ff0000"/>
                </a:solidFill>
                <a:latin typeface="Times New Roman"/>
              </a:rPr>
              <a:t>ROFESSIONNEL</a:t>
            </a: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     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D313D-CDA0-4B3A-A89B-692761ADD709}" type="slidenum">
              <a:rPr b="0" lang="fr-F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b6c5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dae2eb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048200">
            <a:off x="509040" y="5835240"/>
            <a:ext cx="161604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BEACB-FB10-4878-8DEE-4E8D071E4D44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133360" y="6400440"/>
            <a:ext cx="60958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600" spc="-1" strike="noStrike">
                <a:solidFill>
                  <a:srgbClr val="28374a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Times New Roman"/>
                <a:ea typeface="Calibri"/>
              </a:rPr>
              <a:t>PNP - Poitiers - 13 &amp; 14 octobre 2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1620D-A74A-47C9-BCF4-CE3323762D7C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7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AA118-B2DC-4786-B5BB-1923D95FCBFE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133360" y="6400440"/>
            <a:ext cx="60958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0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Times New Roman"/>
              </a:rPr>
              <a:t>PÔLE 4 – GESTION ADMINISTRATIVE DES PROJETS</a:t>
            </a:r>
            <a:r>
              <a:rPr b="0" lang="fr-FR" sz="1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-  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64680" y="6483600"/>
            <a:ext cx="309960" cy="24696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1CAFA-525D-49A1-8767-A86446B269E4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0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7B6F4-7960-44E2-B1C8-C29360190572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2133360" y="6400440"/>
            <a:ext cx="60958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0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Times New Roman"/>
              </a:rPr>
              <a:t>PÔLE 4 – GESTION ADMINISTRATIVE DES PROJETS</a:t>
            </a:r>
            <a:r>
              <a:rPr b="0" lang="fr-FR" sz="1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-  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64680" y="6456600"/>
            <a:ext cx="309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DEC2A-AAC5-437A-BC04-1D94939F4509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3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1E1E4-C4E2-4BC3-93A4-DFCB46831873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133360" y="6400440"/>
            <a:ext cx="60958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0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Times New Roman"/>
              </a:rPr>
              <a:t>PÔLE 4 – GESTION ADMINISTRATIVE DES PROJETS</a:t>
            </a:r>
            <a:r>
              <a:rPr b="0" lang="fr-FR" sz="1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-  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64680" y="6456600"/>
            <a:ext cx="309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FCE5B-A4E6-43A5-AAA3-FB05E8ED5077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6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9749C-6758-4CDB-86DB-8972C07A7252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2133360" y="6400440"/>
            <a:ext cx="60958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0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Times New Roman"/>
              </a:rPr>
              <a:t>PÔLE 4 – GESTION ADMINISTRATIVE DES PROJETS</a:t>
            </a:r>
            <a:r>
              <a:rPr b="0" lang="fr-FR" sz="1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-  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8541000" y="6483600"/>
            <a:ext cx="309960" cy="24696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B6E6F-E319-4E34-8360-3C2751073136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9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C0FC7-8BB3-46AD-A510-E853F58D064B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2133360" y="6400440"/>
            <a:ext cx="60958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0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Times New Roman"/>
              </a:rPr>
              <a:t>PÔLE 4 – GESTION ADMINISTRATIVE DES PROJETS</a:t>
            </a:r>
            <a:r>
              <a:rPr b="0" lang="fr-FR" sz="1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-  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529840" y="6456600"/>
            <a:ext cx="255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F044A-A3D8-4118-9D48-280FB732F684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ight Triangle 1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2" name="Right Triangle 17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 rot="19183200">
            <a:off x="612000" y="5903640"/>
            <a:ext cx="1368360" cy="2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81D5A-4589-4304-BBAA-D03F5C9860CD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2133360" y="6400440"/>
            <a:ext cx="60958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0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Times New Roman"/>
              </a:rPr>
              <a:t>PÔLE 4 – GESTION ADMINISTRATIVE DES PROJETS</a:t>
            </a:r>
            <a:r>
              <a:rPr b="0" lang="fr-FR" sz="1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fr-FR" sz="1000" spc="-1" strike="noStrike">
                <a:solidFill>
                  <a:srgbClr val="434342"/>
                </a:solidFill>
                <a:latin typeface="Times New Roman"/>
              </a:rPr>
              <a:t>-  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8474400" y="6275880"/>
            <a:ext cx="356400" cy="35640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C11AB-FCDD-497C-A73B-42E75BBA821C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5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5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46695-A45E-43E3-93AB-A0F3B7F2A41C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6"/>
          </p:nvPr>
        </p:nvSpPr>
        <p:spPr>
          <a:xfrm>
            <a:off x="2133360" y="6400440"/>
            <a:ext cx="60958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27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DF64A-3D99-445D-A7DB-DA348CE7D311}" type="slidenum">
              <a:rPr b="0" lang="fr-F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 rot="19107000">
            <a:off x="801360" y="1817280"/>
            <a:ext cx="6294240" cy="12034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Les Périodes de Formation</a:t>
            </a:r>
            <a:br>
              <a:rPr sz="3600"/>
            </a:b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 en Milieu Professionnel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 rot="19126800">
            <a:off x="1645560" y="3153960"/>
            <a:ext cx="5708520" cy="39852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  <a:ea typeface="Tunga"/>
              </a:rPr>
              <a:t>PROGRAMME NATIONAL DE PILOTAGE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pic>
        <p:nvPicPr>
          <p:cNvPr id="396" name="Picture 2" descr="E:\Mes docs\DD_Paris\AL\2010_2011\BTS_SIO\MENJVA_LOGO_Q.gif"/>
          <p:cNvPicPr/>
          <p:nvPr/>
        </p:nvPicPr>
        <p:blipFill>
          <a:blip r:embed="rId1"/>
          <a:stretch/>
        </p:blipFill>
        <p:spPr>
          <a:xfrm>
            <a:off x="108000" y="333360"/>
            <a:ext cx="2143080" cy="1981080"/>
          </a:xfrm>
          <a:prstGeom prst="rect">
            <a:avLst/>
          </a:prstGeom>
          <a:ln w="0">
            <a:noFill/>
          </a:ln>
        </p:spPr>
      </p:pic>
      <p:sp>
        <p:nvSpPr>
          <p:cNvPr id="397" name="Sous-titre 2"/>
          <p:cNvSpPr/>
          <p:nvPr/>
        </p:nvSpPr>
        <p:spPr>
          <a:xfrm>
            <a:off x="4140360" y="6265800"/>
            <a:ext cx="4368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Calibri"/>
                <a:ea typeface="Calibri"/>
              </a:rPr>
              <a:t>Poitiers – 13 &amp; 14 octobre 2011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Objectifs et principe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826560" y="1341360"/>
            <a:ext cx="79930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8374a"/>
                </a:solidFill>
                <a:latin typeface="Franklin Gothic Book"/>
              </a:rPr>
              <a:t>Les périodes de formation en milieu professionnel doivent permettre  :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986720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L’acquisition et/ou l’approfondissement des compétences professionnelles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986720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L’amélioration de la connaissance du milieu professionnel et de l'emploi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8374a"/>
                </a:solidFill>
                <a:latin typeface="Franklin Gothic Book"/>
              </a:rPr>
              <a:t>Les périodes de formation en milieu professionnel  :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986720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Constituent un gage d’insertion professionnelle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986720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Participent à la formation des candidats au bac pro Gestion-Administration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00" name="Espace réservé du pied de page 3"/>
          <p:cNvSpPr/>
          <p:nvPr/>
        </p:nvSpPr>
        <p:spPr>
          <a:xfrm>
            <a:off x="2133720" y="6400800"/>
            <a:ext cx="6095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Franklin Gothic Book"/>
              </a:rPr>
              <a:t>PFMP -</a:t>
            </a: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  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1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645BA-19DA-44E5-BA0F-176FE1EDAEF0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500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500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500" fill="hold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500" fill="hold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500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500" fill="hold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500" fill="hold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500"/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500" fill="hold"/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500" fill="hold"/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500"/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500" fill="hold"/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500" fill="hold"/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500"/>
                                        <p:tgtEl>
                                          <p:spTgt spid="3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500" fill="hold"/>
                                        <p:tgtEl>
                                          <p:spTgt spid="3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500" fill="hold"/>
                                        <p:tgtEl>
                                          <p:spTgt spid="3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Modalité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822240" y="4508640"/>
            <a:ext cx="771048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8374a"/>
                </a:solidFill>
                <a:latin typeface="Franklin Gothic Book"/>
              </a:rPr>
              <a:t>Référent professionnel (tuteur)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855084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Contribue à la formation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855084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Veille à la complémentarité des savoirs et savoir-faire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855084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Procède à une évaluation générale et une évaluation spécifique (voir modèle national) fondée sur la capacité du candidat à affronter la complexité et les aléas des situations professionnelles, à aborder d'autres situations comparables 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04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82C22-EB81-4A83-9659-9B6DF2BF84DC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5" name="Espace réservé du pied de page 3"/>
          <p:cNvSpPr/>
          <p:nvPr/>
        </p:nvSpPr>
        <p:spPr>
          <a:xfrm>
            <a:off x="2133720" y="6400800"/>
            <a:ext cx="6095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Franklin Gothic Book"/>
              </a:rPr>
              <a:t>PFMP -</a:t>
            </a: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  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6" name="Espace réservé du contenu 2"/>
          <p:cNvSpPr/>
          <p:nvPr/>
        </p:nvSpPr>
        <p:spPr>
          <a:xfrm>
            <a:off x="830160" y="1268280"/>
            <a:ext cx="7710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8374a"/>
                </a:solidFill>
                <a:latin typeface="Franklin Gothic Book"/>
              </a:rPr>
              <a:t>Durée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1360" indent="-17136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22 semaines sur 3 ans (BO spécial 19 février 2009)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1360" indent="-17136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16 semaines dans le cas d'un cycle en 2 ans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1360" indent="-17136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7" name="Espace réservé du contenu 2"/>
          <p:cNvSpPr/>
          <p:nvPr/>
        </p:nvSpPr>
        <p:spPr>
          <a:xfrm>
            <a:off x="826920" y="3218040"/>
            <a:ext cx="7710480" cy="13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8374a"/>
                </a:solidFill>
                <a:latin typeface="Franklin Gothic Book"/>
              </a:rPr>
              <a:t>Programmation des périodes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Relève de l'autonomie des établissements en concertation avec les milieux professionnels, les CET…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Respecte la contrainte liée au BEP MSA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8" name="Espace réservé du contenu 2"/>
          <p:cNvSpPr/>
          <p:nvPr/>
        </p:nvSpPr>
        <p:spPr>
          <a:xfrm>
            <a:off x="846000" y="2205000"/>
            <a:ext cx="77090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8374a"/>
                </a:solidFill>
                <a:latin typeface="Franklin Gothic Book"/>
              </a:rPr>
              <a:t>Lieu(x)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Dans tout type d'organisation proposant des activités de gestion administrative (TPE, PME/PMI, ETI, GE, collectivités territoriales, administrations, associations)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755280" y="553680"/>
            <a:ext cx="793116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Pilotage pédagogique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71614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8374a"/>
                </a:solidFill>
                <a:latin typeface="Franklin Gothic Book"/>
              </a:rPr>
              <a:t>L’équipe pédagogique participe à l’organisation et au suivi des PFMP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28374a"/>
                </a:solidFill>
                <a:latin typeface="Franklin Gothic Book"/>
              </a:rPr>
              <a:t>Circulaire 2000-095 du 26 juin 2000 – BO n° 25 du 29 juin 2000</a:t>
            </a:r>
            <a:endParaRPr b="1" lang="en-US" sz="1400" spc="-1" strike="noStrike">
              <a:solidFill>
                <a:srgbClr val="28374a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8374a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8374a"/>
                </a:solidFill>
                <a:latin typeface="Franklin Gothic Book"/>
              </a:rPr>
              <a:t>Préparation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75122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Recherche et choix du lieu d'accueil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75122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Accompagnement des élèves dans leur recherche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75122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Consultation du portail des stages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8374a"/>
                </a:solidFill>
                <a:latin typeface="Franklin Gothic Book"/>
              </a:rPr>
              <a:t>Suivi et  accompagnement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75122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Visite de suivi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75122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Visite d'évaluation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8374a"/>
                </a:solidFill>
                <a:latin typeface="Franklin Gothic Book"/>
              </a:rPr>
              <a:t>Exploitation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75122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Réinvestissement des situations professionnelles vécues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11" name="Espace réservé du numéro de diapositive 4"/>
          <p:cNvSpPr/>
          <p:nvPr/>
        </p:nvSpPr>
        <p:spPr>
          <a:xfrm>
            <a:off x="8458200" y="6202440"/>
            <a:ext cx="457200" cy="5032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9932E-8E55-452B-9F51-6A7434205EDB}" type="slidenum">
              <a:rPr b="0" lang="fr-FR" sz="16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2" name="Espace réservé du pied de page 3"/>
          <p:cNvSpPr/>
          <p:nvPr/>
        </p:nvSpPr>
        <p:spPr>
          <a:xfrm>
            <a:off x="2133720" y="6400800"/>
            <a:ext cx="6095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Franklin Gothic Book"/>
              </a:rPr>
              <a:t>PFMP -</a:t>
            </a: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  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755280" y="553680"/>
            <a:ext cx="793116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Trace écrite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755280" y="1341360"/>
            <a:ext cx="752148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8374a"/>
                </a:solidFill>
                <a:latin typeface="Franklin Gothic Book"/>
              </a:rPr>
              <a:t>Enrichissement du passeport professionnel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7270560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Situations réelles vécues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7270560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Situations observées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8374a"/>
              </a:solidFill>
              <a:latin typeface="Franklin Gothic Book"/>
            </a:endParaRPr>
          </a:p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8374a"/>
                </a:solidFill>
                <a:latin typeface="Franklin Gothic Book"/>
              </a:rPr>
              <a:t>Compte rendu d'évaluation  </a:t>
            </a:r>
            <a:r>
              <a:rPr b="0" lang="fr-FR" sz="1400" spc="-1" strike="noStrike">
                <a:solidFill>
                  <a:srgbClr val="28374a"/>
                </a:solidFill>
                <a:latin typeface="Franklin Gothic Book"/>
              </a:rPr>
              <a:t>(document national)</a:t>
            </a:r>
            <a:endParaRPr b="1" lang="en-US" sz="14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7270560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Certificat de stage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7270560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Objectifs négociés pour chaque PFMP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7270560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Indicateurs d'évaluation des compétences transversales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7270560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Description de la complexité et de la criticité des activités proposées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15" name="Espace réservé du numéro de diapositive 4"/>
          <p:cNvSpPr/>
          <p:nvPr/>
        </p:nvSpPr>
        <p:spPr>
          <a:xfrm>
            <a:off x="8458200" y="6202440"/>
            <a:ext cx="457200" cy="5032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F392B-7FEB-4AC0-BD39-528E9463B11D}" type="slidenum">
              <a:rPr b="0" lang="fr-FR" sz="16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6" name="Espace réservé du pied de page 3"/>
          <p:cNvSpPr/>
          <p:nvPr/>
        </p:nvSpPr>
        <p:spPr>
          <a:xfrm>
            <a:off x="2133720" y="6400800"/>
            <a:ext cx="6095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Franklin Gothic Book"/>
              </a:rPr>
              <a:t>PFMP -</a:t>
            </a: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  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26560" y="553680"/>
            <a:ext cx="785988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PFMP &amp; Certification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99640" y="1412640"/>
            <a:ext cx="75200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700" spc="-1" strike="noStrike">
                <a:solidFill>
                  <a:srgbClr val="28374a"/>
                </a:solidFill>
                <a:latin typeface="Franklin Gothic Book"/>
              </a:rPr>
              <a:t>Apport de la PFMP pour le candidat</a:t>
            </a:r>
            <a:endParaRPr b="1" lang="en-US" sz="17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23192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Alimenter son passeport professionnel par des situations vécues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23192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Affronter la complexité et les aléas des situations professionnelles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23192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Construire sa compétence en abordant des situation comparables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28374a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700" spc="-1" strike="noStrike">
                <a:solidFill>
                  <a:srgbClr val="28374a"/>
                </a:solidFill>
                <a:latin typeface="Franklin Gothic Book"/>
              </a:rPr>
              <a:t>Épreuve E3 en CCF</a:t>
            </a:r>
            <a:endParaRPr b="1" lang="en-US" sz="17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23192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E31 – coef 3 : Gestion des relations administratives externes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23192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E32 – coef 4 : Gestion administrative interne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23192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E33 – coef 2 : Gestion administrative des projets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8374a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700" spc="-1" strike="noStrike">
                <a:solidFill>
                  <a:srgbClr val="28374a"/>
                </a:solidFill>
                <a:latin typeface="Franklin Gothic Book"/>
              </a:rPr>
              <a:t>Supports</a:t>
            </a:r>
            <a:endParaRPr b="1" lang="en-US" sz="17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23192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Passeport professionnel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23192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Comptes rendus d'évaluation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19" name="Espace réservé du numéro de diapositive 4"/>
          <p:cNvSpPr/>
          <p:nvPr/>
        </p:nvSpPr>
        <p:spPr>
          <a:xfrm>
            <a:off x="8458200" y="6202440"/>
            <a:ext cx="457200" cy="5032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462F7-37C1-4470-8D4C-8D8A675A017A}" type="slidenum">
              <a:rPr b="0" lang="fr-FR" sz="16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0" name="Espace réservé du pied de page 3"/>
          <p:cNvSpPr/>
          <p:nvPr/>
        </p:nvSpPr>
        <p:spPr>
          <a:xfrm>
            <a:off x="2133720" y="6400800"/>
            <a:ext cx="6095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Franklin Gothic Book"/>
              </a:rPr>
              <a:t>PFMP -</a:t>
            </a: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  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9T11:23:50Z</dcterms:created>
  <dc:creator>Simon, Mazoyer</dc:creator>
  <dc:description/>
  <dc:language>en-US</dc:language>
  <cp:lastModifiedBy>Edith Simon</cp:lastModifiedBy>
  <dcterms:modified xsi:type="dcterms:W3CDTF">2011-10-25T19:09:46Z</dcterms:modified>
  <cp:revision>38</cp:revision>
  <dc:subject/>
  <dc:title>Présentation PowerPoint</dc:title>
</cp:coreProperties>
</file>