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C257-DEE7-44C0-B0C2-1652E058431A}" type="datetime">
              <a:rPr b="0" lang="fr-FR" sz="1200" spc="-1" strike="noStrike">
                <a:solidFill>
                  <a:srgbClr val="000000"/>
                </a:solidFill>
                <a:latin typeface="Calibri"/>
              </a:rPr>
              <a:t>31/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2C29-2064-4500-9C4E-D6614350254F}"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5BC4-494B-4D05-BA02-FCAFDB77F8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82AA-8022-4F6E-B92F-7B7EC3B8DB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7C8D-B48E-402D-8B2F-7FC08859803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CC7E-529B-4912-AE3A-A3F124CCA61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EC3D-D72D-49EF-A7BB-33C1D143B71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B72B-E679-4DE2-BA97-CDD814F2E08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48EB-FE3F-4FE7-A232-FDB18CD7F26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19C8-2E12-40BD-BB8B-451C6F6B80F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618E-6F1E-49B8-A6CE-1B79D5AC56A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05069-C619-43A4-A3AE-49E7F472A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1F63-7559-4CFE-B991-F51E04CEE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40A32-4CCE-462F-B769-D0E5BE376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71CB7-CD6D-4BD9-AC96-3ADECDF87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86470-DA7C-4190-BCBB-29A50D8A0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BDD4B-4278-417E-864C-F8014D202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95A39-4279-48F0-AA50-EA2773ABA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07B18-7E07-4A15-8E06-B3C1BEB25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12CF5-83FA-47BB-AD0F-39F5690D4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14AF6-5FC9-4973-B835-2C797A1A1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9FBB1-79E5-41C9-9C58-9A100C637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2B517-2166-43B6-BADB-23AFFBE80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C2D16-AAE3-40A5-A8C9-8DD5521B7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E8A8A-DB59-4632-94CB-644A49229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75B80-616E-427B-9EEC-AFDE3BDB9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7CB41-9522-4F4B-9E82-DE833AA3F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BFE00-BA78-4CE9-B0F2-EDDDE06A1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3F291-5E7F-43AD-B9F3-103A8105A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3CF0F-FDBF-487B-8802-006BF635E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545AC-5537-4A0A-A8A3-CE0363D54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AD7DA-0920-418D-B74D-7796B2549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85EBF-6357-4665-AC83-5E5580227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DEC54-364A-4E29-A73F-75AA78187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72F2B-7EE4-4066-844F-810F25982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057D6-4026-4EF2-B44B-BEBBBC1CD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766D7-4470-449A-9FE4-61AF8E995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65649-CF00-425F-B6A1-2522B9CC4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1B08A-6811-46FD-ADF9-DE2D76D9F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DE1D47-5FE8-4547-8297-CA9F81B4D3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4F8D1-1F75-4BA2-AAD4-6AF63D35E7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D6590F-5062-4C21-9E9D-9EF91273D4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447F9-6273-48F6-82D6-1C2662245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D203E3-28AF-4EA8-B351-5A88E8DDF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48AAE-7650-48C6-911E-E2B79DD65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74F66-F56F-4781-A7E3-CEDFEAF0C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6175B-6DFE-4926-9490-6D396712B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AA50D-6C36-45B9-82AF-4F7F8685B1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17EE1-4722-4096-AF60-4110BE15E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7A70A-BFF1-4956-8366-A8586E094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19E09-800C-46C0-A7E4-97772A33A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C806D-AB27-4978-B6E2-3331BF47D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A2DEF-E5B8-418D-AD6D-F25BB0FB3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1FF566-DD69-41D4-96B2-5FB240A26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588489-0B3A-4E8F-9ED7-8F011454C5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BAE0-FB51-466B-860E-A38AFBF6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F4625-7BD4-423F-AEE4-B0F68C036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B9D73-E282-4995-9527-67B6A7BF5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664AD4-FA6B-4E2E-A102-7A0104A190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B54C3-FF05-4487-941C-6EDFF5DDF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32E67-B091-4B90-8028-7A9F4E9C3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CF0AA-F49D-462A-B719-E87828600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B4BD4-DA47-43EA-A58A-06ACBDBA9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6FE02-ABD0-437C-BBA2-45B7C8345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EFB7A-E1D8-4BAE-805F-05A9D357C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1172E-58D6-474F-867E-40095F651F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2F86-8B6E-401B-B49D-05302415D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B40425-8147-4742-A690-1CCDE7A759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64B623-AB69-40F1-A440-11A8E46DB6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6C753-5B21-4072-9363-1678E9F0F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D9562-D8D9-46C0-A1E6-3E8201082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3B8BE-DA1B-40DA-9EDA-5C31AD8DF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81DCEC-2157-4108-B5FB-7E22CF72C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1FF58-7ABE-4FC6-B9B7-A406DE89E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A8F1F-C47D-400D-83F2-CF3A7EE45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5A33B8-3C38-418C-8EA0-8490931FF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7813A-A25D-4DEF-9288-0E53FE2F4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F79A-19D9-4CA2-9928-6F75E18AA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63FEB4-FA07-46B9-A242-553117483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78483E-F1EB-4807-AD67-D3A91E2068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C9D1F7-B1BA-40C4-A05D-99D4B19742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377D6-5C5A-4E94-9E70-F61AB72095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2B2B7-6FED-4507-BE78-35CAD9FBBA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1F4852-C372-47E5-9FCD-D679D48ED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A0912E-FC4B-4C81-AE5B-64FCB4311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B8F4C-9D60-4C3F-A471-B31F9F314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3337A2-ADA7-438A-BB39-8E6596CAB9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1D5FF-A840-4A6D-860A-4F85E89A5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291D-D0E3-46F2-8DF5-85F434EB5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AA57D-E835-4F24-BE92-94C7DF55F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00073E-43D2-47C1-94BF-234A8B055F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5E8D6A-26C8-4B35-AE23-57E9D1245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5E963D-51C4-4BB8-9C8B-31397A284A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EF89BE-BF9B-4651-8216-2668B028F7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CF08B9-B695-47A5-9EC9-D9070C78E3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BA0987-1872-4684-A1F6-DAAF086454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3271F-E836-44CB-B0D3-012985F42E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0AC98-1F1F-45B5-8758-D756FAE53B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44AA87-8B63-4687-8CDC-AD29A2176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50AC-9105-4AF2-BE3E-F4638FF8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9418C-3678-425E-B39E-1842B3B825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DE3F2-257F-477F-B935-22F28C950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A28A0-91C3-47A0-A18E-557636D9A9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32C74-366B-4FC6-83E6-45EF8E76C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490142-BF9C-49A1-A628-FF05D34F48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885868-D2A3-481C-9F28-31ACAAFF8B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6F3390-A60C-4976-8C83-96392B16BAA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5DDE-22D4-47C8-889E-6950FC16B913}"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E831-57EA-4D0A-9BEB-B423557CCD51}"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2151-FFE6-4DCC-BE51-1383D98F86BB}"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7EEA-9519-4B99-91AF-F236FAB74DA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430D-5AA1-476C-8259-1FADA3169B85}"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7220-671A-4F6C-80BA-4F3987A3134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3773-A944-4797-8E66-4032C327DEE9}"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48E3-0F3A-496A-A882-0F39973BC2E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825F-68B3-459D-BFAE-9F286A9C5DA6}"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B7E0-946A-41B1-8B62-42F385EAB1E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B9A6-1E7D-4EE1-B71D-04F5072FE5DA}"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82D3-D742-4903-8327-F1964BA7C34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D57B-0C9D-4B88-B0C5-70357D153838}"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DF73-758D-4624-A10E-2003532309DA}"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DA2C-68A8-4FD1-BA4C-11E01CF2D05F}"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7397-9E31-42CD-8318-3399462797A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0E16-6E85-4AC1-B9FB-19D6E4E289A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8AEF-F510-43D3-A2B1-FEA5B45141B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FACB-4F37-42F1-B90B-22723933F25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B8A1-C3DA-4D53-9D66-F2C7690F14A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31E1-F04F-42E5-9EB1-1F391E18F14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97D5-E317-48FF-83FF-CA7EF17CB3E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7F5E-2D39-49CF-B57B-E8D2D607191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A86D-C212-4CBA-8127-293E17A9CDB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63ED-B821-472A-9026-FE477872E51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287F-BD29-44DA-9082-68BA7789BDC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