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13C5-A0CC-4CF3-8CB0-E9C2508BF42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F8F1-1FF1-43D2-8DE1-4C90C602288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1B3F-854D-4E8E-B4D6-081B613D18B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EDC0-4607-4EDC-89EF-72123F293BA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CB33-6549-45BE-812B-2F0405825F1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6917-8CEF-4A67-A15C-B414173859E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CA4E-C1DD-496C-8FCE-1FBFD7347B9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BA50-6F12-494D-AD1D-948F904F154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0D91-7518-4B6E-9F23-BCCF356F022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08C3-0762-4E86-8A47-8935047FD7B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B745-D4BD-47FE-9324-7BB51612820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1C1B-192D-43A9-BEA2-2327385130F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3F39-CC9D-49CD-A7C8-9F823010A66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755D-A3FD-43CC-8368-13E91EFDC60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C5B9-C31A-4BC1-B139-EC3AA136E48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703D-448F-4517-81C6-26925EDDBF7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5C4B-BFC9-4E80-8742-3B3B4B9B6EB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3FAD-ADF4-43C7-AF82-ADEF4FA2933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1964-DEC9-46A6-871B-536EA439664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0D6F-B361-4D8B-A46D-CEB8911997A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A6F6-69DF-4D16-BF59-B90A0307E6F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EEF2-5899-4725-8FDD-5A6D9A1B9F0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932A-A35D-45F1-8521-C10ED3CD92D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1B4C-FB9D-446F-9F3A-7780C15A5A4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DD01-B733-4EDF-9C87-191C3DF3764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1900-513A-47A9-A877-01883F81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BC69-4409-4775-B6CB-3A18695E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5D89-9407-4CBA-AEC8-63F0F05F8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8E81-62ED-4E66-BC4D-75C158867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1C62-72D4-46A4-996F-2E325FECB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D18A-8520-478B-BCFA-A79F8AEA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D397-A425-4C38-8BB4-393B3CE6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BB44-6DAD-442C-A6F5-883020B6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DB62-6B9F-4DCE-88F0-46838118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88DF-CC51-4F1C-B08E-39FF9BCB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1E29-3222-44BF-87EB-E714A40D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E540-4D1A-4FF6-B8EF-46B48381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14C3-207B-4EF1-B63F-66E9535C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C107-4004-43B4-AB68-C5CBDA0C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AEC0-AF2E-4EC1-B532-474FC460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DCF7-ACFF-4A2D-B01E-8E9E8927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772B-75AA-4A60-B964-7C4BBC5EF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93728-C828-47D0-BDA1-FEB67D7E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04C0D-3430-4900-BC61-783E2921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53423-3C19-4904-B5D6-40956034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55462-F413-43D8-B408-2CE1E7BA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FA392-7B42-49D6-90B9-C75530A8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6D58-5FFC-4BC5-9B59-95B122C6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F27BE-84CC-4D68-B414-8B5DB1F4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13F8D-06DD-4DB8-ADAF-E99549DD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B098A-E4E6-4619-BAB3-460DC7B6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5F8A4-B6BF-4118-B0C6-9177E228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A055C-933B-429F-8886-6627C196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75588-7F25-426F-B497-BE5E5812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A581E-DBED-4A09-9F9F-E5443A1F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FA790-C8D2-4820-A454-AD85AF17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F889E-874B-46B7-80C3-4AE06E1B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F6575-515C-4EAB-BEF9-4AA00F47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E40E-6F71-4D3A-B251-5FD28E2D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7E684-6263-44EE-A754-9C93E1BA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92031-DD22-41ED-925B-780D3570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EA0EB-1FA0-4FC7-AF5D-5504F1C6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DBFAE-2F83-4009-A19E-4968A860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6EE6F-8FD3-46DE-9E18-B8FE7F97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D1DB6-D64F-4279-B026-FF803718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64BFE-CA61-4973-8E3D-960E22F1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E98C3-52A7-45FF-BE79-BF0182E3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EB870-18F9-451E-A0EA-86D1F7C1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52A4B-ECBF-4FEC-89D8-5D869568B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D065-72DB-4833-AF79-5CAB8933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415AB-A695-4D46-A572-F546436E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7C003-7E69-4941-8720-E1FA42A5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1251C-6BB1-4D1E-8D0D-9D8C85CF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C0451-391D-4D17-BC1C-7E58B7DB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13BE2-EA11-49FD-9785-153223B0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3DBC4-8A0F-4A76-9650-132EFF82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1E889-5FE4-47FB-B636-66E0472B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BA97D-F29F-43A9-A954-355DEC24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E95AC-7AC3-4066-8CC6-8EE753A8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B236E-9990-4E05-ACAD-E4A9F4FB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AFDA-FF57-4654-90DE-9C180A70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A4540-3F5B-4B92-B87D-6F65E632D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9DAD9-51DE-437B-B117-99BF292B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9B5B1-AC2D-4255-BED2-D3EAB783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8D6E2-F83F-47C9-A2E8-CC507BDE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55129-0EAF-4A87-8ADD-4CCA2FC8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F095E-6FD3-4616-A263-1A4B3BDD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0FF38-DD55-4E27-894A-ECFCA1C9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C72B5-FE2E-4453-88B8-D33C2CA4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80ED1-F28A-4467-A319-876A1DCE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3AA8E-999A-4562-BA54-F9C6F658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B44E-A75A-4948-B30B-76A461B6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87D81-FF90-4F17-A768-ABD7C55A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666FB-C981-47AC-8FD4-0527D44D9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43687-5247-48AB-B311-6AA1A1784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6D015-BD00-42AC-A5EC-099C41B7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FFF50-48FA-4EDF-8F90-08EC6B50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87B05-1DE7-43B2-8CDB-513EE20F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847BB-7022-4E80-B773-9D15B25D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7B028-7C81-4C7C-895A-8CD80846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5A15F-2A4C-4B8E-BC2D-B41072DD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A3181-3B8C-4233-BEEB-29FEDCDB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4F6A-2A10-4537-A7DC-BA8D62C3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896CE-8E82-407B-934B-7AEB0279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0F2C9-1498-4060-8C51-78C3B58D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4DE69-87D0-47B2-B5A5-12BCECA2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CFA53-EFD2-4CC9-969B-7DA3EB1B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E9E5C-42AF-43F0-BCAC-06639932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90E44-C278-4443-8925-CB9500522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51C39-89D7-4CEA-92E5-07B07C09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04E90-65F6-41C2-9C1A-2ABC4D14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906B9-FBC2-4F9C-A6BE-0DBBFD89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C8125-5678-429B-9A4B-712B3C5D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C923-ADCF-4423-980B-6E6F8CFE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D7C18-0883-4CA4-B8BF-CD7589F8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330AD-8EF0-4383-9AE9-292EFC3C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A45BB-B73B-406F-9DA1-C6901E5B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F272A-3678-405A-AA24-3F666918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41B22-B899-417F-9665-F258294B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76718-687C-474C-997F-7EF2C993D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FAC85-88A3-47BA-B3D6-A3D4F947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22CB-1F61-4FF8-8690-D2F71677741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F704-CD3C-4681-9A87-713A6AE059E1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37B3-34B2-4778-A128-AC062DB961ED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D428-E334-410E-B0EB-43F30586D9A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ACE0-0C42-4713-BD83-7B5F6822DFAA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CAB4-C1F8-4304-A390-224C5E4B03E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0F13-1305-4283-959A-D688DC82DE47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A7F2-C9CF-4B46-B561-B4A88BEB9C6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ECA6-1AFA-4ED2-8182-372571D814EA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54F6-0E24-488F-8E0F-9131B898090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BB6B-51A6-4CF8-92D5-9BC922E74B3C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217B-4237-4A4E-A210-DCE506D0217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0A72-A790-4B30-B9B8-D8114E38C422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DCCC-EC08-4DD2-89AD-DB011BFD886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EC5D-26B7-49F1-B5FF-37AD2C4CA957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15F8-D0FF-49F8-9AD0-B7E873462E7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1557000"/>
            <a:ext cx="752184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2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Quels objectifs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et quelles démarches ?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7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3EE8-5459-47C4-8C74-2088E42BA5A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ux « cadres » de référenc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0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D499-B8A8-4695-8F44-5F2023D2283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826920" y="1197000"/>
            <a:ext cx="6697800" cy="64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Le Projet Pluridisciplinaire à Caractère Professionnel </a:t>
            </a:r>
            <a:br>
              <a:rPr sz="2000"/>
            </a:b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Réalisation, en équipe, d'un objectif prenant en compte  les enseignements généraux mobilisés dans toute activité professionnelle ». (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Le socle commun et la compétence 1: Maîtrise de la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Savoir lire, écrire et parler le français conditionne l'accès à tous les domaines du savoir et l'acquisition de toutes les compétences . »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Faire accéder tous les élèves à la maîtrise de la langue française, à une expression précise et claire à l'oral comme à l'écrit, relève de l'enseignement du français mais aussi de toutes les disciplines. »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21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s objectifs des ateliers rédactionnels </a:t>
            </a:r>
            <a:r>
              <a:rPr b="0" lang="fr-FR" sz="2400" spc="-1" strike="noStrike">
                <a:solidFill>
                  <a:srgbClr val="c00000"/>
                </a:solidFill>
                <a:latin typeface="Franklin Gothic Medium"/>
                <a:ea typeface="Times New Roman"/>
              </a:rPr>
              <a:t>(RC. Annexe III c)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4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1691-8553-4EAE-88B2-E1CD9C64DA0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"/>
          <p:cNvSpPr/>
          <p:nvPr/>
        </p:nvSpPr>
        <p:spPr>
          <a:xfrm>
            <a:off x="250920" y="140652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« 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évelopper des comportements professionnels adaptés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aux contextes et situations rencontrés (écoute, rigueur, réactivité, créativité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S’approprier les contextes de production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es documents et supports de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Conceptualiser les différents documents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et supports de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Produire des documents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et supports de communication dans le respect de consignes, de procédures ou d’un cahier des char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Contrôler la qualité rédactionnelle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es documents et supports traités.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21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ans la logique des situations professionnell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8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4061-777A-4418-9EBD-85676476E41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ZoneTexte 4"/>
          <p:cNvSpPr/>
          <p:nvPr/>
        </p:nvSpPr>
        <p:spPr>
          <a:xfrm>
            <a:off x="1042920" y="1844640"/>
            <a:ext cx="75614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Préambule du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-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Les savoirs rédactionnels sont centrés sur la production écrite en situation professionnel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- Ces savoirs sont présents dans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17 situations professionnelles sur les 55 que comporte le référentiel.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2240" y="1268280"/>
            <a:ext cx="752184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3 . </a:t>
            </a:r>
            <a:br>
              <a:rPr sz="3200"/>
            </a:b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our quels apprentissages ?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017D-B3A3-4E35-B79F-2F0BAB594BA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genres d’écrits à travailler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22240" y="110016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Dans le cadre des 17 situations professionnelles du RC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urrier d’un partenaire ou à un partenaire (réclamation à un fournisseur, relance client, sollicitation auprès d’une administration etc.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s consignes de sécurité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s documents d’accueil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urrier à un salarié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discour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’annonce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mpte rendu de réunion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a fiche de synthèse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descriptif d’un projet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rapport d’étape d’un projet etc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458F-F34A-4BE8-B531-66537EA2070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ur présentation dans le référenti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D453-F06C-4CF1-BC33-680DABAB69E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395280" y="879480"/>
          <a:ext cx="8496360" cy="515160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1825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7160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nnées comptables et commerciales de l’organis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des d’accès aux sites de déclarations des formalités administr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juridiques relatives aux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sur le ou les partenaires concernés par la form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nécessaires à l’élaboration des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à respecter pour maintenir la relation avec les différentes administ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 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services et interlocuteurs de l’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njeux de l’accomplissement des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urriers types de demandes administr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incipales formalités administratives, y compris au sein de l’UE et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administrations, leurs finalités et leurs champs d’interven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subven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rganismes europé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courrier de sollicitation auprès d’une 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positionnement et la situation de l’émett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a description et la justification de la requê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s codes et règles du courrier aux administ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lexique du souhait, de la demande, de l’autor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s modes et temps des verbes : conditi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techn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nécessitant un processus long : échanges, validations, rendez-vo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intégrant des données jurid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nombreuses exigeant l’établissement d’un calendri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au sein de l’UE ou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incomplètes ou non confor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hors déla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déclarée irrecevable par l’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formalités administratives courantes sont réalisé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ndre en charge des formalités administratives liées à l’activ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ect des obligations administratives liées à l’activ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ur présentation dans le référenti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822240" y="1100160"/>
            <a:ext cx="752184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1.3. Gestion administrative des relations avec les autres partenaires</a:t>
            </a:r>
            <a:r>
              <a:rPr b="1" lang="fr-FR" sz="1700" spc="-1" strike="noStrike">
                <a:solidFill>
                  <a:srgbClr val="4f81bd"/>
                </a:solidFill>
                <a:latin typeface="Arial"/>
                <a:ea typeface="Times New Roman"/>
              </a:rPr>
              <a:t>  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b81bd"/>
                </a:solidFill>
                <a:latin typeface="Arial"/>
                <a:ea typeface="Times New Roman"/>
              </a:rPr>
              <a:t>1.3.3. Traitement des formalités administratives</a:t>
            </a: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28374a"/>
                </a:solidFill>
                <a:latin typeface="Franklin Gothic Book"/>
              </a:rPr>
              <a:t>Savoirs associé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avoirs rédactionnels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- Lecture et écriture d’un genre 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courrier de sollicitation auprès d’une administr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- Procédés d’écritur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positionnement et la situation de l’émetteur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a description et la justification de la requêt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s codes et règles du courrier aux administrations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lexique du souhait, de la demande, de l’autoris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s modes et temps des verbes : conditionnel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FEC4-BFC5-404E-98CC-C140D42CD5F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courrier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822240" y="907920"/>
            <a:ext cx="7521840" cy="532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SARL   ESCOUZEL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roduits régionaux et biologiques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lace Royale                                                                                Labastide, le 1</a:t>
            </a:r>
            <a:r>
              <a:rPr b="1" lang="fr-FR" sz="1000" spc="-1" strike="noStrike" baseline="30000">
                <a:solidFill>
                  <a:srgbClr val="000000"/>
                </a:solidFill>
                <a:latin typeface="Franklin Gothic Book"/>
              </a:rPr>
              <a:t>er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octobre 2011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40240 Labastide d’Armagnac                                                                                                  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     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Monsieur le Maire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Hôtel de Ville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lace Royale    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40240 Labastide d’Armagnac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Objet : modification couleur menuiseries extérieures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Monsieur le Maire,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Comme suite à notre courrier du 24 août dernier au service départemental de l’architecture et du patrimoine des Landes, et à la rencontre du 22 septembre avec Monsieur Gileti, architecte des Bâtiments de France et à son courrier du 29, nous avons pris bonne note des références qu’il nous a conseillées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Nous avons donc l’honneur de vous informer que, conformément à l’avis de Monsieur Gileti, nous allons utiliser, pour la peinture des menuiseries extérieures de notre commerce de Labastide d’Armagnac , les références des couleurs suivantes :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fr-FR" sz="1000" spc="-1" strike="noStrike">
                <a:solidFill>
                  <a:srgbClr val="000000"/>
                </a:solidFill>
                <a:latin typeface="Franklin Gothic Book"/>
              </a:rPr>
              <a:t>Nuancier Sikkens Color, collection 2021, page 88, G8.1060 ou G8.1070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Nous vous prions d’agréer, Monsieur le Maire, l’expression de nos salutations les plus distinguées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 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Le Gérant, Pierre Escouzel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copie : M. Gileti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 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DEF6-76D3-4954-8BC8-5A8754FE6C3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Image 11" descr="label-ab-europeen.jpg"/>
          <p:cNvPicPr/>
          <p:nvPr/>
        </p:nvPicPr>
        <p:blipFill>
          <a:blip r:embed="rId1"/>
          <a:stretch/>
        </p:blipFill>
        <p:spPr>
          <a:xfrm>
            <a:off x="900000" y="981000"/>
            <a:ext cx="576360" cy="385920"/>
          </a:xfrm>
          <a:prstGeom prst="rect">
            <a:avLst/>
          </a:prstGeom>
          <a:ln w="0">
            <a:noFill/>
          </a:ln>
        </p:spPr>
      </p:pic>
      <p:sp>
        <p:nvSpPr>
          <p:cNvPr id="421" name="Bouton d'action : Personnalisé 5">
            <a:hlinkClick r:id="rId2" action="ppaction://hlinksldjump"/>
          </p:cNvPr>
          <p:cNvSpPr/>
          <p:nvPr/>
        </p:nvSpPr>
        <p:spPr>
          <a:xfrm>
            <a:off x="179280" y="580536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Franklin Gothic Book"/>
              </a:rPr>
              <a:t>+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Bouton d'action : Personnalisé 6">
            <a:hlinkClick r:id="rId3" action="ppaction://hlinksldjump"/>
          </p:cNvPr>
          <p:cNvSpPr/>
          <p:nvPr/>
        </p:nvSpPr>
        <p:spPr>
          <a:xfrm>
            <a:off x="171360" y="5326200"/>
            <a:ext cx="432000" cy="263520"/>
          </a:xfrm>
          <a:custGeom>
            <a:avLst/>
            <a:gdLst>
              <a:gd name="textAreaLeft" fmla="*/ 16920 w 432000"/>
              <a:gd name="textAreaRight" fmla="*/ 415080 w 432000"/>
              <a:gd name="textAreaTop" fmla="*/ 16920 h 263520"/>
              <a:gd name="textAreaBottom" fmla="*/ 246600 h 263520"/>
            </a:gdLst>
            <a:ahLst/>
            <a:rect l="textAreaLeft" t="textAreaTop" r="textAreaRight" b="textAreaBottom"/>
            <a:pathLst>
              <a:path w="35391" h="21600">
                <a:moveTo>
                  <a:pt x="0" y="0"/>
                </a:moveTo>
                <a:lnTo>
                  <a:pt x="35391" y="0"/>
                </a:lnTo>
                <a:lnTo>
                  <a:pt x="35391" y="21600"/>
                </a:lnTo>
                <a:lnTo>
                  <a:pt x="0" y="21600"/>
                </a:lnTo>
                <a:close/>
              </a:path>
              <a:path fill="lightenLess" w="35391" h="21600">
                <a:moveTo>
                  <a:pt x="0" y="0"/>
                </a:moveTo>
                <a:lnTo>
                  <a:pt x="35391" y="0"/>
                </a:lnTo>
                <a:lnTo>
                  <a:pt x="33991" y="1400"/>
                </a:lnTo>
                <a:lnTo>
                  <a:pt x="1400" y="1400"/>
                </a:lnTo>
                <a:close/>
              </a:path>
              <a:path fill="darken" w="35391" h="21600">
                <a:moveTo>
                  <a:pt x="35391" y="0"/>
                </a:moveTo>
                <a:lnTo>
                  <a:pt x="35391" y="21600"/>
                </a:lnTo>
                <a:lnTo>
                  <a:pt x="33991" y="20200"/>
                </a:lnTo>
                <a:lnTo>
                  <a:pt x="33991" y="1400"/>
                </a:lnTo>
                <a:close/>
              </a:path>
              <a:path fill="darkenLess" w="35391" h="21600">
                <a:moveTo>
                  <a:pt x="35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91" y="20200"/>
                </a:lnTo>
                <a:close/>
              </a:path>
              <a:path fill="lighten" w="35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Franklin Gothic Book"/>
              </a:rPr>
              <a:t>+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xploitation des cinq niveaux </a:t>
            </a:r>
            <a:r>
              <a:rPr b="0" lang="fr-FR" sz="1800" spc="-1" strike="noStrike">
                <a:solidFill>
                  <a:srgbClr val="c00000"/>
                </a:solidFill>
                <a:latin typeface="Franklin Gothic Medium"/>
              </a:rPr>
              <a:t>(RC Annexe III c)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22240" y="1267920"/>
            <a:ext cx="75218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1. Communication et énonci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Contexte, situation de communication et ses marques dans l’énonciation du text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identités des interlocuteurs, pronoms personnels, indicateurs temporels, temps verbaux  (antériorité, simultanéité, postériorité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2. Visées et enjeux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Visée informative avec un enjeu « civique » implicit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Mode indicatif, phrases déclaratives, mise en paragraphes, valorisation de la décision, lexique  « neutre »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3.Genres des documents professionnel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 courrier d’information d’un  commerçant  à une administr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Mise en page du courrier, formules d’usage…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9EC3-8013-4EE2-8AE7-72334E0A8CF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Bouton d'action : Personnalisé 7">
            <a:hlinkClick r:id="rId1" action="ppaction://hlinksldjump"/>
          </p:cNvPr>
          <p:cNvSpPr/>
          <p:nvPr/>
        </p:nvSpPr>
        <p:spPr>
          <a:xfrm>
            <a:off x="250920" y="5981760"/>
            <a:ext cx="612720" cy="287280"/>
          </a:xfrm>
          <a:custGeom>
            <a:avLst/>
            <a:gdLst>
              <a:gd name="textAreaLeft" fmla="*/ 18360 w 612720"/>
              <a:gd name="textAreaRight" fmla="*/ 594360 w 612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6039" h="21600">
                <a:moveTo>
                  <a:pt x="0" y="0"/>
                </a:moveTo>
                <a:lnTo>
                  <a:pt x="46039" y="0"/>
                </a:lnTo>
                <a:lnTo>
                  <a:pt x="46039" y="21600"/>
                </a:lnTo>
                <a:lnTo>
                  <a:pt x="0" y="21600"/>
                </a:lnTo>
                <a:close/>
              </a:path>
              <a:path fill="lightenLess" w="46039" h="21600">
                <a:moveTo>
                  <a:pt x="0" y="0"/>
                </a:moveTo>
                <a:lnTo>
                  <a:pt x="46039" y="0"/>
                </a:lnTo>
                <a:lnTo>
                  <a:pt x="44639" y="1400"/>
                </a:lnTo>
                <a:lnTo>
                  <a:pt x="1400" y="1400"/>
                </a:lnTo>
                <a:close/>
              </a:path>
              <a:path fill="darken" w="46039" h="21600">
                <a:moveTo>
                  <a:pt x="46039" y="0"/>
                </a:moveTo>
                <a:lnTo>
                  <a:pt x="46039" y="21600"/>
                </a:lnTo>
                <a:lnTo>
                  <a:pt x="44639" y="20200"/>
                </a:lnTo>
                <a:lnTo>
                  <a:pt x="44639" y="1400"/>
                </a:lnTo>
                <a:close/>
              </a:path>
              <a:path fill="darkenLess" w="46039" h="21600">
                <a:moveTo>
                  <a:pt x="46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39" y="20200"/>
                </a:lnTo>
                <a:close/>
              </a:path>
              <a:path fill="lighten" w="46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Franklin Gothic Book"/>
              </a:rPr>
              <a:t>Courr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s compétences…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aux ateliers rédactionnel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xploitation des cinq niveaux (suite)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822240" y="1099800"/>
            <a:ext cx="752184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4. Lexique professionnel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xique thématiqu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xique usuel codifié selon l’usage et les relations (hiérarchiques ou entre « pairs »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5. Mobilisation de connaissances et de codes orthographique, grammatical et syntaxiqu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caractères typographique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« marques de personne », les modes et temps verbaux, (valeurs et conjugaisons), les accords, la syntaxe, la ponctu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a cohésion du texte (connecteurs, faits de reprise) et cohérence logique (mise en paragraphes, progression de l’information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niveaux de langue et l’orthographe lexical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Une révision en situation, au fil de l’écriture et de la réécritur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3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2A26-DAB4-4D88-80F2-37F0AFF5FE6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Bouton d'action : Personnalisé 6">
            <a:hlinkClick r:id="rId1" action="ppaction://hlinksldjump"/>
          </p:cNvPr>
          <p:cNvSpPr/>
          <p:nvPr/>
        </p:nvSpPr>
        <p:spPr>
          <a:xfrm>
            <a:off x="250920" y="5981760"/>
            <a:ext cx="612720" cy="287280"/>
          </a:xfrm>
          <a:custGeom>
            <a:avLst/>
            <a:gdLst>
              <a:gd name="textAreaLeft" fmla="*/ 18360 w 612720"/>
              <a:gd name="textAreaRight" fmla="*/ 594360 w 612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6039" h="21600">
                <a:moveTo>
                  <a:pt x="0" y="0"/>
                </a:moveTo>
                <a:lnTo>
                  <a:pt x="46039" y="0"/>
                </a:lnTo>
                <a:lnTo>
                  <a:pt x="46039" y="21600"/>
                </a:lnTo>
                <a:lnTo>
                  <a:pt x="0" y="21600"/>
                </a:lnTo>
                <a:close/>
              </a:path>
              <a:path fill="lightenLess" w="46039" h="21600">
                <a:moveTo>
                  <a:pt x="0" y="0"/>
                </a:moveTo>
                <a:lnTo>
                  <a:pt x="46039" y="0"/>
                </a:lnTo>
                <a:lnTo>
                  <a:pt x="44639" y="1400"/>
                </a:lnTo>
                <a:lnTo>
                  <a:pt x="1400" y="1400"/>
                </a:lnTo>
                <a:close/>
              </a:path>
              <a:path fill="darken" w="46039" h="21600">
                <a:moveTo>
                  <a:pt x="46039" y="0"/>
                </a:moveTo>
                <a:lnTo>
                  <a:pt x="46039" y="21600"/>
                </a:lnTo>
                <a:lnTo>
                  <a:pt x="44639" y="20200"/>
                </a:lnTo>
                <a:lnTo>
                  <a:pt x="44639" y="1400"/>
                </a:lnTo>
                <a:close/>
              </a:path>
              <a:path fill="darkenLess" w="46039" h="21600">
                <a:moveTo>
                  <a:pt x="46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39" y="20200"/>
                </a:lnTo>
                <a:close/>
              </a:path>
              <a:path fill="lighten" w="46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Franklin Gothic Book"/>
              </a:rPr>
              <a:t>Courr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75218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4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Quels types d’ateliers et comment les mettre en place ?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4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401C-D7F1-497F-8AB8-A6E6321C9A6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ifférents types d’atelie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7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7C8D-EEBC-4C49-896B-6DF5DA73723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oneTexte 4"/>
          <p:cNvSpPr/>
          <p:nvPr/>
        </p:nvSpPr>
        <p:spPr>
          <a:xfrm>
            <a:off x="826920" y="1197000"/>
            <a:ext cx="734544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’observation et d’analyse du réel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à partir de documents et supports de communication exista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simula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de situations professionnel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produc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à partir de demandes réel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partage d’expériences de produc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après des PFM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- Ateliers de transposition rédactionnelle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(changement d’énonciateur, de cibles, de contraintes, de supports… dans des contextes plus ou moins critiqu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’auto-formation,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notamment aux logiciels dédié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12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Avec une organisation propre à chaque établissemen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821880" y="1557360"/>
            <a:ext cx="7637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Franklin Gothic Book"/>
              </a:rPr>
              <a:t>Des séances en co-animation dans le cadre (et/ou) 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 horaires dédiés à l’Enseignement Général en Lien avec la Spécialité (EGLS)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 horaires dédiés à l’accompagnement personnalisé (AP)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PFMP : avant, pendant et après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 projets à caractère pluridisciplinaire et professionnel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→  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Pas d’horaires spécifiques. Projet d’établissement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8374a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8374a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4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A76E-DF43-4656-AA0C-D197A645EA4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n guise de conclusion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822240" y="1100160"/>
            <a:ext cx="752184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« Écrire est toujours un art plein de rencontr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La lettre la plus simple suppose un choix entr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des milliers de mots, dont la plupart sont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étrangers à ce que vous voulez dire. »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Franklin Gothic Book"/>
              </a:rPr>
              <a:t>Alain - 1934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4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560E-0DB2-444A-B84B-E2AD25AF934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lan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2240" y="1100160"/>
            <a:ext cx="752184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Pourquoi des ateliers rédactionnels ?  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Quels objectifs  et quelles démarches?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Pour quels apprentissages?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Quels types d’ateliers et comment les mettre en place ? 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1187-C9C2-46B7-8EF6-CB2D34163E9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1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ourquoi des ateliers rédactionnels ?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975A-85A0-490A-AD71-A01A7155E4A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indispensables au professi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22240" y="1989000"/>
            <a:ext cx="75218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Note d’opportunité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28374a"/>
                </a:solidFill>
                <a:latin typeface="Franklin Gothic Book"/>
              </a:rPr>
              <a:t>« La compétence à communiquer intègre une maîtrise langagière spécifique du métier et une utilisation du lexique de l’organisation dans tout type de contexte et de situation professionnels. »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AF9A-E548-4955-ADA0-240F4E55CE7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indispensables au professi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6920" y="1125360"/>
            <a:ext cx="752184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Le Référentiel d’Activités Professionnelles  (RAP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28374a"/>
                </a:solidFill>
                <a:latin typeface="Franklin Gothic Book"/>
              </a:rPr>
              <a:t>«</a:t>
            </a:r>
            <a:r>
              <a:rPr b="0" i="1" lang="fr-FR" sz="2800" spc="-1" strike="noStrike">
                <a:solidFill>
                  <a:srgbClr val="28374a"/>
                </a:solidFill>
                <a:latin typeface="Franklin Gothic Book"/>
              </a:rPr>
              <a:t>  </a:t>
            </a:r>
            <a:r>
              <a:rPr b="1" i="1" lang="fr-FR" sz="2400" spc="-1" strike="noStrike">
                <a:solidFill>
                  <a:srgbClr val="28374a"/>
                </a:solidFill>
                <a:latin typeface="Franklin Gothic Book"/>
              </a:rPr>
              <a:t>Dans son rôle d’interface et de producteur de documents et de supports de communication, le titulaire du baccalauréat professionnel Gestion-Administration doit maîtriser la qualité de son expression écrite et orale. Vecteur de l’image de l’organisation, sa maîtrise de l’orthographe et de la syntaxe est impérative. »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8E53-DF40-4D16-94D6-2DCE753794E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complex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826920" y="1341360"/>
            <a:ext cx="752184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s situations de communication et des productions écrites très diverses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Mobilisant des connaissances et capacités langagières spécifiques variant selon les productions attendues 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 la part d’élèves ou d’apprentis qui, au sortir de la troisième générale ou de la troisième préparant à la voie professionnelle, n’auront peut-être pas encore validé la compétence 1 du socle commun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37F4-80C7-436D-969B-A8DFC692596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e nécessaire collabora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55280" y="1267920"/>
            <a:ext cx="7588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Un enseignement en co-disciplinarité: professeur de français (PLP Lettres-histoire ou PLP langue-Lettres) et professeur d’économie-gestion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Chaque professeur apportant, selon les productions travaillées, ses compétences disciplinaires spécifiques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Dans un esprit de découverte, de mutualisation et d’enrichissement réciproques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7C21-BC66-47F0-B0D0-EBF2F7A71DC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our des finalités divers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822240" y="1099800"/>
            <a:ext cx="75218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faire  évoluer les représentations des jeunes dans l’apprentissage d’un métier :  liaison EG /EP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faciliter les poursuites d’étud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parfaire les compétences  rédactionnelles des jeunes qu’elles soient professionnelles ou plus personnell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E946-3570-4C01-B5B4-2ED3BBA96BC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6:57:33Z</dcterms:created>
  <dc:creator>Simon</dc:creator>
  <dc:description/>
  <cp:keywords/>
  <dc:language>en-US</dc:language>
  <cp:lastModifiedBy>Edith Simon</cp:lastModifiedBy>
  <dcterms:modified xsi:type="dcterms:W3CDTF">2011-10-25T19:03:02Z</dcterms:modified>
  <cp:revision>167</cp:revision>
  <dc:subject/>
  <dc:title>Présentation PowerPoint</dc:title>
</cp:coreProperties>
</file>