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A196-BB89-4F05-A804-1B8DEF80DA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6F5B-CE08-441E-9A41-AEAF85CB74B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BD1B-9AA7-489E-8C23-5300A3EDEC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E9BA-D24D-49AB-BF7F-CE20D800F8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7C99-0D50-4313-98D7-D5BA7F20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6930-CC04-483B-B640-E428977E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B1B1-8FA9-49BB-B840-63E04BA77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209-425A-413E-A274-1768D2DF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2DE7-F361-4CE0-9997-3E8F3C050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F9F-4738-4E51-AF47-81F8A098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2CEA-4E47-4D19-A7F9-2B11A9FB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EF09-15BA-4D64-A43D-26AFA48D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71F0-4912-4228-BCB6-1FF6E30B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9AC5-B233-4BA3-8729-6D6F4B04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9712-C180-463A-AE2D-8B9DFA6F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106B-D6E5-4713-BD3C-BF565080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0550-01BD-44AB-987C-86C03A6D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B970-0278-4444-BC6F-176FED99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10030-94C2-411A-98A1-0B071BFB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A981-FBC7-43E1-9201-9F5768EA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9FB87-ABD1-45F0-9183-64FABD02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A833D-7FF0-497D-B1B3-FC5D1A7E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6AAD7-52E0-4523-A94C-3931E3ED0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5FA40-3A0F-4E7E-9C2B-18287399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78C55-6D91-41DD-88AF-EB37556B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58C2A-59FA-43C8-AD70-192CEA0C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736C-4312-410A-9D96-9B5F4F7D1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30979-A9F7-47AC-8BAD-BD01F3216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CDD83-109E-41BE-A2F0-B03126DE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19EF-9CCC-45FF-B182-D587352DB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F97D6-213D-4CF8-9BD6-8F01B471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DA3C-C260-4D26-8F30-2BA6658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046D-E087-4B02-B617-2A0C1C751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2340-AC7D-45C3-9CCA-0461D28E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7FE6C-1AB4-4ACB-89F0-1AA85A6D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66A57-FDA0-4075-86AB-9EF1FE5E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2BC20-7C43-4759-BEAA-75DDA51A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26D6-11A2-404C-B1A6-EA27FB5C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A6DD5-68EC-4D94-80EB-C31A84CF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090E-5D8B-46F9-936D-0E5B61C5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84BE-E48A-43D7-8CA6-01E0586B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36C2A-EF47-411A-863E-EE443512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DF4F3-7ADE-42F2-B3EF-BDCC128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A5E6-18EA-4E1A-A7EC-146F5400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5C98-692E-4C23-97D8-A57317A7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8BE57-6D85-47DE-939D-406157B8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A28BB-4D4C-44B8-AC17-5C9E97E2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0CFD6-C1BB-4D04-AAC3-20E1FCA9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D61-9DDD-4046-A89B-9FD46A53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89E70-F5F7-4E52-81D1-7BCF0464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BE185-87C7-4119-A193-8C01C149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09B32-D985-454D-8099-8479EE35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6EC1F-92BD-4EA2-AB59-682D71F2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06066-BA08-4923-9FA4-72514DFB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54C3F-04D9-49E7-8113-ADDF5B89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CA6A1-8447-4046-AD7A-72DD6EBA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5A312-5A79-4309-8A85-D32D588B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3B6A7-0FD1-44B6-9E8B-DCF531D9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2ADB8-72FF-44BC-8313-963C53DE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A61-4751-4B5B-B633-0A899F305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FAE11-C1D5-41DD-A80C-EF4B27C8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D2035-92F5-4A8D-A3BC-0D74BCD07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C49A73-61C4-4DCB-A7E8-FEDC80DE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B9D83-A0EE-4A87-B7BF-882E834D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E3C1E-6A41-4BED-9126-BF9E020D4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A92B6-C93B-411B-9539-361AC16B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FA46-CCAF-4A95-A096-3B94D6C1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25450-5B26-44DA-8F63-FBAB929F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C640-57EF-416B-B945-182923FB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7A8DF-3FEF-4E84-AD0C-EC071043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9A1-801F-48D2-8547-662FF59B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8E61C-EAB0-4FA3-8A83-BCDFC415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AE896-92E6-4ADD-B2C8-C99C4E64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CF2D9-0960-4258-AF98-44EC7D13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95BCC-9B2F-4AA4-8906-C523AD1F2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01B48-E4BA-4B53-96D5-0C690107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AF0C1-344B-4D83-883B-5DF74724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1D04F-A26D-488B-8895-EA1A20D8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61F83E-0852-4BA8-BD61-3303E3BA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6C2EF-D717-44E5-8CFA-3B0E1B54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F9B92-9B95-4E7D-8594-F964C2B0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A20-6529-4EBE-8B29-7737E84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C1ACA-9D73-4284-AAC2-6220783F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D92CB-EF90-44F1-B24C-347D7F44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D3E55-C70F-4A70-9B2F-7DBD403F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84E9B-C393-4559-9788-7B444617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C0F48-FBC7-48D2-992F-D24356A05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965B4-E171-41D7-B9E0-B7F7B3B3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3BDEC1-0415-4DE3-BC11-F2E244EC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D40A4-01C4-4A98-8289-499835E9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B5B5F-D540-4069-85FC-0750E6C1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8B514-11C5-423D-B78B-6F8F2196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7D8B-BD38-4177-B0EE-05028E24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12764-6D7E-4734-86E2-6028E563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03A129-3E32-4983-9B7F-F802C982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B2E21-FCE4-457D-9CE3-78BA351B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CE622-3889-4C76-879D-177F2795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BC132-3251-448E-98C5-7D943AA1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EF11F-8972-4359-A6B8-CDA18815E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575FF-471B-437F-99E3-EF507E95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E00CC-05E2-4704-9379-F78BA9096B2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517F0-52A3-4AF6-805A-483C2AC84AF3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CF06E-612F-4667-BECC-8E6105234B40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7686-0E90-4C3E-AA2C-21843E817A8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E1A3-1C71-41E0-86FD-7E676C3E8F8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01BD-B4BF-4798-8190-C6E350459CF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418E-1D5D-4B16-B2C3-5FFF4A2DD9D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4BB9-0137-4C9A-B73E-67D66C1EEAE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82CC-B374-44A0-B880-87544083014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3C0D-E69B-4423-9BB6-F3B01DB02E4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CAA5-F5C5-4262-96A7-CB7BA9A9DCC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6EFD-81C6-49DD-8519-4EB8331B982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65019-EC2C-470A-BC47-D51FDD2FB68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CC39-7B6A-4E68-B798-7BB9A428E9D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B679B-8A09-4D99-A533-22308ED28F6E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5B9D-C8FB-4C1F-8B9A-95EF167E048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e procédures relevant de la santé et la sécurité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oduire des supports associés aux procédures santé - sécurité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6540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place d’activités sociales et culturel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73480" indent="-149040">
              <a:lnSpc>
                <a:spcPct val="19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en œuvre des actions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1D19-CC28-437D-B889-0EA3F59BF2C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"/>
          <p:cNvSpPr/>
          <p:nvPr/>
        </p:nvSpPr>
        <p:spPr>
          <a:xfrm>
            <a:off x="5580000" y="4941720"/>
            <a:ext cx="356400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NIVEAU DE PRISE EN COMPTE DE LA COHE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6"/>
          <p:cNvSpPr/>
          <p:nvPr/>
        </p:nvSpPr>
        <p:spPr>
          <a:xfrm>
            <a:off x="6767640" y="234936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Bouton d'action : Personnalisé 7"/>
          <p:cNvSpPr/>
          <p:nvPr/>
        </p:nvSpPr>
        <p:spPr>
          <a:xfrm>
            <a:off x="8317080" y="3789360"/>
            <a:ext cx="826920" cy="431640"/>
          </a:xfrm>
          <a:custGeom>
            <a:avLst/>
            <a:gdLst>
              <a:gd name="textAreaLeft" fmla="*/ 27720 w 826920"/>
              <a:gd name="textAreaRight" fmla="*/ 799200 w 8269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1364" h="21600">
                <a:moveTo>
                  <a:pt x="0" y="0"/>
                </a:moveTo>
                <a:lnTo>
                  <a:pt x="41364" y="0"/>
                </a:lnTo>
                <a:lnTo>
                  <a:pt x="41364" y="21600"/>
                </a:lnTo>
                <a:lnTo>
                  <a:pt x="0" y="21600"/>
                </a:lnTo>
                <a:close/>
              </a:path>
              <a:path fill="lightenLess" w="41364" h="21600">
                <a:moveTo>
                  <a:pt x="0" y="0"/>
                </a:moveTo>
                <a:lnTo>
                  <a:pt x="41364" y="0"/>
                </a:lnTo>
                <a:lnTo>
                  <a:pt x="39964" y="1400"/>
                </a:lnTo>
                <a:lnTo>
                  <a:pt x="1400" y="1400"/>
                </a:lnTo>
                <a:close/>
              </a:path>
              <a:path fill="darken" w="41364" h="21600">
                <a:moveTo>
                  <a:pt x="41364" y="0"/>
                </a:moveTo>
                <a:lnTo>
                  <a:pt x="41364" y="21600"/>
                </a:lnTo>
                <a:lnTo>
                  <a:pt x="39964" y="20200"/>
                </a:lnTo>
                <a:lnTo>
                  <a:pt x="39964" y="1400"/>
                </a:lnTo>
                <a:close/>
              </a:path>
              <a:path fill="darkenLess" w="41364" h="21600">
                <a:moveTo>
                  <a:pt x="413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64" y="20200"/>
                </a:lnTo>
                <a:close/>
              </a:path>
              <a:path fill="lighten" w="413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Bouton d'action : Personnalisé 8"/>
          <p:cNvSpPr/>
          <p:nvPr/>
        </p:nvSpPr>
        <p:spPr>
          <a:xfrm>
            <a:off x="8388360" y="1773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3AB7-4911-4146-8E93-85A3B5D1F46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"/>
          <p:cNvSpPr/>
          <p:nvPr/>
        </p:nvSpPr>
        <p:spPr>
          <a:xfrm>
            <a:off x="533880" y="884160"/>
            <a:ext cx="752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1. Gestion administrative courante du personne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Tenue et suivi des dossiers salari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68360" y="1268280"/>
          <a:ext cx="8207280" cy="4464360"/>
        </p:xfrm>
        <a:graphic>
          <a:graphicData uri="http://schemas.openxmlformats.org/drawingml/2006/table">
            <a:tbl>
              <a:tblPr/>
              <a:tblGrid>
                <a:gridCol w="2616120"/>
                <a:gridCol w="2616120"/>
                <a:gridCol w="2975040"/>
              </a:tblGrid>
              <a:tr h="20340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2320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documentation juridique et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réglement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traits de conventions et accords collectif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èles de décla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ul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ertificats, des attest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signes de tenue des dossiers dans l’ent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u personne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registre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n matière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gestion opérationnelle du suivi de dossier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Gestion Électronique des Don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classement et d’archiv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législation du travail adaptée au secteur,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anche, statut, méti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ux types de contrats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es de rupture du contrat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rmalités légales et administratives liées à l’embauche, au suivi et au départ du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bligations relatives à la médecine du travail et aux organismes soci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et procédures de confidenti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venants aux contr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Missions tempor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availleurs étrangers 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élé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gés spécif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Emplois protég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ident du travail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cès d’un salar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 contrôle administr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1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 inexac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ossier déclass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ert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ossiers des personnels sont mis à jour et les formalités administratives sont réalisées dans le respect de la législation du travai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iser des dossiers de personnel dans le respect de la législation du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abilité et exhaustivité des dossiers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17" name="Bouton d'action : Document 7"/>
          <p:cNvSpPr/>
          <p:nvPr/>
        </p:nvSpPr>
        <p:spPr>
          <a:xfrm>
            <a:off x="7812000" y="5661000"/>
            <a:ext cx="720720" cy="576360"/>
          </a:xfrm>
          <a:custGeom>
            <a:avLst/>
            <a:gdLst>
              <a:gd name="textAreaLeft" fmla="*/ 37080 w 720720"/>
              <a:gd name="textAreaRight" fmla="*/ 683640 w 72072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7007" h="21600">
                <a:moveTo>
                  <a:pt x="0" y="0"/>
                </a:moveTo>
                <a:lnTo>
                  <a:pt x="27007" y="0"/>
                </a:lnTo>
                <a:lnTo>
                  <a:pt x="27007" y="21600"/>
                </a:lnTo>
                <a:lnTo>
                  <a:pt x="0" y="21600"/>
                </a:lnTo>
                <a:close/>
              </a:path>
              <a:path fill="lightenLess" w="27007" h="21600">
                <a:moveTo>
                  <a:pt x="0" y="0"/>
                </a:moveTo>
                <a:lnTo>
                  <a:pt x="27007" y="0"/>
                </a:lnTo>
                <a:lnTo>
                  <a:pt x="25607" y="1400"/>
                </a:lnTo>
                <a:lnTo>
                  <a:pt x="1400" y="1400"/>
                </a:lnTo>
                <a:close/>
              </a:path>
              <a:path fill="darken" w="27007" h="21600">
                <a:moveTo>
                  <a:pt x="27007" y="0"/>
                </a:moveTo>
                <a:lnTo>
                  <a:pt x="27007" y="21600"/>
                </a:lnTo>
                <a:lnTo>
                  <a:pt x="25607" y="20200"/>
                </a:lnTo>
                <a:lnTo>
                  <a:pt x="25607" y="1400"/>
                </a:lnTo>
                <a:close/>
              </a:path>
              <a:path fill="darkenLess" w="27007" h="21600">
                <a:moveTo>
                  <a:pt x="270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7" y="20200"/>
                </a:lnTo>
                <a:close/>
              </a:path>
              <a:path fill="lighten" w="270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7007" h="21600">
                <a:moveTo>
                  <a:pt x="7977" y="3985"/>
                </a:moveTo>
                <a:lnTo>
                  <a:pt x="14974" y="3985"/>
                </a:lnTo>
                <a:lnTo>
                  <a:pt x="19030" y="7484"/>
                </a:lnTo>
                <a:lnTo>
                  <a:pt x="19030" y="17615"/>
                </a:lnTo>
                <a:lnTo>
                  <a:pt x="7977" y="17615"/>
                </a:lnTo>
                <a:close/>
              </a:path>
              <a:path fill="darken" w="27007" h="21600">
                <a:moveTo>
                  <a:pt x="14974" y="3985"/>
                </a:moveTo>
                <a:lnTo>
                  <a:pt x="19030" y="7484"/>
                </a:lnTo>
                <a:lnTo>
                  <a:pt x="14974" y="7484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</a:t>
            </a:r>
            <a:r>
              <a:rPr b="0" lang="fr-FR" sz="3200" spc="-1" strike="noStrike">
                <a:solidFill>
                  <a:srgbClr val="00b0f0"/>
                </a:solidFill>
                <a:latin typeface="Franklin Gothic Medium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A1EB-7703-40FC-A5E0-58568FCEB41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"/>
          <p:cNvSpPr/>
          <p:nvPr/>
        </p:nvSpPr>
        <p:spPr>
          <a:xfrm>
            <a:off x="60120" y="764280"/>
            <a:ext cx="919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2.2. Gestion administrative des ressources humaines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2.2.2 Participation à la mise en œuvre d’un programme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250920" y="1197000"/>
          <a:ext cx="8712000" cy="5083200"/>
        </p:xfrm>
        <a:graphic>
          <a:graphicData uri="http://schemas.openxmlformats.org/drawingml/2006/table">
            <a:tbl>
              <a:tblPr/>
              <a:tblGrid>
                <a:gridCol w="2307960"/>
                <a:gridCol w="3426120"/>
                <a:gridCol w="2977920"/>
              </a:tblGrid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5264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documentation juridique et sociale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état des entr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harte graph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intégration du personnel 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rocédures d’accueil des salariés ou stagi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dispositifs d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utils de suivi des procédure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cuments composi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intég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’image de l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hésion socia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ulture d’entrepri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structuration du document : titres, inter ti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mise en page du document : textes, images, schémas, cartes, plans, énumé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infinitif, présent de l'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formulation de consignes et conse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métier de l'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tualisation d’un document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iversité des profils salariés accueill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éparation d’une visite de loca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uivi et bilan d’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formations manquantes ou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Questions non traitées dans les documents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Situation non prévue dans la procédur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753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mise en œuvre du programme d’accueil respecte les consignes données en matière d’intégration du personnel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liquer un programme d’accue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consignes d’intégration du pers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3" name="Bouton d'action : Document 6"/>
          <p:cNvSpPr/>
          <p:nvPr/>
        </p:nvSpPr>
        <p:spPr>
          <a:xfrm>
            <a:off x="8136000" y="508464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3"/>
                </a:moveTo>
                <a:lnTo>
                  <a:pt x="12271" y="3993"/>
                </a:lnTo>
                <a:lnTo>
                  <a:pt x="16327" y="7492"/>
                </a:lnTo>
                <a:lnTo>
                  <a:pt x="16327" y="17623"/>
                </a:lnTo>
                <a:lnTo>
                  <a:pt x="5273" y="17623"/>
                </a:lnTo>
                <a:close/>
              </a:path>
              <a:path fill="darken" w="21600" h="21615">
                <a:moveTo>
                  <a:pt x="12271" y="3993"/>
                </a:moveTo>
                <a:lnTo>
                  <a:pt x="16327" y="7492"/>
                </a:lnTo>
                <a:lnTo>
                  <a:pt x="12271" y="7492"/>
                </a:lnTo>
                <a:close/>
              </a:path>
            </a:pathLst>
          </a:custGeom>
          <a:noFill/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6560" y="1267920"/>
            <a:ext cx="81374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liées à la taille et la structure de l'organisation, parfois rencontrées lors de PFMP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es situations à fort potentiel de développement installées dans un cadre juridique robuste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donc, une évaluation en étude de cas.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5BAB-22D8-4C25-8DFF-A3D83938EB4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2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Gestion administrativ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gestionnaire administratif assure les activités nécessaires au bon déroulement de la gestion administrative des relations avec les salarié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courantes de gestion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du personnel pour tout type de contrat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Opérations</a:t>
            </a:r>
            <a:r>
              <a:rPr b="0" lang="fr-FR" sz="2000" spc="-1" strike="noStrike">
                <a:solidFill>
                  <a:srgbClr val="00b0f0"/>
                </a:solidFill>
                <a:latin typeface="Franklin Gothic Book"/>
              </a:rPr>
              <a:t>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ponctuell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relatives aux mouvements de personnel, à leur carrière et à leur formation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uivi administratif financier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(préparation de la paie, budgets, indicateurs)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ctivités de gestion administrative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 relations sociales 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0F4A-EFDB-49A8-8A2D-A4460419FB9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042920" y="4419000"/>
            <a:ext cx="7274160" cy="1313640"/>
          </a:xfrm>
          <a:prstGeom prst="rect">
            <a:avLst/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  des délais et des consig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Franklin Gothic Book"/>
              </a:rPr>
              <a:t>de la législation en vigueur et des règles et procé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4427640" y="2637000"/>
            <a:ext cx="3529080" cy="72072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826920" y="1197000"/>
            <a:ext cx="7521840" cy="38750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>
                <a:alpha val="50000"/>
              </a:srgbClr>
            </a:solidFill>
            <a:miter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Tenue et suivi des dossiers des salariés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ctualiser des dossiers de personnel dans le respect de la législation du travail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Gestion administrative des temps de trava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écompter et planifier le temps de travai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6D01-E9A8-4167-9F93-937E7433C79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6767640" y="2637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FIABILITE &amp; EXHAUSTIV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1. Gestion administrative courante du 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9700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s déplacement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Préparer et contrôler des déplacemen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Transmission d’informations à destination du personnel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récier la nature et le degré de confidentialité de l’information à destin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8F9E-6814-4740-83CD-959FB96CE91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6767640" y="4797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DE LA TRANS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6767640" y="2060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FFICACITE DU SU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Bouton d'action : Personnalisé 7"/>
          <p:cNvSpPr/>
          <p:nvPr/>
        </p:nvSpPr>
        <p:spPr>
          <a:xfrm>
            <a:off x="8388360" y="3500280"/>
            <a:ext cx="792000" cy="43344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39454" h="21600">
                <a:moveTo>
                  <a:pt x="0" y="0"/>
                </a:moveTo>
                <a:lnTo>
                  <a:pt x="39454" y="0"/>
                </a:lnTo>
                <a:lnTo>
                  <a:pt x="39454" y="21600"/>
                </a:lnTo>
                <a:lnTo>
                  <a:pt x="0" y="21600"/>
                </a:lnTo>
                <a:close/>
              </a:path>
              <a:path fill="lightenLess" w="39454" h="21600">
                <a:moveTo>
                  <a:pt x="0" y="0"/>
                </a:moveTo>
                <a:lnTo>
                  <a:pt x="39454" y="0"/>
                </a:lnTo>
                <a:lnTo>
                  <a:pt x="38054" y="1400"/>
                </a:lnTo>
                <a:lnTo>
                  <a:pt x="1400" y="1400"/>
                </a:lnTo>
                <a:close/>
              </a:path>
              <a:path fill="darken" w="39454" h="21600">
                <a:moveTo>
                  <a:pt x="39454" y="0"/>
                </a:moveTo>
                <a:lnTo>
                  <a:pt x="39454" y="21600"/>
                </a:lnTo>
                <a:lnTo>
                  <a:pt x="38054" y="20200"/>
                </a:lnTo>
                <a:lnTo>
                  <a:pt x="38054" y="1400"/>
                </a:lnTo>
                <a:close/>
              </a:path>
              <a:path fill="darkenLess" w="39454" h="21600">
                <a:moveTo>
                  <a:pt x="3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54" y="20200"/>
                </a:lnTo>
                <a:close/>
              </a:path>
              <a:path fill="lighten" w="3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66520" y="476280"/>
            <a:ext cx="75214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au recrutement du personnel 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aux étapes d’un recrutement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mise en œuvre d'un programme d'accuei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48280" indent="-142200">
              <a:lnSpc>
                <a:spcPct val="21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28374a"/>
                </a:solidFill>
                <a:latin typeface="Franklin Gothic Book"/>
              </a:rPr>
              <a:t>Appliquer un programme d’accueil </a:t>
            </a:r>
            <a:endParaRPr b="0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9200" indent="-1422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marL="298440" indent="-298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03FA-91C8-4AB1-9541-5F8A37F0AD4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6767640" y="422100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DE CONSI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ET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Bouton d'action : Personnalisé 7"/>
          <p:cNvSpPr/>
          <p:nvPr/>
        </p:nvSpPr>
        <p:spPr>
          <a:xfrm>
            <a:off x="8388360" y="1916280"/>
            <a:ext cx="792000" cy="433080"/>
          </a:xfrm>
          <a:custGeom>
            <a:avLst/>
            <a:gdLst>
              <a:gd name="textAreaLeft" fmla="*/ 28080 w 792000"/>
              <a:gd name="textAreaRight" fmla="*/ 763920 w 79200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39486" h="21600">
                <a:moveTo>
                  <a:pt x="0" y="0"/>
                </a:moveTo>
                <a:lnTo>
                  <a:pt x="39486" y="0"/>
                </a:lnTo>
                <a:lnTo>
                  <a:pt x="39486" y="21600"/>
                </a:lnTo>
                <a:lnTo>
                  <a:pt x="0" y="21600"/>
                </a:lnTo>
                <a:close/>
              </a:path>
              <a:path fill="lightenLess" w="39486" h="21600">
                <a:moveTo>
                  <a:pt x="0" y="0"/>
                </a:moveTo>
                <a:lnTo>
                  <a:pt x="39486" y="0"/>
                </a:lnTo>
                <a:lnTo>
                  <a:pt x="38086" y="1400"/>
                </a:lnTo>
                <a:lnTo>
                  <a:pt x="1400" y="1400"/>
                </a:lnTo>
                <a:close/>
              </a:path>
              <a:path fill="darken" w="39486" h="21600">
                <a:moveTo>
                  <a:pt x="39486" y="0"/>
                </a:moveTo>
                <a:lnTo>
                  <a:pt x="39486" y="21600"/>
                </a:lnTo>
                <a:lnTo>
                  <a:pt x="38086" y="20200"/>
                </a:lnTo>
                <a:lnTo>
                  <a:pt x="38086" y="1400"/>
                </a:lnTo>
                <a:close/>
              </a:path>
              <a:path fill="darkenLess" w="39486" h="21600">
                <a:moveTo>
                  <a:pt x="394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86" y="20200"/>
                </a:lnTo>
                <a:close/>
              </a:path>
              <a:path fill="lighten" w="394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Bouton d'action : Personnalisé 8"/>
          <p:cNvSpPr/>
          <p:nvPr/>
        </p:nvSpPr>
        <p:spPr>
          <a:xfrm>
            <a:off x="8388360" y="3645000"/>
            <a:ext cx="755640" cy="431640"/>
          </a:xfrm>
          <a:custGeom>
            <a:avLst/>
            <a:gdLst>
              <a:gd name="textAreaLeft" fmla="*/ 27720 w 755640"/>
              <a:gd name="textAreaRight" fmla="*/ 727920 w 755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7800" h="21600">
                <a:moveTo>
                  <a:pt x="0" y="0"/>
                </a:moveTo>
                <a:lnTo>
                  <a:pt x="37800" y="0"/>
                </a:lnTo>
                <a:lnTo>
                  <a:pt x="37800" y="21600"/>
                </a:lnTo>
                <a:lnTo>
                  <a:pt x="0" y="21600"/>
                </a:lnTo>
                <a:close/>
              </a:path>
              <a:path fill="lightenLess" w="37800" h="21600">
                <a:moveTo>
                  <a:pt x="0" y="0"/>
                </a:moveTo>
                <a:lnTo>
                  <a:pt x="37800" y="0"/>
                </a:lnTo>
                <a:lnTo>
                  <a:pt x="36400" y="1400"/>
                </a:lnTo>
                <a:lnTo>
                  <a:pt x="1400" y="1400"/>
                </a:lnTo>
                <a:close/>
              </a:path>
              <a:path fill="darken" w="37800" h="21600">
                <a:moveTo>
                  <a:pt x="37800" y="0"/>
                </a:moveTo>
                <a:lnTo>
                  <a:pt x="37800" y="21600"/>
                </a:lnTo>
                <a:lnTo>
                  <a:pt x="36400" y="20200"/>
                </a:lnTo>
                <a:lnTo>
                  <a:pt x="36400" y="1400"/>
                </a:lnTo>
                <a:close/>
              </a:path>
              <a:path fill="darkenLess" w="37800" h="21600">
                <a:moveTo>
                  <a:pt x="37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00" y="20200"/>
                </a:lnTo>
                <a:close/>
              </a:path>
              <a:path fill="lighten" w="37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Franklin Gothic Book"/>
              </a:rPr>
              <a:t>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2. Gestion administrative des ressources humain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822240" y="1699920"/>
            <a:ext cx="75218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carrièr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ppliquer à chaque cas traité les règles spécifiques de suivi de carriè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et suivi de la formation du personnel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2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Assurer des opérations administratives liées à la formation du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9B26-BFCC-476A-BA24-17C83B7EA1F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6767640" y="5157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 &amp; SECUR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6767640" y="306864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QUALITE &amp; PERTIN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3. Gestion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administrativ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rémunération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t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budgets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</a:t>
            </a: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  </a:t>
            </a: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ers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84360" y="1700280"/>
            <a:ext cx="7519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bulletins de salaire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et contrôler la vraisemblance des états préparatoires aux bulletins de salaire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déclarations soci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nseigner des états préparatoires aux déclarations social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28374a"/>
                </a:solidFill>
                <a:uFillTx/>
                <a:latin typeface="Franklin Gothic Book"/>
              </a:rPr>
              <a:t>Participation à la préparation et au suivi budgétaire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un état budgétaire et signaler les écart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303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C18F1-325A-4D95-A9AF-8E81FF71492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6767640" y="558972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767640" y="465300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6767640" y="2924280"/>
            <a:ext cx="2376360" cy="64908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COHERENCE EXACT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2.4. Gestion administrative des relations sociales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2240" y="1700280"/>
            <a:ext cx="752184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Suivi administratif des obligations liées aux instances représentatives du personnel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Organiser des élections et des consultations d’instances représentatives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 u="sng">
                <a:solidFill>
                  <a:srgbClr val="28374a"/>
                </a:solidFill>
                <a:uFillTx/>
                <a:latin typeface="Franklin Gothic Book"/>
              </a:rPr>
              <a:t>Préparation des tableaux de bord, des indicateurs sociaux</a:t>
            </a:r>
            <a:endParaRPr b="0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617400" indent="-1602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Mettre à jour des indicateurs sociaux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0BC4-68FC-461E-B4AC-FF944CF5B17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6767640" y="5084640"/>
            <a:ext cx="2376360" cy="64800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EXACTITUDE &amp; LISIBI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6767640" y="3573360"/>
            <a:ext cx="237636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Franklin Gothic Book"/>
              </a:rPr>
              <a:t>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1T21:15:07Z</dcterms:modified>
  <cp:revision>80</cp:revision>
  <dc:subject/>
  <dc:title>Baccalauréat professionnel Gestion -- Administration</dc:title>
</cp:coreProperties>
</file>