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0011-07FB-4A1D-9986-BA5786C827D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E178-8AC8-4815-ACA5-CE3811FD5A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305-1B78-4766-AC6B-757EC5CC9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CF20-CB21-4463-9C8E-8A968E1E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06EE-0D1C-4BA7-87D1-5B4CB46C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A039-C6E5-46EC-8571-741649443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A0A5-6E8E-4184-AE6C-1FB5404C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7526-8D2A-488D-971F-58CA1E8B2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4C8D-6BEA-4485-9D85-CB57FABC3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53E5-8359-430A-9EE3-C5EDFBA7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C7A0-0DA9-4A4A-9083-49AFD09C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1DE7-8AE2-4537-A853-66DE8220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DB41-9F3C-4413-9D7C-E9859FC3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BD9B-C3B1-4907-BE72-C9AF0B8D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8388-3A10-49EC-A674-40561DAB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D3F1-3E8E-42D5-A1DF-87B3719AC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070F-A74C-4FBD-95FD-B170C7E4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F654-EC0D-46B4-AA65-27892C4F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1E32-1E64-43EA-8908-8ED3242F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986F2-121A-4699-BF6E-BCEFF9A6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029FA-343D-4126-AAF2-47778A0C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97533-BC6A-4B43-9104-5879C369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C2061-1205-44A2-B316-1A17AE56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0A598-7668-487A-B53A-142084EA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BC6-3377-42F4-AD44-92BC0CFD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DA179-B5CE-44CA-9FD3-2E58F906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C6550-9208-4E5E-B744-8D183D5B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7791D-927A-4458-9419-EDC74661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B7861-C14C-4627-864B-6320051E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6AEE8-6BB0-4DD6-A680-195E3FB2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985A-76B4-47B4-8745-83E244FCF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87007-337C-49FA-A548-1894380E4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5FD41-5864-42A1-8347-7ECF0C93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FB333-FFF0-4C77-AEC1-4B034A5F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9A995-66E9-4C71-A7F0-74D359D5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4C8-1492-403C-860A-B9DCDB8F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483FD-BEE1-4043-B7A8-287894AB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DCE88-4596-4E09-BC8D-E2C9E45D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2465E-FE49-49AE-AEEC-AB9CF2ED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BBDD5-F986-4200-A12E-1BF7B17F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B5D05-A666-4330-AA39-F198DE02D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E6BF4-4FA2-40A1-BF5E-F9077751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B25D0-AEEB-49F6-BAB9-E40FCFD6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68291-B01B-4823-9BAF-DF673BF3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ACEF2-15B7-487C-A0A3-05551B29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B404B-6A18-42CA-9A45-F0C85A78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B077-7276-4525-8820-B96344E1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34879-7B15-4A0B-9FF3-240E9F61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9F4EF-0CA9-42B0-83D9-22A620C2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C541E-58C6-4448-AA11-A1F84949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711D1-E826-457D-BC49-742BC830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A8003-2FCB-4CE9-8CB8-CDC384F9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90B3B-C21B-4D56-9521-B921E73C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2C8F1-5282-4A61-A734-2FABEB1D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BA19E-6EFF-4299-800F-1D834087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03608-0D2D-4C57-8262-A7CE4F7F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28BDB-D045-498B-9F9F-E8CDDA6E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22A9-A7E9-4B0C-AB0A-5B6ACB42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47407-D96F-45FA-973D-CD2DB119B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520B4-EAB1-4F7F-B3E9-406B89B8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BA0AE-2CC6-4F83-8C0F-5FCD280D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943AF-A50A-4C48-9DDF-793108D7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8BFEF7-EBE5-4709-B37F-BF9045BB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8D7390-4C4F-4C35-B613-1EE63525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90E03-DE72-4241-8D7B-FF84A6CB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1DC30-BAA9-4009-B52E-71789101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8A893-B2C9-4B50-AA08-CF7A4B6E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883E0-BEA0-4971-BDFC-0D90B3F2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267A-0575-4EFB-AB23-ACFF93E7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6719D-E094-43C4-A655-120A1A83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B08F7-8C31-4839-8E20-CA34EF307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1A6C7-3A78-456F-884F-4CCEDE89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9EFD8-4524-4825-AAF1-1C479540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85370-6FBE-4710-B142-331545E6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7737C-FDCB-4ECC-A4AE-E67E0918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F7C1C-B50F-42F4-A944-84B0EC24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9E197-2245-4EEF-BB7A-4EFC10E6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995D9-F059-4CC3-9870-BFCBB80A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A69F1-36DE-45DB-97D7-0F993CD0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3B48-1B2F-4A78-951B-5928045A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90707-87B6-47AA-B398-416A6556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9277B-8463-4940-B58C-C39B00A4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75DB7-90B8-4B26-9567-AACFE852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2F02E-6B4A-45E1-8D90-185E81F5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A994E-A13E-4CFD-AEFA-534D0597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FC76E-2D88-4E30-BC16-C694C71D7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E59BA-23A4-4AA5-840B-79A5E357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DB28F1-9DC5-43CC-AD89-9A37AC89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F5CDC-C8E5-4208-B072-520AB9D4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02466-D990-470E-808B-6A43E8CB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F30A-BA8C-4E3C-B1A9-1381E5B0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9E86B-337E-4C47-8B4B-C146F4D2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5A78C-8CE1-40AD-9613-E346AC16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ECA4C-DD3F-4A67-8242-B684B2B1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E0E57-BFEB-4451-A008-72416896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41A57-8CBB-4A7F-B319-74D4426C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2AD27-4346-43BD-A85F-BC3AF129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06E96-9FFD-4CB3-8109-537DFDA6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9E4B-6948-4FCA-A5E7-DE68D5E8960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4686-8994-4AF0-AC52-60A9D8EF4846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CD5E-E1DC-474F-8482-B956DD89F3A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CDBC-68DF-4119-A5EC-4BB3C8B93A9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8EB9-659A-4CA5-8207-A504C5A0BC8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879D-DBEF-451E-878D-3CDDFAC72E5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2EF6-3D71-412C-915A-C18A764B9494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EE3D-7033-4440-9CB5-772F0EE36A2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18C7-E725-4890-8152-FF436492FD5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3A79-CE3F-4EA1-817F-320CE66B5AC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B8AF-6417-49E7-A73F-D25C5DC62FA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99C9-B5A9-411E-9D5A-48F34ACCE4A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A722-BB5B-42E2-B252-0F5A6B710AA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11A4-F495-49A2-9330-8B2C43496CB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C6F7-9D56-43D8-86CD-1DEF40B524F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D343-5299-4703-91B0-FD60ABE63CD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menagement_espace_pro.pptx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 la salle informatiqu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à l’espace professionnel…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Des effets positifs….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755280" y="1100160"/>
            <a:ext cx="758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environnement agréable et fonctionnel.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es élèves ont chacun un petit espace de travail et se retrouvent plus ou moins séparés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ambiance de travail différente.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93480" indent="-1602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élèves responsabilisés sur leurs conditions de travail et donc peu de dégradations.</a:t>
            </a:r>
            <a:r>
              <a:rPr b="0" lang="fr-FR" sz="2400" spc="-1" strike="noStrike">
                <a:solidFill>
                  <a:srgbClr val="28374a"/>
                </a:solidFill>
                <a:latin typeface="Franklin Gothic Book"/>
              </a:rPr>
              <a:t>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C47F-722A-497E-8818-799FFFB689C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impact sur les élè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55280" y="620280"/>
            <a:ext cx="7588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vorise le travail en autonomie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entre élèves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mpose des règles de vie professionnelle (pas de bruit lorsqu’un collaborateur est au téléphone, tenue et postur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encourage le travail en équipe 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induit  un changement de statut pour l’élève (passage d'une classe traditionnelle à des locaux d’entreprise)</a:t>
            </a:r>
            <a:endParaRPr b="0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4D35-0F9C-4EB1-940B-FE726CB986D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22240" y="188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impact pour les enseignant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1E34-C79A-4D75-A93D-C767F4D5DAA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Espace réservé du contenu 2"/>
          <p:cNvSpPr/>
          <p:nvPr/>
        </p:nvSpPr>
        <p:spPr>
          <a:xfrm>
            <a:off x="611280" y="765000"/>
            <a:ext cx="7659720" cy="51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 tutorat professeur-élè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rend la relation professeur-élève plus profess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à l’enseignant de reproduire plus facilement des situations professionnelles (salle de réunion, téléphone, accueil clients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permet de décloisonner ses activ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01760" indent="-163800">
              <a:lnSpc>
                <a:spcPct val="100000"/>
              </a:lnSpc>
              <a:spcBef>
                <a:spcPts val="3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facilite les déplacements dans la sa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Franklin Gothic Medium"/>
              </a:rPr>
              <a:t>Une opportunité pour conduire un projet avec les élèv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95280" y="981000"/>
            <a:ext cx="85694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es situations professionnelles du référentiel du Bac pro GA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Exemples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1 :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1.1.2. TRAITEMENT DES ORDRES D’ACHAT, DES COMMAND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le 3 : 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3.3.2 . MAINTIEN OPÉRATIONNEL DES POSTES DE TRAVAIL ET AMÉNAGEMENT DES ESPACES 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projet qui s’inscrit dans l’EGLS (Maths/sciences; Arts appliqués…)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A1A9-D52E-4C42-B2BF-C36C6D108DD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à coins arrondis 1"/>
          <p:cNvSpPr/>
          <p:nvPr/>
        </p:nvSpPr>
        <p:spPr>
          <a:xfrm>
            <a:off x="6588000" y="5157720"/>
            <a:ext cx="201636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5b7378"/>
                </a:solidFill>
                <a:latin typeface="Franklin Gothic Book"/>
              </a:rPr>
              <a:t>Un </a:t>
            </a:r>
            <a:r>
              <a:rPr b="0" lang="fr-FR" sz="18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exe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755280" y="1557360"/>
            <a:ext cx="75214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 référentiel écrit en situations professionnelles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Une identification métier à valoriser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La nécessité de privilégier la multivalence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6840-AF65-43F0-B0DC-CFA081249AA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itre 1"/>
          <p:cNvSpPr/>
          <p:nvPr/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Pourquoi ce besoi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Quitter le mode frontal, scolair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46AE-3616-4AB0-A92A-15F3E89E337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Image 1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4608360" cy="3463920"/>
          </a:xfrm>
          <a:prstGeom prst="rect">
            <a:avLst/>
          </a:prstGeom>
          <a:ln w="0">
            <a:noFill/>
          </a:ln>
        </p:spPr>
      </p:pic>
      <p:pic>
        <p:nvPicPr>
          <p:cNvPr id="363" name="Image 5" descr=""/>
          <p:cNvPicPr/>
          <p:nvPr/>
        </p:nvPicPr>
        <p:blipFill>
          <a:blip r:embed="rId2"/>
          <a:stretch/>
        </p:blipFill>
        <p:spPr>
          <a:xfrm>
            <a:off x="4067280" y="2522520"/>
            <a:ext cx="4770360" cy="35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365040"/>
            <a:ext cx="874872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…</a:t>
            </a:r>
            <a:r>
              <a:rPr b="1" lang="fr-FR" sz="2800" spc="-1" strike="noStrike">
                <a:solidFill>
                  <a:srgbClr val="c00000"/>
                </a:solidFill>
                <a:latin typeface="Franklin Gothic Medium"/>
              </a:rPr>
              <a:t>pour aller vers un espace professionnel polyvalen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5B0C-FC3D-4350-B96B-8EB2BC2CCD9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Image 1" descr=""/>
          <p:cNvPicPr/>
          <p:nvPr/>
        </p:nvPicPr>
        <p:blipFill>
          <a:blip r:embed="rId1"/>
          <a:stretch/>
        </p:blipFill>
        <p:spPr>
          <a:xfrm>
            <a:off x="1332000" y="1197000"/>
            <a:ext cx="676908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83217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professionnel polyvalent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116A-7031-4726-968B-45C5468263D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Image 1" descr=""/>
          <p:cNvPicPr/>
          <p:nvPr/>
        </p:nvPicPr>
        <p:blipFill>
          <a:blip r:embed="rId1"/>
          <a:stretch/>
        </p:blipFill>
        <p:spPr>
          <a:xfrm>
            <a:off x="992160" y="1574640"/>
            <a:ext cx="6804000" cy="4500720"/>
          </a:xfrm>
          <a:prstGeom prst="rect">
            <a:avLst/>
          </a:prstGeom>
          <a:ln w="0">
            <a:noFill/>
          </a:ln>
        </p:spPr>
      </p:pic>
      <p:sp>
        <p:nvSpPr>
          <p:cNvPr id="372" name="ZoneTexte 2"/>
          <p:cNvSpPr/>
          <p:nvPr/>
        </p:nvSpPr>
        <p:spPr>
          <a:xfrm>
            <a:off x="914040" y="108432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fférents espac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3B36-9DEB-41C5-A58D-51BA91FBC43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ZoneTexte 6"/>
          <p:cNvSpPr/>
          <p:nvPr/>
        </p:nvSpPr>
        <p:spPr>
          <a:xfrm>
            <a:off x="915120" y="2708280"/>
            <a:ext cx="26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comptoir d’accue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age 1" descr=""/>
          <p:cNvPicPr/>
          <p:nvPr/>
        </p:nvPicPr>
        <p:blipFill>
          <a:blip r:embed="rId1"/>
          <a:stretch/>
        </p:blipFill>
        <p:spPr>
          <a:xfrm>
            <a:off x="4290840" y="1297080"/>
            <a:ext cx="33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6096-AE93-4C26-9406-E18150E407F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ZoneTexte 6"/>
          <p:cNvSpPr/>
          <p:nvPr/>
        </p:nvSpPr>
        <p:spPr>
          <a:xfrm>
            <a:off x="914040" y="142884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alle de réun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Image 1" descr=""/>
          <p:cNvPicPr/>
          <p:nvPr/>
        </p:nvPicPr>
        <p:blipFill>
          <a:blip r:embed="rId1"/>
          <a:stretch/>
        </p:blipFill>
        <p:spPr>
          <a:xfrm>
            <a:off x="2556000" y="2028960"/>
            <a:ext cx="5368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« simulateur » administratifs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5E31-62E3-4533-968D-5347411714D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ZoneTexte 6"/>
          <p:cNvSpPr/>
          <p:nvPr/>
        </p:nvSpPr>
        <p:spPr>
          <a:xfrm>
            <a:off x="903960" y="142884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ostes de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Photo003"/>
          <p:cNvPicPr/>
          <p:nvPr/>
        </p:nvPicPr>
        <p:blipFill>
          <a:blip r:embed="rId1"/>
          <a:stretch/>
        </p:blipFill>
        <p:spPr>
          <a:xfrm>
            <a:off x="3564000" y="1628640"/>
            <a:ext cx="4871880" cy="36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un espace d’entrainement téléphonique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CADF-AB2F-4DE3-8911-DB0492C7F70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ZoneTexte 6"/>
          <p:cNvSpPr/>
          <p:nvPr/>
        </p:nvSpPr>
        <p:spPr>
          <a:xfrm>
            <a:off x="179280" y="1052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rmation des élèves sur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ert d'app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versation à plusi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atten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ramétrage de la messageri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HPIM3875"/>
          <p:cNvPicPr/>
          <p:nvPr/>
        </p:nvPicPr>
        <p:blipFill>
          <a:blip r:embed="rId1"/>
          <a:stretch/>
        </p:blipFill>
        <p:spPr>
          <a:xfrm>
            <a:off x="4284720" y="1341360"/>
            <a:ext cx="4583160" cy="3436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HPIM3878"/>
          <p:cNvPicPr/>
          <p:nvPr/>
        </p:nvPicPr>
        <p:blipFill>
          <a:blip r:embed="rId2"/>
          <a:stretch/>
        </p:blipFill>
        <p:spPr>
          <a:xfrm>
            <a:off x="250920" y="3328920"/>
            <a:ext cx="3900240" cy="29257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8"/>
          <p:cNvSpPr/>
          <p:nvPr/>
        </p:nvSpPr>
        <p:spPr>
          <a:xfrm>
            <a:off x="4356000" y="5013360"/>
            <a:ext cx="45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echnologie IP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ransformation en pool téléphonique pour des actions de démarchage par télé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Edith Simon</cp:lastModifiedBy>
  <dcterms:modified xsi:type="dcterms:W3CDTF">2011-10-25T19:22:30Z</dcterms:modified>
  <cp:revision>31</cp:revision>
  <dc:subject/>
  <dc:title>Baccalauréat professionnel Gestion -- Administration</dc:title>
</cp:coreProperties>
</file>