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93AF1-0462-4413-B87E-EE599B0A27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B7A4-A0C3-4F00-959D-B3C542DDF0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D542-D5A8-4933-ACA3-61894830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28D0-9448-49B2-A043-E12081073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3FB1-B577-4307-B84C-BD2D8A22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DEF-8266-45B6-A975-EE2B0C43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2ECA-97D6-4FF2-956F-9661E82D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10D1-17B6-4F7E-B7A2-57D4C5C3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8B73C-41E2-42F8-9F9E-F84C4E96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9DB2-22B4-407D-9B8D-5ACF8326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52FC-06E3-4C1E-95D1-EED1D336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C1677-37EE-4BB2-8630-BF1BAC2A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B325-AD9F-477B-82CF-38D5429E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220-1FF5-41C3-B532-58920B72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86A5-57D7-4D81-8871-09A982F0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4F3F8-6B8A-431F-A86A-5871B1D0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4314-6852-455A-842E-6B990DBE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BC625-3EDC-4E56-A3AC-B593F5B5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85468-5CA9-4CC2-BB69-667F3AAC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DDAB-722D-44B7-A98C-90B306E0F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899C-0CDF-4B20-AE83-95A63589D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D5B20-46AB-4796-B53F-36847CBF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B3715-C847-44FC-83D0-3723037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6E99A-DFA3-43A8-BD3F-B732CA9A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91B-5E36-43AD-A4D8-5543E1C0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BE919-6A67-436B-AA78-0BC6880F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848A-91FA-49CB-A26A-918E84AC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C5E9B-1481-45FC-9DF7-C57C7A71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A81C7-80EC-485F-BD40-67025B3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E3E9A-BB6D-4C06-92B1-1838558EF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4CE4-0BA7-4DCB-BF8D-878D2C88B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E412-E5EA-4F95-B23D-060B19E83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E9D81-11D6-442D-A658-EE9C9A5A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8266-26E9-4C78-9A34-40CC2C82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5A93-61F7-4AAE-B690-70951ADB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04A-70B1-4CAD-B4D0-71344217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4888D-524E-41B5-AFA5-B6ADFE25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5AFFA-8D44-47F0-9D2B-21AF8E8F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11556-A7F9-4235-974F-7C44CCF6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EA50B-F4C2-441E-B0E0-D162EF1F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BBED2-C585-4BB3-82B3-92127E70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770CF-138D-4191-BC0A-47D4BF84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33EC-5EFC-4970-B3EC-9D950E0B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C8A23-B66D-4E28-9EB5-39C4C668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A463A-8A6B-4047-B836-97E7FF28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7AC07-5745-4943-A72E-127C9F886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9AAB-926F-4A56-9BA6-66770D39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83C04-7DB9-4070-9089-60E2BE7F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A8DA8-B7AF-483A-A662-D113880D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77B7-4B6B-4C9F-9C4E-C6542BD5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62E5E-F85D-4A72-9A2F-5F44EA0B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68126-FCE0-4BC0-A02D-D6B451CF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B1EA6-D270-462F-92C6-7E512F35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BCE98-4872-4C66-906E-5EC914F3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84E41-8929-419E-B5E9-08BD1B7B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F357F-19DD-45D0-936A-7AA5DDAE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770F9-D548-4FB1-AC20-4E4A1733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AAD9-6452-401C-9C8A-7C6F0E95C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859DD-BBA5-4864-9B88-BE0E11B2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2D117-C6C4-452A-B4EC-4E68A4FCA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4C7D2-8CC4-40DF-A558-7A5BC939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94DB6-246E-4B3E-92B6-CFAD4F6EB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5DA7D-490D-4F01-B64C-F7BF5737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C7538F-6A97-4F90-835E-FF056333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AF9EC-A0C4-4413-8DDA-2E775298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F5D3A-8574-4828-8B36-176AC8BE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EF7A8-3A75-4E19-BB67-DB3F5E897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E23B7-49A3-42AE-BEED-E69B4B94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D4DA-F0E8-462B-A723-D77D03EF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A8DD6-2F7D-4135-BDA5-E412EF87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D50D3-ED6D-4F50-9E81-8DC88271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51725A-3AE6-4243-B60E-BFB184BC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893-1B60-419C-A039-DB6755B9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3FC4-BE28-49D8-915B-DB5755DD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6046-D419-47D8-ABCB-BAB4D5163E6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6D86-7C4F-4DD3-882F-7AD25DEAE745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" name="Picture 2" descr="E:\Mes docs\DD_Paris\AL\2010_2011\BTS_SIO\MENJVA_LOGO_Q.gif"/>
          <p:cNvPicPr/>
          <p:nvPr/>
        </p:nvPicPr>
        <p:blipFill>
          <a:blip r:embed="rId2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38D4E-998E-4C94-93BC-5E0B72E7CC2F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8348-7503-4BB3-B2A2-F8B42A7853BA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3370-8B25-4353-86AC-692D1E89FFB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CA6F4-BBBF-4A35-B232-7C1368545D2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946E-C993-44D5-AC6C-95B2337033D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9549C-51F7-4861-8C3A-F7560C71834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5B9B-76D4-40A9-9436-EC3E0620622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D87D-0421-48E8-9A32-FB4D23A00063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FC93-3762-4536-9169-67B74C9F9BC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CA90-AAA4-4A2B-AD1B-F7B21C9D1CC8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-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 rot="19126800">
            <a:off x="1416960" y="2542680"/>
            <a:ext cx="756108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28374a"/>
                </a:solidFill>
                <a:latin typeface="Franklin Gothic Book"/>
                <a:ea typeface="Tunga"/>
              </a:rPr>
              <a:t>BACCALAURÉAT PROFESSIONNEL GESTION -ADMINISTRATION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27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27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36E7-A4DB-4CCE-979D-92ACFC121F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285840" y="479520"/>
          <a:ext cx="8572320" cy="5675040"/>
        </p:xfrm>
        <a:graphic>
          <a:graphicData uri="http://schemas.openxmlformats.org/drawingml/2006/table">
            <a:tbl>
              <a:tblPr/>
              <a:tblGrid>
                <a:gridCol w="2647800"/>
                <a:gridCol w="3332160"/>
                <a:gridCol w="2592360"/>
              </a:tblGrid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ONNÉES DE LA SIT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SAVOIR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SSOCI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PERFORMANC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87440">
                <a:tc rowSpan="2">
                  <a:txBody>
                    <a:bodyPr lIns="46080" rIns="4608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aractéristiques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liste et le statut des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dre du jou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carnet d’adres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s annuai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signalét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lan du 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procédure d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équipements et supports d’affichag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 de commun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consignes de sécurité et d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mission des comptes rend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environnement numérique de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vail 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organisation logistique des réun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de gestion du tem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’accueil des group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hénomènes de grou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de transmission de l’inform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s et les enjeux de l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unication professionnell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rits professionnels liés à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utils collaborati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fonctionnalités bureautique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des de présentation des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rôle des acteurs et des partenaires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ns l’organ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prise de notes, les abréviations, les sché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confrontation de plusieurs prises de no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synthèse de docu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paroles rapportées, les dialogues, la ci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modes et temps des verbes : le présent de l’indicat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traintes de dates et de lieu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Nombre important de participan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ensité des échan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daction du compte-rendu d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Accueil de participants étran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unions à d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9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ification ou annulation de la date de la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ieu indisponib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nvocations erron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 de participa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faillances matérielles et logist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82520"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OMPÉTE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CRITÈRE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D’ÉVALU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6080" rIns="460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RÉSULTATS</a:t>
                      </a:r>
                      <a:r>
                        <a:rPr b="1" lang="fr-FR" sz="1200" spc="-1" strike="noStrike">
                          <a:solidFill>
                            <a:srgbClr val="ca4b05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fr-FR" sz="1100" spc="-1" strike="noStrike">
                          <a:solidFill>
                            <a:srgbClr val="ca4b05"/>
                          </a:solidFill>
                          <a:latin typeface="Franklin Gothic Book"/>
                          <a:ea typeface="Tunga"/>
                        </a:rPr>
                        <a:t>ATTENDUS</a:t>
                      </a: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 réunion se déroule dans les conditions attendues, avec les supports demandés, et les comptes rendus sont adressé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ganiser la logistique administrative d’une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6080" rIns="460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icacité dans l’organisation et le suivi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6080" marR="4608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3" name="Rectangle 3"/>
          <p:cNvSpPr/>
          <p:nvPr/>
        </p:nvSpPr>
        <p:spPr>
          <a:xfrm>
            <a:off x="468360" y="133560"/>
            <a:ext cx="828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3.2. Gestion des modes de travail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r>
              <a:rPr b="1" lang="fr-FR" sz="12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3.2.1. </a:t>
            </a:r>
            <a:r>
              <a:rPr b="1" lang="fr-FR" sz="1600" spc="-1" strike="noStrike">
                <a:solidFill>
                  <a:srgbClr val="3b81bd"/>
                </a:solidFill>
                <a:latin typeface="Franklin Gothic Book"/>
                <a:ea typeface="Times New Roman"/>
              </a:rPr>
              <a:t>ORGANISATION ET SUIVI DE RÉUNIO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3886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Bulle ronde 9"/>
          <p:cNvSpPr/>
          <p:nvPr/>
        </p:nvSpPr>
        <p:spPr>
          <a:xfrm>
            <a:off x="1714680" y="428760"/>
            <a:ext cx="2000160" cy="714240"/>
          </a:xfrm>
          <a:prstGeom prst="wedgeEllipseCallout">
            <a:avLst>
              <a:gd name="adj1" fmla="val 69828"/>
              <a:gd name="adj2" fmla="val -11574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Savoirs nécessaires à l’action, savoirs pragmatiques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Bulle ronde 10"/>
          <p:cNvSpPr/>
          <p:nvPr/>
        </p:nvSpPr>
        <p:spPr>
          <a:xfrm>
            <a:off x="5000760" y="1357200"/>
            <a:ext cx="1357200" cy="571680"/>
          </a:xfrm>
          <a:prstGeom prst="wedgeEllipseCallout">
            <a:avLst>
              <a:gd name="adj1" fmla="val -74810"/>
              <a:gd name="adj2" fmla="val 31999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Approche managéria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6" name="Bulle ronde 11"/>
          <p:cNvSpPr/>
          <p:nvPr/>
        </p:nvSpPr>
        <p:spPr>
          <a:xfrm>
            <a:off x="5000760" y="3643200"/>
            <a:ext cx="2643120" cy="785880"/>
          </a:xfrm>
          <a:prstGeom prst="wedgeEllipseCallout">
            <a:avLst>
              <a:gd name="adj1" fmla="val -37615"/>
              <a:gd name="adj2" fmla="val -81111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fondements de l’activité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7" name="Bulle ronde 12"/>
          <p:cNvSpPr/>
          <p:nvPr/>
        </p:nvSpPr>
        <p:spPr>
          <a:xfrm>
            <a:off x="571680" y="3929040"/>
            <a:ext cx="2357280" cy="1143000"/>
          </a:xfrm>
          <a:prstGeom prst="wedgeEllipseCallout">
            <a:avLst>
              <a:gd name="adj1" fmla="val 50759"/>
              <a:gd name="adj2" fmla="val -43578"/>
            </a:avLst>
          </a:prstGeom>
          <a:solidFill>
            <a:srgbClr val="ffffff"/>
          </a:solidFill>
          <a:ln w="648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Maîtrise de la langue française, qualité de l’expression, 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Franklin Gothic Book"/>
              </a:rPr>
              <a:t>gage de réussite  sociale et professionnelle</a:t>
            </a:r>
            <a:endParaRPr b="0" lang="en-US" sz="11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319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20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Espace réservé du contenu 2"/>
          <p:cNvSpPr/>
          <p:nvPr/>
        </p:nvSpPr>
        <p:spPr>
          <a:xfrm>
            <a:off x="4786200" y="2604960"/>
            <a:ext cx="40006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6a6a6"/>
                </a:solidFill>
                <a:latin typeface="Franklin Gothic Book"/>
                <a:ea typeface="Tunga"/>
              </a:rPr>
              <a:t>EN RÉSUMÉ 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DE TRAVAIL ANCRÉES      DANS UNE RÉALITÉ PROFESSIONNELLE   PARFOIS COMPLEXE, JAMAIS STATIQU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679a3"/>
                </a:solidFill>
                <a:latin typeface="Franklin Gothic Book"/>
                <a:ea typeface="Tunga"/>
              </a:rPr>
              <a:t>DES SITUATIONS PROFESSIONNELLES  ENGLOBANT PROCESSUS D’APPRENTISSAGE   ET DÉVELOPPEMENT PROFESSIONNEL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56760" y="365040"/>
            <a:ext cx="85726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’activité courante du gestionnaire administratif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F546-8DD7-4E55-A154-09B58A306E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5" name="Rectangle 4" descr=""/>
          <p:cNvPicPr/>
          <p:nvPr/>
        </p:nvPicPr>
        <p:blipFill>
          <a:blip r:embed="rId1"/>
          <a:stretch/>
        </p:blipFill>
        <p:spPr>
          <a:xfrm>
            <a:off x="706320" y="1328760"/>
            <a:ext cx="773136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 rot="19140000">
            <a:off x="784080" y="1576080"/>
            <a:ext cx="521352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PÔLE 3 – GESTION ADMINISTRATIVE INTERN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749840" y="2619360"/>
            <a:ext cx="403704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a6a6a6"/>
                </a:solidFill>
                <a:latin typeface="Franklin Gothic Book"/>
              </a:rPr>
              <a:t>Aptitude général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679a3"/>
                </a:solidFill>
                <a:latin typeface="Franklin Gothic Book"/>
              </a:rPr>
              <a:t>Améliorer la productivité administrativ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9852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7D52-CF37-4B32-BE8A-B5BB68E9198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activité professionnelle évolutive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DD4E-6420-49BD-8402-326D4AAEFE6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ZoneTexte 4"/>
          <p:cNvSpPr/>
          <p:nvPr/>
        </p:nvSpPr>
        <p:spPr>
          <a:xfrm>
            <a:off x="785880" y="1522440"/>
            <a:ext cx="757224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Les métiers administratifs sont par nature transversaux, tous les secteurs sont concernés. Le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caractère « situé » du référenti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ans lequel chaque activité citée renvoie à des situations de travail réelles,  permet d’éviter une vision « diluée » du métier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Que l’organisation requiert une forte polyvalence, ou bien une spécialisation,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le gestionnaire administratif devra s’adapter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ux divers interlocuteurs, aux contextes et aux modes d’organisation du travail mis en place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Placé </a:t>
            </a:r>
            <a:r>
              <a:rPr b="0" lang="fr-FR" sz="2000" spc="-1" strike="noStrike">
                <a:solidFill>
                  <a:srgbClr val="ca4b05"/>
                </a:solidFill>
                <a:latin typeface="Franklin Gothic Book"/>
              </a:rPr>
              <a:t>au cœur d’un réseau relationnel très large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, il devra aussi intégrer dans son activité, les rôles, places et statuts de chacun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 rot="19140000">
            <a:off x="610920" y="1439280"/>
            <a:ext cx="5873760" cy="108900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</a:t>
            </a: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14 SITUATIONS PROFESSIONNELLES</a:t>
            </a:r>
            <a:br>
              <a:rPr sz="2800"/>
            </a:b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 DE RÉFÉRENC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6" name="Espace réservé du contenu 2" descr=""/>
          <p:cNvPicPr/>
          <p:nvPr/>
        </p:nvPicPr>
        <p:blipFill>
          <a:blip r:embed="rId1"/>
          <a:stretch/>
        </p:blipFill>
        <p:spPr>
          <a:xfrm>
            <a:off x="4475160" y="2828880"/>
            <a:ext cx="4681440" cy="34624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 rot="19140000">
            <a:off x="1298160" y="2180880"/>
            <a:ext cx="57945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Franklin Gothic Book"/>
              </a:rPr>
              <a:t>POLE 3 GESTION ADMINISTRATIVE INTERNE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Espace réservé du pied de page 4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9" name="Espace réservé du numéro de diapositive 5"/>
          <p:cNvSpPr/>
          <p:nvPr/>
        </p:nvSpPr>
        <p:spPr>
          <a:xfrm>
            <a:off x="8400960" y="6202440"/>
            <a:ext cx="503280" cy="5032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366A-D450-48C2-AE5F-BB55CFA30B1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information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56800" y="1642680"/>
            <a:ext cx="7643880" cy="214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1 Collecte et recherche d’informat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2 Production d’informations structuré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buClr>
                <a:srgbClr val="ca4b0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1.3 Organisation et mise à disposition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D70B2-4495-4057-8971-E0B50F8E650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Espace réservé du texte 4"/>
          <p:cNvSpPr/>
          <p:nvPr/>
        </p:nvSpPr>
        <p:spPr>
          <a:xfrm>
            <a:off x="785880" y="3573360"/>
            <a:ext cx="59292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2240" y="507600"/>
            <a:ext cx="75218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modes de travai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63280" y="1356840"/>
            <a:ext cx="7566120" cy="30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1 Organisation et suivi de réunion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2 Gestion des flux de courrie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3 Gestion des flux téléphon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2.4 Gestion d’espaces collaboratif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BBEC-0155-4541-B43A-04730415923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Espace réservé du texte 4"/>
          <p:cNvSpPr/>
          <p:nvPr/>
        </p:nvSpPr>
        <p:spPr>
          <a:xfrm>
            <a:off x="785880" y="500076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42960" y="364680"/>
            <a:ext cx="850104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es espaces de travail et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ressourc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14240" y="171432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1 Orientation et information des visiteur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2 Maintien opérationnel des postes de travail et aménagement des espac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3 Gestion des contrats de Maintenance, abonnements, licences informatiqu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4 Participation au suivi du budget de fonctionnement du servi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-277200"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3.5 Gestion des fournitures, consommables et petits équipements de bureau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7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2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5502-12BF-4C2D-AB36-7AC1AC426F8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Espace réservé du texte 4"/>
          <p:cNvSpPr/>
          <p:nvPr/>
        </p:nvSpPr>
        <p:spPr>
          <a:xfrm>
            <a:off x="785880" y="3214800"/>
            <a:ext cx="78580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Espace réservé du texte 4"/>
          <p:cNvSpPr/>
          <p:nvPr/>
        </p:nvSpPr>
        <p:spPr>
          <a:xfrm>
            <a:off x="785880" y="4143240"/>
            <a:ext cx="7858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85520" y="499680"/>
            <a:ext cx="7521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Gestion du temp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6560" y="1699920"/>
            <a:ext cx="7705800" cy="15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1 Gestion des agenda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-285840">
              <a:lnSpc>
                <a:spcPct val="110000"/>
              </a:lnSpc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3.4.2 Planification et suivi des activité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2858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8" name="Espace réservé du pied de page 6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Espace réservé du numéro de diapositive 7"/>
          <p:cNvSpPr/>
          <p:nvPr/>
        </p:nvSpPr>
        <p:spPr>
          <a:xfrm>
            <a:off x="8400960" y="6400800"/>
            <a:ext cx="438120" cy="38088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6591-AEC6-43B2-B604-B4499B5FA99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07:45:51Z</dcterms:created>
  <dc:creator>Isa</dc:creator>
  <dc:description/>
  <dc:language>en-US</dc:language>
  <cp:lastModifiedBy>Edith Simon</cp:lastModifiedBy>
  <dcterms:modified xsi:type="dcterms:W3CDTF">2011-10-25T19:10:11Z</dcterms:modified>
  <cp:revision>130</cp:revision>
  <dc:subject/>
  <dc:title>pôle 3 gestion administrative</dc:title>
</cp:coreProperties>
</file>