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9B7C1-5306-4B8B-A238-CA2CC7C20BB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9FADC-CA6A-487F-824F-D9EDB1E293B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E94F-09F5-4BC8-BAFF-7E4DF6157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FD94-D769-4848-B89D-2C8D55C2A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3B6C-C6F6-4F72-9864-8E117546D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05CD-804A-46B0-92CA-0A69726A7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BDD13-4747-48E3-A73B-ADF67370A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14739-F25F-4512-8F2D-0A81DB123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6F608-79B0-4A55-BC0B-DC10762B6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D4090-1C64-44E1-8A26-28835E31D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028EA-96D6-48B8-BEB5-DF6DA838C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57F1D-E653-402A-AD18-F5A2B49AA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82DB5-5BB1-420D-A8D9-75D6C9BE1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3290-F787-43D3-BA73-DB2542D58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90B79-9097-4313-93F8-A65C728CB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8A4C8-25A4-4643-A619-CF95A109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1F9B8-5737-4CC1-B916-8C9AE636E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7AF15-1027-4C75-8BBA-A4B4B5405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366D0-B5C6-4A5B-967A-4FD13FED2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6920B-F2B6-430C-80CB-BC05814CB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C845C-39D0-415F-AA15-E8A8914E5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9F02E-70EA-4EA0-91BC-F43EEEF97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17817-366E-4D26-A7D1-F74BEBA02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B796B-51BB-4A3C-8A15-504241154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D298-F679-4816-ABD1-F02F9AFA7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17256-FA8A-4CEC-899F-E7D91F00E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F5E7C-D9DB-4FB5-B79D-89BA1A4D4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7C959-8E3B-4F8F-BF0A-12B690A7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92918-5EFA-44B4-A7F1-A2C8D4A4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6ABA0-9FA2-40BD-9D1F-D451B566C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AAC1A-5559-4BAE-8965-B6B5CDE3C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45520-E805-4C4F-8C2C-9A9E2BF5B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E33AB-F516-44CB-8D76-46577F8F6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F1745-827F-416C-9AF2-A410ECD06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FC73D-F773-41BB-A1C7-06EB92586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10F1-49A0-4AEB-9DA9-5AD5C750C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B5033-ECA0-4EA4-8811-0C1B5803D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2C15E-B0B1-468F-AD58-D6B6E4B09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ED051-0CEB-486F-9A5D-D0BF23607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26BE1-3BDF-4D63-AF2B-9E59C9AD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8486A-EA63-4EA7-B444-DFA3F1D0F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94DC7-95AA-411A-93C9-29F6B58C3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42B90-097B-488E-BAED-74B0BF5E5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1BA3A-F0D9-4072-A216-73D2B51C9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F9281-B13E-4E53-8AA5-906F3E550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942A8A-F344-4901-BFF6-E31376CDA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D4B8-132F-4693-9A1F-B492FE148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8AF2A-BD8F-420A-88FC-80C0C5003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A0EF8-EBD3-4E29-9165-C5EFD6F27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E44AC9-DDEB-485A-A5D2-D7689FB01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525E3E-AAC7-4343-AD7D-0FADB2777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D4166-7872-4CFD-9244-DDBB1B73D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A6C7B-A809-4309-A612-FDE503AD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9FB1EB-582D-4F26-A691-CED0714F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33552-8B77-41D1-AA87-1AF110C6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B23759-C144-48E7-B34B-18EB0AD7F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1A185D-AA95-4AC8-8460-5F711A2A9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4FC7-A972-4459-9147-AE070D75A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3D175E-3904-463C-91C6-705A0D4CC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24D11B-9ED6-416F-B9A4-BCFAF41D6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1ED889-64F3-4A59-BD2C-ABF8F7F6B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38B0AC-96F7-44B4-9D2B-9EC624336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83F61-2072-4E03-AAAD-4EF021594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9EE7C6-B272-47D0-BBE5-7770FC663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511B51-7666-4B70-A3BE-ED9A05C3B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DB4254-B504-4B3A-9D5D-F435CEF2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416CD0-8CF9-4734-BC39-51DB2DE7C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DC0FB5-ECD6-48D0-881C-3681B1713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57B8-229B-4703-BF12-5458F8EC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DA8326-DF1D-4005-BF23-596A3B19F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FA30D1-1E34-4B1B-897D-757A4D822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2EF57F-0EF1-4CD1-9ED8-70A403AA9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4B49CD-3B73-4EC7-ABD0-46BE85697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AA1E4A-C769-4B5F-A6D3-E34C6A7F1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FD4B81-CA53-4F3C-AB9C-4828AD10E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DFB921-A734-44E9-8D99-592054D90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66EBB8-E38F-44CD-88EB-C576694A3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9C6F64-D2BB-40D0-B1F0-020DB794F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C894D9-5685-4012-AA65-76606AACC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F1E8-577A-45F3-93EF-210D6DAE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2C9E8F-8B73-4523-87E0-7990AEF71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CBA60B-6BE9-4920-A05E-972B3AA74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7FE6A1-F616-485D-BEF4-B5190B9C8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281F49-32B3-467A-8BAF-BB5403F4E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F591E6-47FF-4779-87DE-40B790C8E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44406D-E95D-419C-A660-203AC9126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9D6BEF-9712-4F3A-B298-2967F0F47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598FFB-A74D-4A8B-BDF1-C1058DC7E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1F8150-859E-4F14-ACC5-D3E4B2F06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8051C7-9E3A-41F4-9A92-4A66B0EDF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EB7F-3158-4663-B38C-01FC4076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191A06-0E8B-4611-95B9-D0F8EEDF6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28FFEA-5C1A-47F5-BAF4-86E1E4BEF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C21D0E-746B-48E7-BF7B-3D03AF1C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CFA064-9596-46AC-9D19-6623573D5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034539-A42E-4953-B28F-003A4AAE8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7095E6-788C-4233-9666-85E40AADA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5216FF-F31E-4F27-8EB2-350F3F534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93667-8208-40A0-8D1B-94EDE0702E6B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A9C81-DCC4-48E9-8978-D499C5370120}" type="slidenum"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2C6D6-FE20-4ABA-9A71-67E6CDCAFF70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Times New Roman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D1179-FF70-489C-BC0D-6499903F3B24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r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7013B-63A7-48D2-888D-B57158AA63EE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86E50-321E-45C7-9CEB-F15BFC8282F6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86546-EC39-4C7F-B094-19946057490E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5A7B7-71DD-4426-9C64-0C9A23BE63F2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113C8-5179-4E1B-BA62-7E66E76F3B40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925B9-6244-47E2-B732-3BC18236885F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FAD99-65A7-423A-8AA7-F6705A747D5A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DD13E-DCF5-4685-ABA3-4CD027576DF6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24A2F-86B9-4852-A588-F150EF30A47C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29840" y="6456600"/>
            <a:ext cx="255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289DD-7046-4967-86EA-E07002845A1E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2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 rot="19183200">
            <a:off x="609480" y="5890680"/>
            <a:ext cx="137952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55312-F12B-4F84-990A-17AA8597D6E2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Times New Roman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71DC4-5AC2-46E9-80DE-8253A771A174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Baccalauréat professionnel</a:t>
            </a:r>
            <a:br>
              <a:rPr sz="3600"/>
            </a:br>
            <a:r>
              <a:rPr b="0" lang="fr-FR" sz="4000" spc="-1" strike="noStrike">
                <a:solidFill>
                  <a:srgbClr val="c00000"/>
                </a:solidFill>
                <a:latin typeface="Franklin Gothic Medium"/>
              </a:rPr>
              <a:t>Gestion -- Administration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3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4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Pôle 1 – Gestion administrative des relations externes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7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8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755280" y="549360"/>
            <a:ext cx="75214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Le gestionnaire administratif facilite les </a:t>
            </a:r>
            <a:r>
              <a:rPr b="0" lang="fr-FR" sz="1900" spc="-1" strike="noStrike">
                <a:solidFill>
                  <a:srgbClr val="ff0000"/>
                </a:solidFill>
                <a:latin typeface="Franklin Gothic Book"/>
              </a:rPr>
              <a:t>relations externes de l’organisation.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 </a:t>
            </a: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Il assure de manière fiable la gestion administrative des relations avec les </a:t>
            </a:r>
            <a:r>
              <a:rPr b="0" lang="fr-FR" sz="1900" spc="-1" strike="noStrike">
                <a:solidFill>
                  <a:srgbClr val="ff0000"/>
                </a:solidFill>
                <a:latin typeface="Franklin Gothic Book"/>
              </a:rPr>
              <a:t>fournisseurs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 (prestataires compris) et les sous-traitants dans le cadre du processus achats. </a:t>
            </a: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Il veille au bon déroulement des relations administratives avec les prospects, les </a:t>
            </a:r>
            <a:r>
              <a:rPr b="0" lang="fr-FR" sz="1900" spc="-1" strike="noStrike">
                <a:solidFill>
                  <a:srgbClr val="ff0000"/>
                </a:solidFill>
                <a:latin typeface="Franklin Gothic Book"/>
              </a:rPr>
              <a:t>clients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, les donneurs d’ordre dans le cadre des processus de vente de biens et de services marchands, mais aussi de mise à disposition de biens et de services non marchands.</a:t>
            </a: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 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Par la prise en charge des activités de gestion administrative, il participe à la consolidation des relations avec les </a:t>
            </a:r>
            <a:r>
              <a:rPr b="0" lang="fr-FR" sz="1900" spc="-1" strike="noStrike">
                <a:solidFill>
                  <a:srgbClr val="ff0000"/>
                </a:solidFill>
                <a:latin typeface="Franklin Gothic Book"/>
              </a:rPr>
              <a:t>banques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, les </a:t>
            </a:r>
            <a:r>
              <a:rPr b="0" lang="fr-FR" sz="1900" spc="-1" strike="noStrike">
                <a:solidFill>
                  <a:srgbClr val="ff0000"/>
                </a:solidFill>
                <a:latin typeface="Franklin Gothic Book"/>
              </a:rPr>
              <a:t>administrations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 et les </a:t>
            </a:r>
            <a:r>
              <a:rPr b="0" lang="fr-FR" sz="1900" spc="-1" strike="noStrike">
                <a:solidFill>
                  <a:srgbClr val="ff0000"/>
                </a:solidFill>
                <a:latin typeface="Franklin Gothic Book"/>
              </a:rPr>
              <a:t>partenaires-métiers</a:t>
            </a: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.</a:t>
            </a: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0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140B9-376B-48DB-AF7F-4E86D4AE9AE7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1.1. Gestion administrative des relations avec les fournisseur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822240" y="1100160"/>
            <a:ext cx="7521840" cy="51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2365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23652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Tenue des dossiers fournisseurs et sous-traitant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23652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Traitement des ordres d’achat, des commandes 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23652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Traitement des livraisons, des factures et suivi des anomali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23652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Évaluation et suivi des stock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23652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Gestion des règlements et traitement des litig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DE26A-6118-43F2-A1EE-9DF20CAA1337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1.2. Gestion administrative des relations avec les clients et les usager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822240" y="1699920"/>
            <a:ext cx="75218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7440" indent="-1620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Participation à la gestion administrative de la prospection</a:t>
            </a:r>
            <a:endParaRPr b="0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7440" indent="-1620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Tenue des dossiers clients, donneurs d’ordre et usagers</a:t>
            </a:r>
            <a:endParaRPr b="0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7440" indent="-1620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Traitement des devis, des commandes</a:t>
            </a:r>
            <a:endParaRPr b="0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7440" indent="-1620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Traitement des livraisons et de la facturation</a:t>
            </a:r>
            <a:endParaRPr b="0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7440" indent="-162000">
              <a:lnSpc>
                <a:spcPct val="18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28374a"/>
                </a:solidFill>
                <a:latin typeface="Franklin Gothic Book"/>
              </a:rPr>
              <a:t>Traitement des règlements et suivi des litiges</a:t>
            </a:r>
            <a:endParaRPr b="0" lang="en-US" sz="19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8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9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F1FE6-3A04-4870-A093-6EC4449D68E3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1.3. Gestion administrative des relations avec les autres partenair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Suivi de la trésorerie et des relations avec les banqu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Préparation des déclarations fiscal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Traitement des formalités administrative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lnSpc>
                <a:spcPct val="2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Suivi des relations avec les partenaires-métiers</a:t>
            </a:r>
            <a:endParaRPr b="0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2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3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7B333-A5D2-4999-B1A0-B9DF06185547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22240" y="188640"/>
            <a:ext cx="75218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 exemple de situation du pôle 1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5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6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1A505-819F-4E92-9311-B5316A29A5B9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4360" y="1125360"/>
          <a:ext cx="7559640" cy="5029200"/>
        </p:xfrm>
        <a:graphic>
          <a:graphicData uri="http://schemas.openxmlformats.org/drawingml/2006/table">
            <a:tbl>
              <a:tblPr/>
              <a:tblGrid>
                <a:gridCol w="2519280"/>
                <a:gridCol w="2520720"/>
                <a:gridCol w="2519640"/>
              </a:tblGrid>
              <a:tr h="15264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nnées de la sit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associ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formance attend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676160"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données comptables et commerciales de l’organisation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dossiers des fournisseurs et des donneurs d’ord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échéanci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informations émanant des établissements financier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journaux de trésorer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rocédures de règl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rocédures de traitement des litig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exigences, comportementales et relationnelles, fixées par l’entité vis-à-vis de ses fournisseur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Cambria"/>
                        </a:rPr>
                        <a:t>- Un environnement numérique de travail de type PG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de gestion et savoirs technolog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moyens et modes de règl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contrôles de trésoreri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a conversion des devi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 processus automatisé des règlements aux fournisseurs avec un PG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Électronique des Documents (GE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juridiques et économ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obligations et la responsabilité contractuel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Savoirs rédactionne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- Lecture et écriture d’un genre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e courrier de réclamation à un fournisse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- Procédés d’écri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</a:t>
                      </a: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’interpellation du fournisse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a présentation de l’obj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’enchaînement des fait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’argumen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a réfu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e lexique du constat, de la demande, du désaccord, de la preu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es temps et modes des verbes : le passé composé, le futur de l'indicatif, le conditionn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0" lang="fr-FR" sz="1000" spc="-1" strike="noStrike">
                          <a:solidFill>
                            <a:srgbClr val="c00000"/>
                          </a:solidFill>
                          <a:latin typeface="Arial"/>
                          <a:ea typeface="Times New Roman"/>
                        </a:rPr>
                        <a:t>La tournure impersonnelle et passiv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x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Détection et rectification d’anomalies simples dans la tenue des comptes fournisseurs : saisie, imputation, codificatio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ombinaison de différents modes de règlement : escompte au comptant, échelonn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éclamations de fournisseu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èglements en devi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438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é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Échéances non respecté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éclamation non fondée d’un fournisse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Règlement erron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Trésorerie exigeant une demande de rééchelonnement des règl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ét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itère d’éval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ésultats attendus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règlements aux fournisseurs sont suivis et les litiges sont traités dans la limite des responsabilités impart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surer des règlements à des fournisseu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formité des règlem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78" name="Rectangle 1"/>
          <p:cNvSpPr/>
          <p:nvPr/>
        </p:nvSpPr>
        <p:spPr>
          <a:xfrm>
            <a:off x="376560" y="764280"/>
            <a:ext cx="8390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lasse 1.1. Gestion administrative des relations avec les fournisseurs</a:t>
            </a:r>
            <a:r>
              <a:rPr b="1" lang="fr-FR" sz="1000" spc="-1" strike="noStrike">
                <a:solidFill>
                  <a:srgbClr val="4f81bd"/>
                </a:solidFill>
                <a:latin typeface="Arial"/>
                <a:ea typeface="Times New Roman"/>
              </a:rPr>
              <a:t>	</a:t>
            </a:r>
            <a:r>
              <a:rPr b="1" lang="fr-FR" sz="1200" spc="-1" strike="noStrike">
                <a:solidFill>
                  <a:srgbClr val="3b81bd"/>
                </a:solidFill>
                <a:latin typeface="Arial"/>
                <a:ea typeface="Times New Roman"/>
              </a:rPr>
              <a:t>1.1.5 Gestion des règlements et traitement des litiges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Quelques caractéristiques de ce pôl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826560" y="907920"/>
            <a:ext cx="8137800" cy="51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Très étroitement lié au contexte des organisations et aux relations qu’elles entretiennent avec leurs partenaires …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… </a:t>
            </a: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et donc aux PFMP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… </a:t>
            </a:r>
            <a:r>
              <a:rPr b="0" lang="fr-FR" sz="2800" spc="-1" strike="noStrike">
                <a:solidFill>
                  <a:srgbClr val="28374a"/>
                </a:solidFill>
                <a:latin typeface="Franklin Gothic Book"/>
              </a:rPr>
              <a:t>avec, très logiquement, une évaluation en CCF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1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2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B155F-DF60-4BB0-86F0-8334042DEF36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3T12:04:16Z</dcterms:created>
  <dc:creator>Martine Deconinck</dc:creator>
  <dc:description/>
  <dc:language>en-US</dc:language>
  <cp:lastModifiedBy>Edith Simon</cp:lastModifiedBy>
  <dcterms:modified xsi:type="dcterms:W3CDTF">2011-10-25T19:01:29Z</dcterms:modified>
  <cp:revision>16</cp:revision>
  <dc:subject/>
  <dc:title>Baccalauréat professionnel Gestion -- Administration</dc:title>
</cp:coreProperties>
</file>