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8A47-095B-4306-8510-0E1F25B2B3E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32A1-BE7F-4D13-9AE3-A5FFC1B919A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E547-EA78-4941-A312-DF6CC16C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618C-8D05-49FB-B746-83597B13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C2A9-D9C7-4E40-B1DD-E060F8364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1C5C-056F-4E01-843B-476AD353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62CA-E2F2-4D81-9D54-0BA643819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9495-9A17-45CD-8D68-19D9A87F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1945-CE5F-4E36-830A-F3B60A46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2D14-58D2-4A30-B768-939FDDA8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E865-F41D-4EDB-9D95-5BF319B5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8A95-2341-4BAB-9108-8675D222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487B-57BA-4015-B5CA-687C3FB5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CC45-887A-4591-90CF-C6190B03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7327-C515-401A-B39F-B9CEF66E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903C-353A-4A2C-86BD-5E403BA0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2F8E-4450-4A0B-AD5E-4CDCB0B7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3245-280E-454D-9BC8-7ADA825C9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1D66-3703-4500-BFC9-39B2E9F14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7EE8A-4197-4EFD-9FD8-0CB71C81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D4D06-AF6A-49DD-B154-03BF0C33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D5BAD-D34C-4BF0-B1C8-7BD56ECE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B4083-50E8-4D80-8B10-115E9B45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316BB-6CE7-4E7C-B935-C0D1A26B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1628-BB62-49F6-95B7-0A1AB9F9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DC4C3-C45A-43B1-8895-30A304E3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386BA-9441-47D3-8EF0-7D3D63B5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5985B-7A23-479A-A166-D73A8360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41CC0-B330-4EF1-A096-30A897FD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AE635-0FAB-44B4-AF83-834EC595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DF210-2069-4F30-B726-021C7C5EB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A318C-EF48-4C08-BAD3-E15209F24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1FC2A-66F9-4320-8317-3167DC23B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AD201-25A4-42A5-9D01-E39188D6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4ED8A-A746-4765-B5A0-C68BB2D1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D8F2-BFD0-4E57-9803-73021DCF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B2781-2830-4D04-BC33-FF3495D3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E30D8-8B36-4737-9099-4854F997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7BA84-0EAE-4964-85DA-77517F66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429C0-60ED-4AA0-83C0-64EBFBB2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DBAB1-4AAA-4774-8CEE-DBD94F40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3DBF0-C84A-4BDB-99E1-16F85A4F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93E28-895E-41A3-95CF-D5E06A22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2D4FA-3258-4FB3-9D8E-326BF1F5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57331-466C-434B-8B2B-D54D1E432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56EF9-6B85-4C62-A00E-9A8169027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1AD3-B0F0-44E1-BDF4-9E0BDD4B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833B9-0C30-4802-85DF-BD15C93E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27341-FCFE-4A5C-86F1-14E00B98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7BA45-E58E-4EB0-9B6C-294BAFE0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DE474-AD17-41A4-A880-7269A50A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A42DB-1AC5-4485-8B02-241B4930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55F35-73FC-4ACD-8491-4D517BCB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7657C-C079-48A2-BF05-6336183C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9A872-2D40-4B23-B4F2-5337D9BD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F2ECF-5AD9-4651-B901-06E9D5FA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F3E52-EBCF-4D35-9E92-9A6235214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8DFB-2786-47E8-BE9F-EA9582C6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37AC5-ACAE-479B-9544-05F3E127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008E0-0715-4976-9793-29FA0C89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6A2CE-2E94-41AA-A34D-9BB350CC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BA0CD-AB15-41B2-9390-6BFE983D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7C8D8-0D92-487F-9A78-6FD8B081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8C3FD-9492-433C-B430-CE8FD65A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9ACF8-EC88-4198-9312-6F599610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16F4E-1BF4-4935-B237-C93BAA03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7440F-5D89-44D6-8054-54A71F4D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FD421-B5AF-4B68-998C-FE1A9B19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E8D2-E139-4849-920F-754C6CCF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03335-A05E-4D85-8EEE-DBF83F07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CDC23-4362-4D47-8391-E08210EF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0879B-7371-4298-868D-1258FD0DA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D8EF-8FDE-496F-9C09-E814B671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1BA6-39E5-4E1D-9BCA-163996FE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DE81-8075-4402-8D20-37171E44FB1E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D57F-E842-4E8A-82C7-20595BF6A636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" name="Picture 2" descr="E:\Mes docs\DD_Paris\AL\2010_2011\BTS_SIO\MENJVA_LOGO_Q.gif"/>
          <p:cNvPicPr/>
          <p:nvPr/>
        </p:nvPicPr>
        <p:blipFill>
          <a:blip r:embed="rId2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2244-A610-469D-BF27-E81DF9AC889E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2F9A-3670-4ADA-B923-E3631878322C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61DE-0040-4B42-90E8-76624A103A72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39E7-2DD6-4D3A-A5FC-51D7A62BF1FE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E8FF-E222-493B-BB76-BC088C163487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CBB6-C46B-49A5-9518-009F3F6C9BCA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267C-B0BB-439D-9031-34E249C62CCA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D421-1A9C-4B5A-AF17-E5BD2783EAB8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00DA-2024-4E43-9354-C7382D4CBF04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AC50-A958-4DFF-A796-474B8A4BF1A7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3 - Gestion administrative intern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 rot="19126800">
            <a:off x="1416960" y="2542680"/>
            <a:ext cx="756108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8374a"/>
                </a:solidFill>
                <a:latin typeface="Franklin Gothic Book"/>
                <a:ea typeface="Tunga"/>
              </a:rPr>
              <a:t>BACCALAURÉAT PROFESSIONNEL GESTION -ADMINISTRATION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270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271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BA67-D15D-456D-852B-FBDE4744292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85840" y="479520"/>
          <a:ext cx="8572320" cy="5675040"/>
        </p:xfrm>
        <a:graphic>
          <a:graphicData uri="http://schemas.openxmlformats.org/drawingml/2006/table">
            <a:tbl>
              <a:tblPr/>
              <a:tblGrid>
                <a:gridCol w="2647800"/>
                <a:gridCol w="3332160"/>
                <a:gridCol w="2592360"/>
              </a:tblGrid>
              <a:tr h="52524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DONNÉES DE LA SITU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SAVOIR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SSOCIÉ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PERFORMANCE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TTEND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87440">
                <a:tc rowSpan="2">
                  <a:txBody>
                    <a:bodyPr lIns="46080" rIns="4608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caractéristiques de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liste et le statut des particip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ordre du jou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carnet d’adres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s annu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signalét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plan du si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procédure d’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équipements et supports d’afficha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 de commun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consignes de sécurité et d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mission des comptes rend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techn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environnement numérique de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vail 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organisation logistique des réun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utils de gestion du tem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accueil des group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hénomènes de grou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yens de transmission de l’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règles et les enjeux de l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unication professionnel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écrits professionnels liés à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utils collaborati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nctionnalités bureautique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es de présentation des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 rôle des acteurs et des partenaires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ns l’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 compte-rendu d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prise de notes, les abréviations, les sché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onfrontation de plusieurs prises de no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synthèse de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paroles rapportées, les dialogues, la ci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modes et temps des verbes : le présent de l’indic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traintes de dates et de lie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Nombre important de participan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nsité des échan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daction du compte-rendu d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cueil de participants étran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unions à d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7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ification ou annulation de la date de l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ieu indispon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vocations erro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faillance de particip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faillances matérielles et logist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COMPÉTEN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CRITÈRE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D’ÉVALU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RÉSULTATS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TTENDUS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réunion se déroule dans les conditions attendues, avec les supports demandés, et les comptes rendus sont adressé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ser la logistique administrative d’un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ficacité dans l’organisation et le suivi de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3"/>
          <p:cNvSpPr/>
          <p:nvPr/>
        </p:nvSpPr>
        <p:spPr>
          <a:xfrm>
            <a:off x="468360" y="13356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3.2. Gestion des modes de travail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  </a:t>
            </a:r>
            <a:r>
              <a:rPr b="1" lang="fr-FR" sz="1200" spc="-1" strike="noStrike">
                <a:solidFill>
                  <a:srgbClr val="3b81bd"/>
                </a:solidFill>
                <a:latin typeface="Franklin Gothic Book"/>
                <a:ea typeface="Times New Roman"/>
              </a:rPr>
              <a:t>3.2.1. </a:t>
            </a:r>
            <a:r>
              <a:rPr b="1" lang="fr-FR" sz="1600" spc="-1" strike="noStrike">
                <a:solidFill>
                  <a:srgbClr val="3b81bd"/>
                </a:solidFill>
                <a:latin typeface="Franklin Gothic Book"/>
                <a:ea typeface="Times New Roman"/>
              </a:rPr>
              <a:t>ORGANISATION ET SUIVI DE RÉUNION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4" name="Bulle ronde 9"/>
          <p:cNvSpPr/>
          <p:nvPr/>
        </p:nvSpPr>
        <p:spPr>
          <a:xfrm>
            <a:off x="1714680" y="428760"/>
            <a:ext cx="2000160" cy="714240"/>
          </a:xfrm>
          <a:prstGeom prst="wedgeEllipseCallout">
            <a:avLst>
              <a:gd name="adj1" fmla="val 69828"/>
              <a:gd name="adj2" fmla="val -11574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Savoirs nécessaires à l’action, savoirs pragmatiques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Bulle ronde 10"/>
          <p:cNvSpPr/>
          <p:nvPr/>
        </p:nvSpPr>
        <p:spPr>
          <a:xfrm>
            <a:off x="5000760" y="1357200"/>
            <a:ext cx="1357200" cy="571680"/>
          </a:xfrm>
          <a:prstGeom prst="wedgeEllipseCallout">
            <a:avLst>
              <a:gd name="adj1" fmla="val -74810"/>
              <a:gd name="adj2" fmla="val 31999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Approche managéria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Bulle ronde 11"/>
          <p:cNvSpPr/>
          <p:nvPr/>
        </p:nvSpPr>
        <p:spPr>
          <a:xfrm>
            <a:off x="5000760" y="3643200"/>
            <a:ext cx="2643120" cy="785880"/>
          </a:xfrm>
          <a:prstGeom prst="wedgeEllipseCallout">
            <a:avLst>
              <a:gd name="adj1" fmla="val -37615"/>
              <a:gd name="adj2" fmla="val -81111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fondements de l’activité professionnel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7" name="Bulle ronde 12"/>
          <p:cNvSpPr/>
          <p:nvPr/>
        </p:nvSpPr>
        <p:spPr>
          <a:xfrm>
            <a:off x="571680" y="3929040"/>
            <a:ext cx="2357280" cy="1143000"/>
          </a:xfrm>
          <a:prstGeom prst="wedgeEllipseCallout">
            <a:avLst>
              <a:gd name="adj1" fmla="val 50759"/>
              <a:gd name="adj2" fmla="val -43578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Maîtrise de la langue française, qualité de l’expression,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gage de réussite  sociale et professionnel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3 – Gestion administrative intern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19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20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Espace réservé du contenu 2"/>
          <p:cNvSpPr/>
          <p:nvPr/>
        </p:nvSpPr>
        <p:spPr>
          <a:xfrm>
            <a:off x="4786200" y="2604960"/>
            <a:ext cx="4000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6a6a6"/>
                </a:solidFill>
                <a:latin typeface="Franklin Gothic Book"/>
                <a:ea typeface="Tunga"/>
              </a:rPr>
              <a:t>EN RÉSUMÉ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679a3"/>
                </a:solidFill>
                <a:latin typeface="Franklin Gothic Book"/>
                <a:ea typeface="Tunga"/>
              </a:rPr>
              <a:t>DES SITUATIONS DE TRAVAIL ANCRÉES      DANS UNE RÉALITÉ PROFESSIONNELLE   PARFOIS COMPLEXE, JAMAIS STATIQU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679a3"/>
                </a:solidFill>
                <a:latin typeface="Franklin Gothic Book"/>
                <a:ea typeface="Tunga"/>
              </a:rPr>
              <a:t>DES SITUATIONS PROFESSIONNELLES  ENGLOBANT PROCESSUS D’APPRENTISSAGE   ET DÉVELOPPEMENT PROFESSIONNEL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6760" y="365040"/>
            <a:ext cx="8572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’activité courante du gestionnaire administratif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3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9F81-4EE5-487E-B188-4B71304B40E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5" name="Rectangle 4" descr=""/>
          <p:cNvPicPr/>
          <p:nvPr/>
        </p:nvPicPr>
        <p:blipFill>
          <a:blip r:embed="rId1"/>
          <a:stretch/>
        </p:blipFill>
        <p:spPr>
          <a:xfrm>
            <a:off x="706320" y="1328760"/>
            <a:ext cx="77313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 rot="19140000">
            <a:off x="784080" y="1576080"/>
            <a:ext cx="5213520" cy="1089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PÔLE 3 – GESTION ADMINISTRATIVE INTERN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749840" y="2619360"/>
            <a:ext cx="403704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6a6a6"/>
                </a:solidFill>
                <a:latin typeface="Franklin Gothic Book"/>
              </a:rPr>
              <a:t>Aptitude général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679a3"/>
                </a:solidFill>
                <a:latin typeface="Franklin Gothic Book"/>
              </a:rPr>
              <a:t>Améliorer la productivité administrativ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98520" y="2180880"/>
            <a:ext cx="579456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Espace réservé du pied de page 4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Espace réservé du numéro de diapositive 5"/>
          <p:cNvSpPr/>
          <p:nvPr/>
        </p:nvSpPr>
        <p:spPr>
          <a:xfrm>
            <a:off x="8400960" y="6202440"/>
            <a:ext cx="503280" cy="5032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B056-6742-4CA0-8DDC-6CE38573867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e activité professionnelle évolutive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2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Espace réservé du numéro de diapositive 3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1593-7DEF-4D21-94DC-7CE47181F25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ZoneTexte 4"/>
          <p:cNvSpPr/>
          <p:nvPr/>
        </p:nvSpPr>
        <p:spPr>
          <a:xfrm>
            <a:off x="785880" y="1522440"/>
            <a:ext cx="757224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Les métiers administratifs sont par nature transversaux, tous les secteurs sont concernés. Le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caractère « situé » du référentiel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dans lequel chaque activité citée renvoie à des situations de travail réelles,  permet d’éviter une vision « diluée » du métier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Que l’organisation requiert une forte polyvalence, ou bien une spécialisation,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le gestionnaire administratif devra s’adapter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aux divers interlocuteurs, aux contextes et aux modes d’organisation du travail mis en place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Placé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au cœur d’un réseau relationnel très large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, il devra aussi intégrer dans son activité, les rôles, places et statuts de chacun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 rot="19140000">
            <a:off x="610920" y="1439280"/>
            <a:ext cx="5873760" cy="1089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14 SITUATIONS PROFESSIONNELLES</a:t>
            </a:r>
            <a:br>
              <a:rPr sz="2800"/>
            </a:b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 DE RÉFÉRENC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86" name="Espace réservé du contenu 2" descr=""/>
          <p:cNvPicPr/>
          <p:nvPr/>
        </p:nvPicPr>
        <p:blipFill>
          <a:blip r:embed="rId1"/>
          <a:stretch/>
        </p:blipFill>
        <p:spPr>
          <a:xfrm>
            <a:off x="4475160" y="2828880"/>
            <a:ext cx="4681440" cy="34624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/>
          </p:nvPr>
        </p:nvSpPr>
        <p:spPr>
          <a:xfrm rot="19140000">
            <a:off x="1298160" y="2180880"/>
            <a:ext cx="579456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Franklin Gothic Book"/>
              </a:rPr>
              <a:t>POLE 3 GESTION ADMINISTRATIVE INTERNE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Espace réservé du pied de page 4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9" name="Espace réservé du numéro de diapositive 5"/>
          <p:cNvSpPr/>
          <p:nvPr/>
        </p:nvSpPr>
        <p:spPr>
          <a:xfrm>
            <a:off x="8400960" y="6202440"/>
            <a:ext cx="503280" cy="5032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A54F-A7CC-410A-BAEA-8E954811C98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85520" y="499680"/>
            <a:ext cx="7521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information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56800" y="1642680"/>
            <a:ext cx="7643880" cy="21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1 Collecte et recherche d’information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2 Production d’informations structuré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3 Organisation et mise à disposition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4691-A747-44AB-92A6-4E472391509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Espace réservé du texte 4"/>
          <p:cNvSpPr/>
          <p:nvPr/>
        </p:nvSpPr>
        <p:spPr>
          <a:xfrm>
            <a:off x="785880" y="3573360"/>
            <a:ext cx="5929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2240" y="507600"/>
            <a:ext cx="75218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modes de travai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63280" y="1356840"/>
            <a:ext cx="7566120" cy="30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1 Organisation et suivi de réunion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2 Gestion des flux de courrier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3 Gestion des flux téléphoniqu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4 Gestion d’espaces collaboratif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0D51-202A-48F9-BC74-0A775CD0A7A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Espace réservé du texte 4"/>
          <p:cNvSpPr/>
          <p:nvPr/>
        </p:nvSpPr>
        <p:spPr>
          <a:xfrm>
            <a:off x="785880" y="5000760"/>
            <a:ext cx="7858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42960" y="364680"/>
            <a:ext cx="850104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espaces de travail et </a:t>
            </a:r>
            <a:br>
              <a:rPr sz="3200"/>
            </a:b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ressourc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8143920" cy="45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1 Orientation et information des visiteur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2 Maintien opérationnel des postes de travail et aménagement des espac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3 Gestion des contrats de Maintenance, abonnements, licences informatiqu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4 Participation au suivi du budget de fonctionnement du service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5 Gestion des fournitures, consommables et petits équipements de bureau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2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16EB-0243-4B38-A806-699BA59D6A5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Espace réservé du texte 4"/>
          <p:cNvSpPr/>
          <p:nvPr/>
        </p:nvSpPr>
        <p:spPr>
          <a:xfrm>
            <a:off x="785880" y="3214800"/>
            <a:ext cx="7858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Espace réservé du texte 4"/>
          <p:cNvSpPr/>
          <p:nvPr/>
        </p:nvSpPr>
        <p:spPr>
          <a:xfrm>
            <a:off x="785880" y="4143240"/>
            <a:ext cx="7858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85520" y="499680"/>
            <a:ext cx="7521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u temp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705800" cy="15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4.1 Gestion des agenda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4.2 Planification et suivi des activité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8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82E0-1293-4C02-AF32-07BC30B228F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7:45:51Z</dcterms:created>
  <dc:creator>Isa</dc:creator>
  <dc:description/>
  <dc:language>en-US</dc:language>
  <cp:lastModifiedBy>Edith Simon</cp:lastModifiedBy>
  <dcterms:modified xsi:type="dcterms:W3CDTF">2011-10-25T19:10:11Z</dcterms:modified>
  <cp:revision>130</cp:revision>
  <dc:subject/>
  <dc:title>pôle 3 gestion administrative</dc:title>
</cp:coreProperties>
</file>