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3096-FB97-4452-ABFE-EE1CDB2BD2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5D43-E85D-4C6C-A262-675905D9A3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6815-6BFB-4F0A-9F71-CC30849D3B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83AB-C28A-442C-9295-1ADD838AAB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0161-FB4A-4196-B418-30279E3FF3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3322-779F-4CC9-A740-744443BAEA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F56C-352F-40C2-B7FE-9B6E3F2CD2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0B062-0142-40A7-BFCE-045ABEDF87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C66C-9D62-421B-8FB2-D04A9843AB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470A-B0F4-4F78-8EAB-E656C69E39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79A7-464C-4AE9-80DC-3F8ECF72F0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2A2C-34E1-40F1-B732-F794D61E39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8C4A-7D6C-47F0-9F8B-6EC3331D24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D25B4-9D3A-4D74-9DBC-C964BA66BF8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7B3E-537D-4AE8-88BF-870FA9B9B2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0585-9D7B-4B5B-90BA-5F6DBC5664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BF17-6262-43BA-A3EA-934C29F2C8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621B-8666-413D-B806-2A0AFFF58D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0F9B-EFA4-4E87-8113-B2354DA7090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2AF7-72D1-4798-8D8B-4B436350DD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57BB-576C-47B6-A829-93A4218EAF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7D4DB-1A3B-4C4C-9B72-3D590936F9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DC30-E60C-4A6C-84AF-B1084FCDE27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56EC-D603-4CB9-9571-3C71AF5C66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4ABE-3A0C-4417-891E-246C2B6CF0E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C63-8C1F-4E29-B97A-077D9AEFC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3DE5-71E9-42B0-AADB-425DB8A6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4B70-826C-4F03-BB7D-E6DBEB9A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BC67-76AA-4CA1-80A0-9DAE6747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29E1-1788-4535-8898-D61D33D2B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08D3-8CBF-4AF5-A0BC-AC907797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CC3B-AAFF-43E6-BAAE-A233CB2C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2C27-681E-4746-9353-A4A82F0A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FDE9-6AAD-4BF8-84F4-9CA3E63E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2C70-F834-4D1F-8414-E03C843F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7CD5-722A-4E2A-A675-AD901D96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05B9-37DF-407B-9511-A664F111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63B3-EA0A-422E-97EA-92585CE2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360EA-ABBD-426F-82FA-4FF0CE73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E47D-8A7B-46B6-BCB3-5969FFE8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5CDE-BA66-47EB-87D8-6F343B80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79B9-E316-41FB-8CAF-61F34AFFB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CE024-3F5E-4340-BB61-45B799C2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F65AA-0BF0-4FD6-B610-03385791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314E8-613D-4ABC-A348-A69536A3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3A9D0-64EC-4B89-A161-5943FF766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7168F-486D-4686-A865-EA61DB4F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33BC-15D0-4593-9BF8-B6CEB16A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1BF19-F177-488F-B353-0F2D0E5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11BAF-4360-4606-B3AB-0533FC6B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C9EB9-9E97-4628-8562-8BED6EE4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FE27-3170-4096-9193-0EB2831D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3D0BB-92C1-4895-A72E-E3AD7CA4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1C22-4F1A-4AF2-A603-54DAE98A5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0519E-E797-4693-89C6-C5D9598E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0A0F-815A-4A45-9FE2-AFF3F413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D5042-77F2-4F1E-AB8F-0F6A2108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0471B-733D-4BA1-BE45-6E5308F9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0F6A-4CCB-4586-B07C-42DEFE56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3FE00-28FA-4F6F-9DC1-E6A88639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79178-CBF5-4853-B34D-448DDA27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3666C-8DA8-4898-85B8-0CCCBB19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0E4A9-FC40-489C-9000-1A6DF58F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5E661-1A4F-4D1B-9419-59A0ED6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F21B2-C394-4407-95E8-F35539A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B3F8-EC02-44DF-A682-74C53E8C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523D4-37DA-4539-B58E-EC4DDAB33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D892-9A18-46E0-8449-08383F55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47451-EA42-4C72-BB28-CA92A454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EFE-1CD0-4996-B8F7-66B8ADBC9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71A5E-E08A-4E88-B736-1360AE3A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D0D0-1CE4-4351-9DE2-ED339D638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223DE-695D-41E4-AD12-A5E5D941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B2D20-28F2-4CEA-9337-6D94709F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64033-EE9B-48A8-A623-81DA0F24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B967-DE65-42A2-8BFD-392F1B6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2229E-BF15-4495-8C1B-1C13C313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28D8E-9CBA-4A09-A08A-4D4427F3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992C-88DC-4A92-AA54-1E8DFFC0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11BAA-74A7-4DA2-AC34-77333DE31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9A00-CA6F-4FE6-973B-BDE2FC54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FD624-8B33-457E-8BBE-3539950C0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67AF0-A0DF-4F1D-B505-04BACF3C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B3A5F-1A85-4D15-8A72-792CCB65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DE4AD2-B76D-493A-BB57-F8416EEB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2DC2-4553-4D8E-92FA-B708733B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CD7D6-39DC-4AB2-960B-B1A37CE7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D1FE6-CEEE-49D6-A228-BD9B67BD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F490-8ED6-44E5-AD59-16FE0BB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5DF91-73C7-4B67-8B6E-DEB1E797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6696A-7592-4F22-BA5C-EF329344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B3EA-C139-44D9-B500-29D94D185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1EA0-A6A3-457D-82A0-2EEABA7C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23D0D-BBC6-4474-B54E-7C1C1C1D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4E353-39CC-4CCE-B5C5-015EC9EB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E23C8-6614-43C5-BBC5-0F02C02DB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58ABA-E2EB-40BE-AF4F-B04F2B8F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BB214-4DE0-44C6-AD1B-C08697FA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52C36-4329-4B48-A3B6-2CC0AB2A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C8A29-6D09-4DBB-ADC8-42A55E5B7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B2EE5-12E4-4861-80D0-C6E86A5B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76969-7350-45F8-B8CF-A972FAAF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163E-5AC3-435D-9988-12C9AD54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9875A-352F-471D-AD39-7977667E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3AE36-C740-4D8E-9AE9-AC37AFFB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A9699-0615-42CE-9F1A-2D661A64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D13B6-E0C8-4D2F-9B2E-05FCE52D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A747B-5853-4390-A006-0A99816B9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32B03-69A0-4E34-80BD-AF8E5A43E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FCC2-9364-4029-A1B5-4F55FC315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5D331-A4A1-4071-8EA0-5A9EA940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0B6FD-9C75-4AEE-8609-7F44CD408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C6F64-BB68-40C4-9DB0-33618D6B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7264-C38C-4100-AF46-EEC248EB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6D76A-EEF7-4E0B-A8FA-35083150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B89DD-B3B3-4636-8F0F-2A2D04E8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4A884-D3C8-4835-A48B-9289B66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5B4B3-31ED-4262-801C-27485080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3558E-8A96-4691-B2A8-C427801D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BD96F-8CC6-4874-BEEB-E2A4FEDC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F751-6B1D-401F-B599-C3D65D5C5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0CF-1E2E-44B6-A1F6-07C7A3A960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2BF1-6281-4813-B055-E0CD1A75D451}" type="slidenum">
              <a:rPr b="0" lang="fr-FR" sz="16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b6c5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e2e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048200">
            <a:off x="509040" y="5835240"/>
            <a:ext cx="161604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A618-2927-4F07-8BB6-05D7E1D78FDD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Calibri"/>
              </a:rPr>
              <a:t>PNP - Poitiers - 13 &amp; 14 octobre 2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25160" y="6275880"/>
            <a:ext cx="32328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1428-8813-4A80-8C09-026A77CF1D8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r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8B29-4CD6-456F-B3B7-CDB821082015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6468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A74-DC60-4CBC-8FAA-A9591A07845D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7E546-D445-4B49-9183-BA6E28E78EF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9E13-594E-46FD-BEA4-3D48A6A261B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3DD8-3CC9-4955-A3E7-E6464B6C1D5C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64680" y="6456600"/>
            <a:ext cx="309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CB55-CF21-41F9-88BC-27EFAB3B449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55DE-7670-4692-84CD-19DBA846E6C7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541000" y="6483600"/>
            <a:ext cx="309960" cy="24696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4CA-9DE3-4493-85DE-896BFEE6EF5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reeform 6"/>
          <p:cNvSpPr/>
          <p:nvPr/>
        </p:nvSpPr>
        <p:spPr>
          <a:xfrm>
            <a:off x="-3240" y="6330960"/>
            <a:ext cx="3575160" cy="52704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-1440" y="6324480"/>
            <a:ext cx="9145440" cy="53352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 rot="20517000">
            <a:off x="1004760" y="6480000"/>
            <a:ext cx="1044720" cy="2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019A-AB19-4F7D-94A8-44AB3FB26E16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29840" y="6456600"/>
            <a:ext cx="255960" cy="26928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1C4-A76D-488A-87A5-A14DC70DD78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1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b6c5d7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8374a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 rot="19183200">
            <a:off x="609480" y="5890680"/>
            <a:ext cx="1379520" cy="2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32FC-2F15-47B1-899C-F5C019C467E9}" type="datetime">
              <a:rPr b="0" lang="fr-FR" sz="1200" spc="-1" strike="noStrike">
                <a:solidFill>
                  <a:srgbClr val="ffffff"/>
                </a:solidFill>
                <a:latin typeface="Franklin Gothic Book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504960" y="640044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434342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434342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8474400" y="6275880"/>
            <a:ext cx="356400" cy="356400"/>
          </a:xfrm>
          <a:prstGeom prst="rect">
            <a:avLst/>
          </a:prstGeom>
          <a:noFill/>
          <a:ln w="19080">
            <a:solidFill>
              <a:srgbClr val="a6a6a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600" spc="-1" strike="noStrike">
                <a:solidFill>
                  <a:srgbClr val="28374a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381B-5FEC-4A4E-815F-9B270C094BB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Baccalauréat professionnel</a:t>
            </a:r>
            <a:br>
              <a:rPr sz="3600"/>
            </a:br>
            <a:r>
              <a:rPr b="0" lang="fr-FR" sz="4000" spc="-1" strike="noStrike">
                <a:solidFill>
                  <a:srgbClr val="c00000"/>
                </a:solidFill>
                <a:latin typeface="Franklin Gothic Medium"/>
              </a:rPr>
              <a:t>Gestion -- Administration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3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4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752184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2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objectifs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et quelles démarches ?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191-1F88-42D8-844F-99F36C53355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ux « cadres » de référenc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0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6C4-AC5C-46CE-93F2-2D1CE2C0C320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826920" y="1197000"/>
            <a:ext cx="6697800" cy="64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Projet Pluridisciplinaire à Caractère Professionnel </a:t>
            </a:r>
            <a:br>
              <a:rPr sz="2000"/>
            </a:b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Réalisation, en équipe, d'un objectif prenant en compte  les enseignements généraux mobilisés dans toute activité professionnelle ». (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Le socle commun et la compétence 1: Maîtrise de la la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Savoir lire, écrire et parler le français conditionne l'accès à tous les domaines du savoir et l'acquisition de toutes les compétences . »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« Faire accéder tous les élèves à la maîtrise de la langue française, à une expression précise et claire à l'oral comme à l'écrit, relève de l'enseignement du français mais aussi de toutes les disciplines. »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s objectifs des ateliers rédactionnels </a:t>
            </a:r>
            <a:r>
              <a:rPr b="0" lang="fr-FR" sz="2400" spc="-1" strike="noStrike">
                <a:solidFill>
                  <a:srgbClr val="c00000"/>
                </a:solidFill>
                <a:latin typeface="Franklin Gothic Medium"/>
                <a:ea typeface="Times New Roman"/>
              </a:rPr>
              <a:t>(RC. Annexe III c)</a:t>
            </a: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D9D6-D131-4829-81DC-98723E640CC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"/>
          <p:cNvSpPr/>
          <p:nvPr/>
        </p:nvSpPr>
        <p:spPr>
          <a:xfrm>
            <a:off x="250920" y="140652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« 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évelopper des comportements professionnels adapté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aux contextes et situations rencontrés (écoute, rigueur, réactivité, créativité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S’approprier les contextes de production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ceptualiser les différents documents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et supports de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Produire des documents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et supports de communication dans le respect de consignes, de procédures ou d’un cahier des char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Franklin Gothic Book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Contrôler la qualité rédactionnelle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  <a:ea typeface="Times New Roman"/>
              </a:rPr>
              <a:t>des documents et supports traités.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21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ans la logique des situations professionnell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8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DD82A-8A1E-4414-88B9-88513B6B81E9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ZoneTexte 4"/>
          <p:cNvSpPr/>
          <p:nvPr/>
        </p:nvSpPr>
        <p:spPr>
          <a:xfrm>
            <a:off x="1042920" y="1844640"/>
            <a:ext cx="7561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Préambule du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- 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Les savoirs rédactionnels sont centrés sur la production écrite en situation professionnel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- Ces savoirs sont présents dans </a:t>
            </a:r>
            <a:r>
              <a:rPr b="1" lang="fr-FR" sz="2400" spc="-1" strike="noStrike">
                <a:solidFill>
                  <a:srgbClr val="002060"/>
                </a:solidFill>
                <a:latin typeface="Franklin Gothic Book"/>
              </a:rPr>
              <a:t>17 situations professionnelles sur les 55 que comporte le référentiel.</a:t>
            </a:r>
            <a:r>
              <a:rPr b="0" lang="fr-FR" sz="2400" spc="-1" strike="noStrike">
                <a:solidFill>
                  <a:srgbClr val="00206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2240" y="1268280"/>
            <a:ext cx="752184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3 . </a:t>
            </a:r>
            <a:br>
              <a:rPr sz="3200"/>
            </a:b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quels apprentissages ?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1559-8CD1-44B1-A5FA-E7662CE58FE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Quelques genres d’écrits à travaill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822240" y="1100160"/>
            <a:ext cx="7521840" cy="51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Dans le cadre des 17 situations professionnelles du RC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d’un partenaire ou à un partenaire (réclamation à un fournisseur, relance client, sollicitation auprès d’une administration etc.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consignes de sécurité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s documents d’accueil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urrier à un salarié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iscour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’annonce </a:t>
            </a: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compte rendu de réunion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a fiche de synthèse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descriptif d’un projet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8374a"/>
                </a:solidFill>
                <a:latin typeface="Franklin Gothic Book"/>
              </a:rPr>
              <a:t>- Le rapport d’étape d’un projet etc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0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BD37-6874-4893-A4D6-4228790FF0F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9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7E7AC-BD86-4BD4-9B9F-B6578FC908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395280" y="879480"/>
          <a:ext cx="8496360" cy="5151600"/>
        </p:xfrm>
        <a:graphic>
          <a:graphicData uri="http://schemas.openxmlformats.org/drawingml/2006/table">
            <a:tbl>
              <a:tblPr/>
              <a:tblGrid>
                <a:gridCol w="2832120"/>
                <a:gridCol w="2832120"/>
                <a:gridCol w="2832120"/>
              </a:tblGrid>
              <a:tr h="18252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nées de la sit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associ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formance attend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371600"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données comptables et commerciales de l’organisatio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des d’accès aux sites de déclarations des formalité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juridiques relatives aux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informations sur le ou les partenaires concernés par la formal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océdures nécessaires à l’élaboration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règles à respecter pour maintenir la relation avec les différentes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Un environnement numérique de travail de type PG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de gestion et savoirs technolog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ervices et interlocuteurs de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enjeux de l’accomplissement des formali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courriers types de demandes administrati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principales formalités administratives, y compris au sein de l’UE et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voirs juridiques et économ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administrations, leurs finalités et leurs champs d’interven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subven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Les organismes europée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Savoirs réda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Lecture et écriture d’un genre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courrier de sollicitation auprès d’une 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 Procédés d’écri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positionnement et la situation de l’émette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a description et la justification de la requê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codes et règles du courrier aux administra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 lexique du souhait, de la demande, de l’autoris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• </a:t>
                      </a:r>
                      <a:r>
                        <a:rPr b="1" lang="fr-F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Les modes et temps des verbes : conditionn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lex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techn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nécessitant un processus long : échanges, validations, rendez-vo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intégrant des données juridiq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nombreuses exigeant l’établissement d’un calendrie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au sein de l’UE ou hors 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8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é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incomplètes ou non confor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s hors déla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rmalité déclarée irrecevable par l’administ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ét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ère d’évalu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rowSpan="2">
                  <a:txBody>
                    <a:bodyPr lIns="41760" rIns="41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ésultats attendus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s formalités administratives courantes sont réalisé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ndre en charge des formalité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ect des obligations administratives liées à l’activi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Leur présentation dans le référenti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822240" y="1100160"/>
            <a:ext cx="752184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Classe 1.3. Gestion administrative des relations avec les autres partenaires</a:t>
            </a:r>
            <a:r>
              <a:rPr b="1" lang="fr-FR" sz="1700" spc="-1" strike="noStrike">
                <a:solidFill>
                  <a:srgbClr val="4f81bd"/>
                </a:solidFill>
                <a:latin typeface="Arial"/>
                <a:ea typeface="Times New Roman"/>
              </a:rPr>
              <a:t>  </a:t>
            </a:r>
            <a:endParaRPr b="1" lang="en-US" sz="17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b81bd"/>
                </a:solidFill>
                <a:latin typeface="Arial"/>
                <a:ea typeface="Times New Roman"/>
              </a:rPr>
              <a:t>1.3.3. Traitement des formalités administratives</a:t>
            </a:r>
            <a:endParaRPr b="1" lang="en-US" sz="22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28374a"/>
                </a:solidFill>
                <a:latin typeface="Franklin Gothic Book"/>
              </a:rPr>
              <a:t>Savoirs associés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avoirs rédactionnel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Lecture et écriture d’un genre 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courrier de sollicitation auprès d’une administr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</a:rPr>
              <a:t>- Procédés d’écritur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positionnement et la situation de l’émetteur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a description et la justification de la requête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codes et règles du courrier aux administrations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 lexique du souhait, de la demande, de l’autorisation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• </a:t>
            </a:r>
            <a:r>
              <a:rPr b="1" lang="fr-FR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Les modes et temps des verbes : conditionnel</a:t>
            </a:r>
            <a:endParaRPr b="1" lang="en-US" sz="18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28374a"/>
                </a:solidFill>
                <a:latin typeface="Franklin Gothic Book"/>
              </a:rPr>
              <a:t>	</a:t>
            </a: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r" pos="2166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6C2C-E916-45A7-9507-66AF3948C38F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 exemple de courri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822240" y="907920"/>
            <a:ext cx="7521840" cy="532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96a1b"/>
            </a:solidFill>
            <a:miter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SARL   ESCOUZEL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roduits régionaux et biologiqu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                                                                                Labastide, le 1</a:t>
            </a:r>
            <a:r>
              <a:rPr b="1" lang="fr-FR" sz="1000" spc="-1" strike="noStrike" baseline="30000">
                <a:solidFill>
                  <a:srgbClr val="000000"/>
                </a:solidFill>
                <a:latin typeface="Franklin Gothic Book"/>
              </a:rPr>
              <a:t>er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octobre 2011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                                                                                            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     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Hôtel de Ville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Place Royale       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40240 Labastide d’Armagnac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Objet : modification couleur menuiseries extérieures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Monsieur le Maire,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mme suite à notre courrier du 24 août dernier au service départemental de l’architecture et du patrimoine des Landes, et à la rencontre du 22 septembre avec Monsieur Gileti, architecte des Bâtiments de France et à son courrier du 29, nous avons pris bonne note des références qu’il nous a conseill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avons donc l’honneur de vous informer que, conformément à l’avis de Monsieur Gileti, nous allons utiliser, pour la peinture des menuiseries extérieures de notre commerce de Labastide d’Armagnac , les références des couleurs suivantes :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i="1" lang="fr-FR" sz="1000" spc="-1" strike="noStrike">
                <a:solidFill>
                  <a:srgbClr val="000000"/>
                </a:solidFill>
                <a:latin typeface="Franklin Gothic Book"/>
              </a:rPr>
              <a:t>Nuancier Sikkens Color, collection 2021, page 88, G8.1060 ou G8.1070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Nous vous prions d’agréer, Monsieur le Maire, l’expression de nos salutations les plus distinguées.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 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Le Gérant, Pierre Escouzel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1" lang="fr-FR" sz="1000" spc="-1" strike="noStrike">
                <a:solidFill>
                  <a:srgbClr val="000000"/>
                </a:solidFill>
                <a:latin typeface="Franklin Gothic Book"/>
              </a:rPr>
              <a:t>copie : M. Gileti      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  <a:p>
            <a:pPr marL="281160" indent="-2811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  </a:t>
            </a:r>
            <a:endParaRPr b="1" lang="en-US" sz="1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1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C626-C528-4208-8F72-2DAF5579755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Image 11" descr="label-ab-europeen.jpg"/>
          <p:cNvPicPr/>
          <p:nvPr/>
        </p:nvPicPr>
        <p:blipFill>
          <a:blip r:embed="rId1"/>
          <a:stretch/>
        </p:blipFill>
        <p:spPr>
          <a:xfrm>
            <a:off x="900000" y="981000"/>
            <a:ext cx="576360" cy="385920"/>
          </a:xfrm>
          <a:prstGeom prst="rect">
            <a:avLst/>
          </a:prstGeom>
          <a:ln w="0">
            <a:noFill/>
          </a:ln>
        </p:spPr>
      </p:pic>
      <p:sp>
        <p:nvSpPr>
          <p:cNvPr id="421" name="Bouton d'action : Personnalisé 5">
            <a:hlinkClick r:id="rId2" action="ppaction://hlinksldjump"/>
          </p:cNvPr>
          <p:cNvSpPr/>
          <p:nvPr/>
        </p:nvSpPr>
        <p:spPr>
          <a:xfrm>
            <a:off x="179280" y="5805360"/>
            <a:ext cx="432000" cy="216000"/>
          </a:xfrm>
          <a:custGeom>
            <a:avLst/>
            <a:gdLst>
              <a:gd name="textAreaLeft" fmla="*/ 13680 w 432000"/>
              <a:gd name="textAreaRight" fmla="*/ 418320 w 432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ranklin Gothic Book"/>
              </a:rPr>
              <a:t>+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Bouton d'action : Personnalisé 6">
            <a:hlinkClick r:id="rId3" action="ppaction://hlinksldjump"/>
          </p:cNvPr>
          <p:cNvSpPr/>
          <p:nvPr/>
        </p:nvSpPr>
        <p:spPr>
          <a:xfrm>
            <a:off x="171360" y="5326200"/>
            <a:ext cx="432000" cy="263520"/>
          </a:xfrm>
          <a:custGeom>
            <a:avLst/>
            <a:gdLst>
              <a:gd name="textAreaLeft" fmla="*/ 16920 w 432000"/>
              <a:gd name="textAreaRight" fmla="*/ 415080 w 432000"/>
              <a:gd name="textAreaTop" fmla="*/ 16920 h 263520"/>
              <a:gd name="textAreaBottom" fmla="*/ 246600 h 263520"/>
            </a:gdLst>
            <a:ahLst/>
            <a:rect l="textAreaLeft" t="textAreaTop" r="textAreaRight" b="textAreaBottom"/>
            <a:pathLst>
              <a:path w="35391" h="21600">
                <a:moveTo>
                  <a:pt x="0" y="0"/>
                </a:moveTo>
                <a:lnTo>
                  <a:pt x="35391" y="0"/>
                </a:lnTo>
                <a:lnTo>
                  <a:pt x="35391" y="21600"/>
                </a:lnTo>
                <a:lnTo>
                  <a:pt x="0" y="21600"/>
                </a:lnTo>
                <a:close/>
              </a:path>
              <a:path fill="lightenLess" w="35391" h="21600">
                <a:moveTo>
                  <a:pt x="0" y="0"/>
                </a:moveTo>
                <a:lnTo>
                  <a:pt x="35391" y="0"/>
                </a:lnTo>
                <a:lnTo>
                  <a:pt x="33991" y="1400"/>
                </a:lnTo>
                <a:lnTo>
                  <a:pt x="1400" y="1400"/>
                </a:lnTo>
                <a:close/>
              </a:path>
              <a:path fill="darken" w="35391" h="21600">
                <a:moveTo>
                  <a:pt x="35391" y="0"/>
                </a:moveTo>
                <a:lnTo>
                  <a:pt x="35391" y="21600"/>
                </a:lnTo>
                <a:lnTo>
                  <a:pt x="33991" y="20200"/>
                </a:lnTo>
                <a:lnTo>
                  <a:pt x="33991" y="1400"/>
                </a:lnTo>
                <a:close/>
              </a:path>
              <a:path fill="darkenLess" w="35391" h="21600">
                <a:moveTo>
                  <a:pt x="353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91" y="20200"/>
                </a:lnTo>
                <a:close/>
              </a:path>
              <a:path fill="lighten" w="353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Franklin Gothic Book"/>
              </a:rPr>
              <a:t>+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</a:t>
            </a:r>
            <a:r>
              <a:rPr b="0" lang="fr-FR" sz="1800" spc="-1" strike="noStrike">
                <a:solidFill>
                  <a:srgbClr val="c00000"/>
                </a:solidFill>
                <a:latin typeface="Franklin Gothic Medium"/>
              </a:rPr>
              <a:t>(RC Annexe III c)</a:t>
            </a:r>
            <a:endParaRPr b="0" lang="en-US" sz="1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2240" y="1267920"/>
            <a:ext cx="75218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1. Communication et énonci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Contexte, situation de communication et ses marques dans l’énonciation du text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identités des interlocuteurs, pronoms personnels, indicateurs temporels, temps verbaux  (antériorité, simultanéité, postériorité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2. Visées et enjeux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Visée informative avec un enjeu « civique » implicit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ode indicatif, phrases déclaratives, mise en paragraphes, valorisation de la décision, lexique  « neutre »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3.Genres des documents professionnel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 courrier d’information d’un  commerçant  à une administr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Mise en page du courrier, formules d’usage…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25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DA2F-A124-472D-B4AE-289120ED2226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Bouton d'action : Personnalisé 7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 rot="19107000">
            <a:off x="801360" y="1817280"/>
            <a:ext cx="6294240" cy="12034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Des compétences…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aux ateliers rédactionnel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 rot="19126800">
            <a:off x="1645560" y="3153960"/>
            <a:ext cx="5708520" cy="3985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8374a"/>
                </a:solidFill>
                <a:latin typeface="Franklin Gothic Book"/>
                <a:ea typeface="Tunga"/>
              </a:rPr>
              <a:t>PROGRAMME NATIONAL DE PILOTAGE</a:t>
            </a: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pic>
        <p:nvPicPr>
          <p:cNvPr id="357" name="Picture 2" descr="E:\Mes docs\DD_Paris\AL\2010_2011\BTS_SIO\MENJVA_LOGO_Q.gif"/>
          <p:cNvPicPr/>
          <p:nvPr/>
        </p:nvPicPr>
        <p:blipFill>
          <a:blip r:embed="rId1"/>
          <a:stretch/>
        </p:blipFill>
        <p:spPr>
          <a:xfrm>
            <a:off x="108000" y="333360"/>
            <a:ext cx="2143080" cy="1981080"/>
          </a:xfrm>
          <a:prstGeom prst="rect">
            <a:avLst/>
          </a:prstGeom>
          <a:ln w="0">
            <a:noFill/>
          </a:ln>
        </p:spPr>
      </p:pic>
      <p:sp>
        <p:nvSpPr>
          <p:cNvPr id="358" name="Sous-titre 2"/>
          <p:cNvSpPr/>
          <p:nvPr/>
        </p:nvSpPr>
        <p:spPr>
          <a:xfrm>
            <a:off x="4140360" y="6265800"/>
            <a:ext cx="436860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8374a"/>
                </a:solidFill>
                <a:latin typeface="Calibri"/>
                <a:ea typeface="Calibri"/>
              </a:rPr>
              <a:t>Poitiers – 13 &amp; 14 octobre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xploitation des cinq niveaux (suite)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822240" y="1099800"/>
            <a:ext cx="752184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4. Lexique professionnel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thémat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xique usuel codifié selon l’usage et les relations (hiérarchiques ou entre « pairs »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5. Mobilisation de connaissances et de codes orthographique, grammatical et syntaxique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caractères typographiques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« marques de personne », les modes et temps verbaux, (valeurs et conjugaisons), les accords, la syntaxe, la ponctuation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a cohésion du texte (connecteurs, faits de reprise) et cohérence logique (mise en paragraphes, progression de l’information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→ </a:t>
            </a:r>
            <a:r>
              <a:rPr b="0" lang="fr-FR" sz="2000" spc="-1" strike="noStrike">
                <a:solidFill>
                  <a:srgbClr val="002060"/>
                </a:solidFill>
                <a:latin typeface="Franklin Gothic Book"/>
              </a:rPr>
              <a:t>Les niveaux de langue et l’orthographe lexical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Franklin Gothic Book"/>
              </a:rPr>
              <a:t>Une révision en situation, au fil de l’écriture et de la réécriture.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3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6044-0329-4268-A104-C80D70C11B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Bouton d'action : Personnalisé 6">
            <a:hlinkClick r:id="rId1" action="ppaction://hlinksldjump"/>
          </p:cNvPr>
          <p:cNvSpPr/>
          <p:nvPr/>
        </p:nvSpPr>
        <p:spPr>
          <a:xfrm>
            <a:off x="250920" y="5981760"/>
            <a:ext cx="612720" cy="287280"/>
          </a:xfrm>
          <a:custGeom>
            <a:avLst/>
            <a:gdLst>
              <a:gd name="textAreaLeft" fmla="*/ 18360 w 612720"/>
              <a:gd name="textAreaRight" fmla="*/ 594360 w 612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6039" h="21600">
                <a:moveTo>
                  <a:pt x="0" y="0"/>
                </a:moveTo>
                <a:lnTo>
                  <a:pt x="46039" y="0"/>
                </a:lnTo>
                <a:lnTo>
                  <a:pt x="46039" y="21600"/>
                </a:lnTo>
                <a:lnTo>
                  <a:pt x="0" y="21600"/>
                </a:lnTo>
                <a:close/>
              </a:path>
              <a:path fill="lightenLess" w="46039" h="21600">
                <a:moveTo>
                  <a:pt x="0" y="0"/>
                </a:moveTo>
                <a:lnTo>
                  <a:pt x="46039" y="0"/>
                </a:lnTo>
                <a:lnTo>
                  <a:pt x="44639" y="1400"/>
                </a:lnTo>
                <a:lnTo>
                  <a:pt x="1400" y="1400"/>
                </a:lnTo>
                <a:close/>
              </a:path>
              <a:path fill="darken" w="46039" h="21600">
                <a:moveTo>
                  <a:pt x="46039" y="0"/>
                </a:moveTo>
                <a:lnTo>
                  <a:pt x="46039" y="21600"/>
                </a:lnTo>
                <a:lnTo>
                  <a:pt x="44639" y="20200"/>
                </a:lnTo>
                <a:lnTo>
                  <a:pt x="44639" y="1400"/>
                </a:lnTo>
                <a:close/>
              </a:path>
              <a:path fill="darkenLess" w="46039" h="21600">
                <a:moveTo>
                  <a:pt x="46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39" y="20200"/>
                </a:lnTo>
                <a:close/>
              </a:path>
              <a:path fill="lighten" w="46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c9cbcd"/>
              </a:gs>
              <a:gs pos="100000">
                <a:srgbClr val="f0f1f2"/>
              </a:gs>
            </a:gsLst>
            <a:lin ang="16200000"/>
          </a:gradFill>
          <a:ln w="9360">
            <a:solidFill>
              <a:srgbClr val="76787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Franklin Gothic Book"/>
              </a:rPr>
              <a:t>Courr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5218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4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Quels types d’ateliers et comment les mettre en place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4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EDF7-4013-4462-A517-69C1F93443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ifférents types d’atelier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7" name="Espace réservé du pied de page 2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847728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CC90-3BC8-4005-8962-CD46F2379AC8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ZoneTexte 4"/>
          <p:cNvSpPr/>
          <p:nvPr/>
        </p:nvSpPr>
        <p:spPr>
          <a:xfrm>
            <a:off x="826920" y="1197000"/>
            <a:ext cx="734544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observation et d’analyse du réel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ocuments et supports de communication exist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simula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de situations professionn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à partir de demandes réell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e partage d’expériences de production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après des PFM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- Ateliers de transposition rédactionnelle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(changement d’énonciateur, de cibles, de contraintes, de supports… dans des contextes plus ou moins critique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- </a:t>
            </a:r>
            <a:r>
              <a:rPr b="1" lang="fr-FR" sz="2000" spc="-1" strike="noStrike">
                <a:solidFill>
                  <a:srgbClr val="000000"/>
                </a:solidFill>
                <a:latin typeface="Franklin Gothic Book"/>
              </a:rPr>
              <a:t>Ateliers d’auto-formation, </a:t>
            </a:r>
            <a:r>
              <a:rPr b="0" lang="fr-FR" sz="2000" spc="-1" strike="noStrike">
                <a:solidFill>
                  <a:srgbClr val="000000"/>
                </a:solidFill>
                <a:latin typeface="Franklin Gothic Book"/>
              </a:rPr>
              <a:t>notamment aux logiciels dédié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12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Avec une organisation propre à chaque établissemen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821880" y="1557360"/>
            <a:ext cx="7637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Franklin Gothic Book"/>
              </a:rPr>
              <a:t>Des séances en co-animation dans le cadre (et/ou)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Enseignement Général en Lien avec la Spécialité (EGLS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 horaires dédiés à l’accompagnement personnalisé (AP)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s PFMP : avant, pendant et après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de projets à caractère pluridisciplinaire et professionnel,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→  </a:t>
            </a:r>
            <a:r>
              <a:rPr b="0" lang="fr-FR" sz="2400" spc="-1" strike="noStrike">
                <a:solidFill>
                  <a:srgbClr val="000000"/>
                </a:solidFill>
                <a:latin typeface="Franklin Gothic Book"/>
              </a:rPr>
              <a:t>Pas d’horaires spécifiques. Projet d’établissement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  <a:p>
            <a:pPr marL="332640" indent="-332640">
              <a:spcBef>
                <a:spcPts val="799"/>
              </a:spcBef>
              <a:buClr>
                <a:srgbClr val="28374a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B20B-B901-4C04-9C9C-D92FA705E5C1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En guise de conclusion…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822240" y="1100160"/>
            <a:ext cx="75218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« Écrire est toujours un art plein de rencontr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La lettre la plus simple suppose un choix entre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des milliers de mots, dont la plupart sont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Franklin Gothic Book"/>
              </a:rPr>
              <a:t>étrangers à ce que vous voulez dire. »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Franklin Gothic Book"/>
              </a:rPr>
              <a:t>Alain - 1934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44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856F-D54E-4628-947B-ABD8C27476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6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lan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22240" y="1100160"/>
            <a:ext cx="752184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quoi des ateliers rédactionnels ? 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objectifs  et quelles démarch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Pour quels apprentissages?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28374a"/>
                </a:solidFill>
                <a:latin typeface="Franklin Gothic Book"/>
              </a:rPr>
              <a:t>Quels types d’ateliers et comment les mettre en place ? 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1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6772-7F8C-4FAF-B9EC-A7D1F767130B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464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1. 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Franklin Gothic Medium"/>
              </a:rPr>
              <a:t>Pourquoi des ateliers rédactionnels ?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B2A2-FC16-49FA-A88D-98B01E4B8FF3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822240" y="1989000"/>
            <a:ext cx="75218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Note d’opportunité 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28374a"/>
                </a:solidFill>
                <a:latin typeface="Franklin Gothic Book"/>
              </a:rPr>
              <a:t>« La compétence à communiquer intègre une maîtrise langagière spécifique du métier et une utilisation du lexique de l’organisation dans tout type de contexte et de situation professionnels. »</a:t>
            </a: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68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9DE7-76C8-4CE6-873B-013E16B49137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indispensables au professionn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26920" y="1125360"/>
            <a:ext cx="752184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8374a"/>
                </a:solidFill>
                <a:latin typeface="Franklin Gothic Book"/>
              </a:rPr>
              <a:t>Le Référentiel d’Activités Professionnelles  (RAP)</a:t>
            </a: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28374a"/>
                </a:solidFill>
                <a:latin typeface="Franklin Gothic Book"/>
              </a:rPr>
              <a:t>«</a:t>
            </a:r>
            <a:r>
              <a:rPr b="0" i="1" lang="fr-FR" sz="2800" spc="-1" strike="noStrike">
                <a:solidFill>
                  <a:srgbClr val="28374a"/>
                </a:solidFill>
                <a:latin typeface="Franklin Gothic Book"/>
              </a:rPr>
              <a:t>  </a:t>
            </a:r>
            <a:r>
              <a:rPr b="1" i="1" lang="fr-FR" sz="2400" spc="-1" strike="noStrike">
                <a:solidFill>
                  <a:srgbClr val="28374a"/>
                </a:solidFill>
                <a:latin typeface="Franklin Gothic Book"/>
              </a:rPr>
              <a:t>Dans son rôle d’interface et de producteur de documents et de supports de communication, le titulaire du baccalauréat professionnel Gestion-Administration doit maîtriser la qualité de son expression écrite et orale. Vecteur de l’image de l’organisation, sa maîtrise de l’orthographe et de la syntaxe est impérative. »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2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D102-E0B0-4468-990B-2BFE7DE3FD6C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Des compétences rédactionnelles complex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826920" y="1341360"/>
            <a:ext cx="752184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s situations de communication et des productions écrites très diverses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Mobilisant des connaissances et capacités langagières spécifiques variant selon les productions attendues 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8374a"/>
                </a:solidFill>
                <a:latin typeface="Franklin Gothic Book"/>
              </a:rPr>
              <a:t>De la part d’élèves ou d’apprentis qui, au sortir de la troisième générale ou de la troisième préparant à la voie professionnelle, n’auront peut-être pas encore validé la compétence 1 du socle commun.</a:t>
            </a:r>
            <a:endParaRPr b="1" lang="en-US" sz="24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76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B9A6-7517-4BCA-A088-D0C2F3C386C4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2240" y="364680"/>
            <a:ext cx="75218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Une nécessaire collaboration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280" y="1267920"/>
            <a:ext cx="7588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Un enseignement en co-disciplinarité: professeur de français (PLP Lettres-histoire ou PLP langue-Lettres) et professeur d’économie-gestion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Chaque professeur apportant, selon les productions travaillées, ses compétences disciplinaires spécifi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Dans un esprit de découverte, de mutualisation et d’enrichissement réciproques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0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D828-C0F6-491E-80CA-F72D3739912A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Franklin Gothic Medium"/>
              </a:rPr>
              <a:t>Pour des finalités divers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822240" y="1099800"/>
            <a:ext cx="752184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ire  évoluer les représentations des jeunes dans l’apprentissage d’un métier :  liaison EG /EP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faciliter les poursuites d’étud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28374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8374a"/>
                </a:solidFill>
                <a:latin typeface="Franklin Gothic Book"/>
              </a:rPr>
              <a:t>Pour parfaire les compétences  rédactionnelles des jeunes qu’elles soient professionnelles ou plus personnelles.</a:t>
            </a: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8374a"/>
              </a:solidFill>
              <a:latin typeface="Franklin Gothic Book"/>
            </a:endParaRPr>
          </a:p>
        </p:txBody>
      </p:sp>
      <p:sp>
        <p:nvSpPr>
          <p:cNvPr id="384" name="Espace réservé du pied de page 3"/>
          <p:cNvSpPr/>
          <p:nvPr/>
        </p:nvSpPr>
        <p:spPr>
          <a:xfrm>
            <a:off x="3505320" y="640080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8374a"/>
                </a:solidFill>
                <a:latin typeface="Franklin Gothic Book"/>
              </a:rPr>
              <a:t>PNP - POITIERS - 13 &amp; 14 OCTOBRE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8400960" y="6432480"/>
            <a:ext cx="438120" cy="349200"/>
          </a:xfrm>
          <a:prstGeom prst="ellipse">
            <a:avLst/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D264-920C-4308-A3B9-2A95CAF40212}" type="slidenum">
              <a:rPr b="0" lang="fr-FR" sz="1600" spc="-1" strike="noStrike">
                <a:solidFill>
                  <a:srgbClr val="28374a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06:57:33Z</dcterms:created>
  <dc:creator>Simon</dc:creator>
  <dc:description/>
  <cp:keywords/>
  <dc:language>en-US</dc:language>
  <cp:lastModifiedBy>Edith Simon</cp:lastModifiedBy>
  <dcterms:modified xsi:type="dcterms:W3CDTF">2011-10-25T19:03:02Z</dcterms:modified>
  <cp:revision>167</cp:revision>
  <dc:subject/>
  <dc:title>Présentation PowerPoint</dc:title>
</cp:coreProperties>
</file>