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20BE-B5E5-4327-90B5-D38FEB1781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2EFB-C8E5-4D01-B6F0-748897D5C3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0D8-BB77-4EE0-AD57-BC1808E6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C5A-427F-4994-B407-F58AD139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7988-82E4-4F02-A2AB-6A22D50F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C9E-DC1F-402C-AAAB-C607B30A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056-843B-4681-A7AC-73B1A275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0D54-554B-440B-A1E2-ECB1143A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AAA6-5707-4982-9455-4EB21AFFA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0118-810E-4A24-959C-5BD793F5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653-B07D-4425-8BD2-AD7B9B07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436-ADE9-4EA5-93F8-6A20C75A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251C-3864-4869-866C-0D5D986C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E42-2306-4263-BE4C-D8C8D749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EC35-9074-4B3D-A219-73D6E09B2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35676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Le BEP Métiers des services administratif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Diagramme 4" descr=""/>
          <p:cNvPicPr/>
          <p:nvPr/>
        </p:nvPicPr>
        <p:blipFill>
          <a:blip r:embed="rId1"/>
          <a:stretch/>
        </p:blipFill>
        <p:spPr>
          <a:xfrm>
            <a:off x="1517760" y="1378080"/>
            <a:ext cx="6108480" cy="41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80840" y="9540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Tâches et attendus RAP BEP 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Object 7" descr=""/>
          <p:cNvPicPr/>
          <p:nvPr/>
        </p:nvPicPr>
        <p:blipFill>
          <a:blip r:embed="rId1"/>
          <a:stretch/>
        </p:blipFill>
        <p:spPr>
          <a:xfrm>
            <a:off x="123840" y="1000080"/>
            <a:ext cx="8894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428760" y="317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Rapprochement avec les épreuves du BEP M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Object 5" descr=""/>
          <p:cNvPicPr/>
          <p:nvPr/>
        </p:nvPicPr>
        <p:blipFill>
          <a:blip r:embed="rId1"/>
          <a:stretch/>
        </p:blipFill>
        <p:spPr>
          <a:xfrm>
            <a:off x="225360" y="1000080"/>
            <a:ext cx="880128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Book"/>
              </a:rPr>
              <a:t>Attache du BEP MSA à une classe de situ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Object 17" descr=""/>
          <p:cNvPicPr/>
          <p:nvPr/>
        </p:nvPicPr>
        <p:blipFill>
          <a:blip r:embed="rId1"/>
          <a:stretch/>
        </p:blipFill>
        <p:spPr>
          <a:xfrm>
            <a:off x="284040" y="1292400"/>
            <a:ext cx="873468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b2181c"/>
                </a:solidFill>
                <a:latin typeface="Franklin Gothic Book"/>
                <a:ea typeface="Franklin Gothic Book"/>
              </a:rPr>
              <a:t>Zoom sur une situ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457200" y="12952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1.1. Gestion administrative des relations avec les fournisseu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ituation : </a:t>
            </a:r>
            <a:r>
              <a:rPr b="1" lang="fr-FR" sz="1800" spc="-1" strike="noStrike">
                <a:solidFill>
                  <a:srgbClr val="b2181c"/>
                </a:solidFill>
                <a:latin typeface="Calibri"/>
              </a:rPr>
              <a:t>1.1.5- Gestion des règlements et traitement des liti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286000"/>
          <a:ext cx="8610840" cy="3463920"/>
        </p:xfrm>
        <a:graphic>
          <a:graphicData uri="http://schemas.openxmlformats.org/drawingml/2006/table">
            <a:tbl>
              <a:tblPr/>
              <a:tblGrid>
                <a:gridCol w="1922760"/>
                <a:gridCol w="2085840"/>
                <a:gridCol w="4602240"/>
              </a:tblGrid>
              <a:tr h="254160"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du bac 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ache BEP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dus BEP M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rowSpan="4"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T2 -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 Saisie et mise en forme de courriers, de notes, des comptes-rend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s documents sont réalisés dans le respect des normes de présentation avec une bonne lisibilit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5 -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, contrôle et codification des docu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informations manipulées sont mises à jour, les données saisies exactes et les résultats f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3 </a:t>
                      </a: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Mise à jour et rangement des dossi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 dossiers sont ordonnés et leur contenu actuali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R3 </a:t>
                      </a: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- Restitution vers le supérieur hiérarchique du travail réalisé, des problèmes rencontr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" rIns="10080" tIns="1008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600" spc="-1" strike="noStrike">
                          <a:solidFill>
                            <a:srgbClr val="4f81bd"/>
                          </a:solidFill>
                          <a:latin typeface="Calibri"/>
                        </a:rPr>
                        <a:t>Le supérieur hiérarchique est informé du résultat de la tâche confiée et des difficultés rencontré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0080" marR="10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4:25:37Z</dcterms:created>
  <dc:creator>Isa</dc:creator>
  <dc:description/>
  <cp:keywords/>
  <dc:language>en-US</dc:language>
  <cp:lastModifiedBy>Edith Simon</cp:lastModifiedBy>
  <dcterms:modified xsi:type="dcterms:W3CDTF">2011-10-25T19:13:03Z</dcterms:modified>
  <cp:revision>40</cp:revision>
  <dc:subject/>
  <dc:title>Rattachement BEP MSA</dc:title>
</cp:coreProperties>
</file>