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B922-7B69-413C-B839-D2915745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521-605B-407E-AFC7-CA738DD3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05BA-85C9-4FA4-AE8C-7F805192C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CF8-3259-4F01-A276-6B34A215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9049-BEE3-42DC-B718-AF674E7C7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607-9AC3-4DCF-95A9-58E6FBA3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69EB-B901-47C5-8166-EF2EA9F7C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595F-C79D-4FDF-9730-9683835C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AF56-91A6-401D-8856-D9F2899D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31565-E3DF-45CE-B4B8-70B59CD9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A2A9-0AD5-4E5C-8299-F7123061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018F-A96D-4BF3-9277-61634098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5764-D517-4757-B7FE-0100367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54B3-D02C-430D-8A0C-4839EB3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7FCE-1090-4675-8DC4-E030A020B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23FF-8B14-483B-9D0D-80E01EFB2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8662F-75FE-433C-8664-8C0895ACA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21ED6-7F36-4D61-88E9-1FD4A057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7CF24-DB58-4687-BFF2-A3D2510E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F40C0-E19D-484B-8B20-6723859D6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D7999-5D04-4FD4-94F6-8557CEFA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19001-4DB3-4D16-B7A0-3FFE0DAF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917-972E-424B-917F-E2260F7C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C240-B345-4F51-AD87-98B37453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CC121-F596-471C-B607-5E14527D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13975-3ED8-4F24-9012-ADE50DEA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5C271-4D65-45C4-A9A8-A31E807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93366-6806-4791-935E-1254AC98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E8FA-B582-4261-AEF1-3EED6BC0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24B1-54B0-4C80-8A4D-C3F8F95C4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DE699-E0A2-4EB9-9995-D1808DFB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0CCB-82C7-4A28-AE58-BCBC539E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C0E3-F992-463F-875E-3ED6D754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38BB-843A-41D5-8B8F-2C84DCD8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7716-2DA9-41E2-8637-28C4267F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08D78-4B6D-4A18-A6E3-4D8B60D4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31D71-E786-47B3-BC59-6271B98C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00B7-7D0B-4814-9DF8-227C83EC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F18BA-B054-437D-83A9-CFA7C1C9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36FA2-5BDA-4025-B729-2771EC1F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01F4-877D-4E8C-B364-C5DE6FAC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2FF8A-5DBE-4C23-9BFD-10888981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175A6-866F-42BE-946A-D7A283C43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C76D1-FAEA-43C2-885C-B6A01BE6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F433-268E-4246-92DB-9791B1B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37B4F-7168-454B-ADA4-029615A5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AA694-6E49-477D-ADB9-8E3074BB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B6CA1-F89A-428E-9E49-95C83831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6FC7D-7C1F-40F4-970A-37E1CD8B3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AF851-BA68-439F-9C00-A77F172D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62053-748C-4099-BDC2-7082E23A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6B131-CCAC-4993-8584-E437F9C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01F8-85BB-41F2-9673-89BF7669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D9658-C240-47DC-9574-7FE634A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B3B42-9FBF-43E8-A212-45D2191A1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B45C-1843-43C8-B487-FB9DEB7E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EEE56-28E9-4495-88A9-0B3437DC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130-DB4E-4344-9C23-58E56052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DC9E-106E-4A3A-A3BB-F0ABACFC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533-629C-41E7-8958-AC1C2175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57F1-3D88-49A5-BA7E-FD016B222580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C7E6-BBF8-4780-9CC4-17BB5348550C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8E15-1F16-4E1B-BA40-1186EE1C9EC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10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DCE-4ACB-44A9-87B6-CADD2968BD14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75F3-151A-4FE5-860A-C65C4C98B7EA}" type="slidenum">
              <a:rPr b="0" lang="fr-FR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image" Target="../media/image31.png"/><Relationship Id="rId16" Type="http://schemas.openxmlformats.org/officeDocument/2006/relationships/image" Target="../media/image32.png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26600" y="4652640"/>
            <a:ext cx="7777080" cy="15080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ctr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Centre de ressources pour l'enseignement professionnel </a:t>
            </a:r>
            <a:br>
              <a:rPr sz="2400"/>
            </a:b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en économie-gestio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www.cerpeg.ac-versailles.fr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19" name="Rectangle 5" descr=""/>
          <p:cNvPicPr/>
          <p:nvPr/>
        </p:nvPicPr>
        <p:blipFill>
          <a:blip r:embed="rId2"/>
          <a:stretch/>
        </p:blipFill>
        <p:spPr>
          <a:xfrm>
            <a:off x="3687840" y="1116000"/>
            <a:ext cx="51750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1" name="Espace réservé du contenu 2"/>
          <p:cNvSpPr/>
          <p:nvPr/>
        </p:nvSpPr>
        <p:spPr>
          <a:xfrm>
            <a:off x="755640" y="1844640"/>
            <a:ext cx="7416720" cy="41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Un des cinq centres de ressources du dispositif national en économie-gestion pour la formation continue des enseign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Réseau pédagogique mis en place par la direction générale de l'enseignement scolaire (DGESCO) selon des orientations proposées par l'inspection géné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Sous la responsabilité d’un IG : Didier Mich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3"/>
          <p:cNvSpPr/>
          <p:nvPr/>
        </p:nvSpPr>
        <p:spPr>
          <a:xfrm>
            <a:off x="611280" y="1989000"/>
            <a:ext cx="7921440" cy="31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estiné principalement aux professeurs d'économie gestion de lycée professi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Pour les formations des niveaux IV et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03030"/>
                </a:solidFill>
                <a:latin typeface="Calibri"/>
              </a:rPr>
              <a:t>Dans les domaines de la gestion et de l’économie dro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29" name="ZoneTexte 3"/>
          <p:cNvSpPr/>
          <p:nvPr/>
        </p:nvSpPr>
        <p:spPr>
          <a:xfrm>
            <a:off x="468360" y="2060640"/>
            <a:ext cx="7529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Il s'appuie su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réseau de profess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otivés par l’innovation pédagog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Wingdings" charset="2"/>
              <a:buChar char="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enant des expériences dans leurs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879560" indent="-342720">
              <a:lnSpc>
                <a:spcPct val="100000"/>
              </a:lnSpc>
              <a:buClr>
                <a:srgbClr val="c80064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6840" indent="-228600">
              <a:lnSpc>
                <a:spcPct val="100000"/>
              </a:lnSpc>
              <a:buClr>
                <a:srgbClr val="c80064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comité de pilo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pied de page 1"/>
          <p:cNvSpPr/>
          <p:nvPr/>
        </p:nvSpPr>
        <p:spPr>
          <a:xfrm>
            <a:off x="684360" y="6208560"/>
            <a:ext cx="4951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Espace réservé de la date 4"/>
          <p:cNvSpPr/>
          <p:nvPr/>
        </p:nvSpPr>
        <p:spPr>
          <a:xfrm>
            <a:off x="6248520" y="6208560"/>
            <a:ext cx="213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Calibri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33" name="Groupe 5"/>
          <p:cNvGrpSpPr/>
          <p:nvPr/>
        </p:nvGrpSpPr>
        <p:grpSpPr>
          <a:xfrm>
            <a:off x="1130400" y="1235160"/>
            <a:ext cx="4103640" cy="2843280"/>
            <a:chOff x="1130400" y="1235160"/>
            <a:chExt cx="4103640" cy="2843280"/>
          </a:xfrm>
        </p:grpSpPr>
        <p:grpSp>
          <p:nvGrpSpPr>
            <p:cNvPr id="234" name="Ellipse 26"/>
            <p:cNvGrpSpPr/>
            <p:nvPr/>
          </p:nvGrpSpPr>
          <p:grpSpPr>
            <a:xfrm>
              <a:off x="1130400" y="1235160"/>
              <a:ext cx="4103640" cy="2843280"/>
              <a:chOff x="1130400" y="1235160"/>
              <a:chExt cx="4103640" cy="2843280"/>
            </a:xfrm>
          </p:grpSpPr>
          <p:pic>
            <p:nvPicPr>
              <p:cNvPr id="235" name="Ellips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130400" y="1235160"/>
                <a:ext cx="4103640" cy="284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1750680" y="1667880"/>
                <a:ext cx="2869200" cy="19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Groupe 2"/>
            <p:cNvGrpSpPr/>
            <p:nvPr/>
          </p:nvGrpSpPr>
          <p:grpSpPr>
            <a:xfrm>
              <a:off x="1695240" y="2068560"/>
              <a:ext cx="1292400" cy="418680"/>
              <a:chOff x="1695240" y="2068560"/>
              <a:chExt cx="1292400" cy="418680"/>
            </a:xfrm>
          </p:grpSpPr>
          <p:pic>
            <p:nvPicPr>
              <p:cNvPr id="238" name="Rectangle 28" descr=""/>
              <p:cNvPicPr/>
              <p:nvPr/>
            </p:nvPicPr>
            <p:blipFill>
              <a:blip r:embed="rId4"/>
              <a:stretch/>
            </p:blipFill>
            <p:spPr>
              <a:xfrm>
                <a:off x="1866960" y="2186640"/>
                <a:ext cx="927360" cy="270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Rectangle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1695240" y="2068560"/>
                <a:ext cx="1292400" cy="418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0" name="Groupe 10"/>
          <p:cNvGrpSpPr/>
          <p:nvPr/>
        </p:nvGrpSpPr>
        <p:grpSpPr>
          <a:xfrm>
            <a:off x="3817800" y="1338120"/>
            <a:ext cx="4104000" cy="2907000"/>
            <a:chOff x="3817800" y="1338120"/>
            <a:chExt cx="4104000" cy="2907000"/>
          </a:xfrm>
        </p:grpSpPr>
        <p:grpSp>
          <p:nvGrpSpPr>
            <p:cNvPr id="241" name="Ellipse 22"/>
            <p:cNvGrpSpPr/>
            <p:nvPr/>
          </p:nvGrpSpPr>
          <p:grpSpPr>
            <a:xfrm>
              <a:off x="3817800" y="1338120"/>
              <a:ext cx="4104000" cy="2907000"/>
              <a:chOff x="3817800" y="1338120"/>
              <a:chExt cx="4104000" cy="2907000"/>
            </a:xfrm>
          </p:grpSpPr>
          <p:pic>
            <p:nvPicPr>
              <p:cNvPr id="242" name="Ellipse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3817800" y="1338120"/>
                <a:ext cx="4104000" cy="29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>
                <a:off x="4437360" y="1779840"/>
                <a:ext cx="2869560" cy="20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e 7"/>
            <p:cNvGrpSpPr/>
            <p:nvPr/>
          </p:nvGrpSpPr>
          <p:grpSpPr>
            <a:xfrm>
              <a:off x="6464880" y="2172240"/>
              <a:ext cx="931680" cy="418320"/>
              <a:chOff x="6464880" y="2172240"/>
              <a:chExt cx="931680" cy="418320"/>
            </a:xfrm>
          </p:grpSpPr>
          <p:pic>
            <p:nvPicPr>
              <p:cNvPr id="245" name="Rectangl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571080" y="2289960"/>
                <a:ext cx="696600" cy="2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Rectangle 25" descr=""/>
              <p:cNvPicPr/>
              <p:nvPr/>
            </p:nvPicPr>
            <p:blipFill>
              <a:blip r:embed="rId8"/>
              <a:stretch/>
            </p:blipFill>
            <p:spPr>
              <a:xfrm>
                <a:off x="6464880" y="2172240"/>
                <a:ext cx="931680" cy="41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7" name="Groupe 15"/>
          <p:cNvGrpSpPr/>
          <p:nvPr/>
        </p:nvGrpSpPr>
        <p:grpSpPr>
          <a:xfrm>
            <a:off x="1092240" y="3032280"/>
            <a:ext cx="3836880" cy="2989080"/>
            <a:chOff x="1092240" y="3032280"/>
            <a:chExt cx="3836880" cy="2989080"/>
          </a:xfrm>
        </p:grpSpPr>
        <p:grpSp>
          <p:nvGrpSpPr>
            <p:cNvPr id="248" name="Ellipse 18"/>
            <p:cNvGrpSpPr/>
            <p:nvPr/>
          </p:nvGrpSpPr>
          <p:grpSpPr>
            <a:xfrm>
              <a:off x="1176480" y="3032280"/>
              <a:ext cx="3752640" cy="2803320"/>
              <a:chOff x="1176480" y="3032280"/>
              <a:chExt cx="3752640" cy="2803320"/>
            </a:xfrm>
          </p:grpSpPr>
          <p:pic>
            <p:nvPicPr>
              <p:cNvPr id="249" name="Ellipse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1176480" y="3032280"/>
                <a:ext cx="3752640" cy="28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>
                <a:off x="1744920" y="3462840"/>
                <a:ext cx="2620800" cy="194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e 12"/>
            <p:cNvGrpSpPr/>
            <p:nvPr/>
          </p:nvGrpSpPr>
          <p:grpSpPr>
            <a:xfrm>
              <a:off x="1092240" y="4744800"/>
              <a:ext cx="3422880" cy="1276560"/>
              <a:chOff x="1092240" y="4744800"/>
              <a:chExt cx="3422880" cy="1276560"/>
            </a:xfrm>
          </p:grpSpPr>
          <p:pic>
            <p:nvPicPr>
              <p:cNvPr id="252" name="Rectangle 20" descr=""/>
              <p:cNvPicPr/>
              <p:nvPr/>
            </p:nvPicPr>
            <p:blipFill>
              <a:blip r:embed="rId10"/>
              <a:stretch/>
            </p:blipFill>
            <p:spPr>
              <a:xfrm>
                <a:off x="1695960" y="4744800"/>
                <a:ext cx="1412640" cy="662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3" name="Rectangle 21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92240" y="4893840"/>
                <a:ext cx="3422880" cy="1127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54" name="Groupe 20"/>
          <p:cNvGrpSpPr/>
          <p:nvPr/>
        </p:nvGrpSpPr>
        <p:grpSpPr>
          <a:xfrm>
            <a:off x="4035600" y="3014640"/>
            <a:ext cx="3978000" cy="2816280"/>
            <a:chOff x="4035600" y="3014640"/>
            <a:chExt cx="3978000" cy="2816280"/>
          </a:xfrm>
        </p:grpSpPr>
        <p:grpSp>
          <p:nvGrpSpPr>
            <p:cNvPr id="255" name="Ellipse 14"/>
            <p:cNvGrpSpPr/>
            <p:nvPr/>
          </p:nvGrpSpPr>
          <p:grpSpPr>
            <a:xfrm>
              <a:off x="4035600" y="3014640"/>
              <a:ext cx="3978000" cy="2816280"/>
              <a:chOff x="4035600" y="3014640"/>
              <a:chExt cx="3978000" cy="2816280"/>
            </a:xfrm>
          </p:grpSpPr>
          <p:pic>
            <p:nvPicPr>
              <p:cNvPr id="256" name="Ellipse 14" descr=""/>
              <p:cNvPicPr/>
              <p:nvPr/>
            </p:nvPicPr>
            <p:blipFill>
              <a:blip r:embed="rId12"/>
              <a:stretch/>
            </p:blipFill>
            <p:spPr>
              <a:xfrm>
                <a:off x="4035600" y="3014640"/>
                <a:ext cx="3978000" cy="28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7" name=""/>
              <p:cNvSpPr/>
              <p:nvPr/>
            </p:nvSpPr>
            <p:spPr>
              <a:xfrm>
                <a:off x="4635360" y="3446640"/>
                <a:ext cx="2781720" cy="19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e 17"/>
            <p:cNvGrpSpPr/>
            <p:nvPr/>
          </p:nvGrpSpPr>
          <p:grpSpPr>
            <a:xfrm>
              <a:off x="6214320" y="4347000"/>
              <a:ext cx="1419120" cy="881640"/>
              <a:chOff x="6214320" y="4347000"/>
              <a:chExt cx="1419120" cy="881640"/>
            </a:xfrm>
          </p:grpSpPr>
          <p:pic>
            <p:nvPicPr>
              <p:cNvPr id="259" name="Rectangle 16" descr=""/>
              <p:cNvPicPr/>
              <p:nvPr/>
            </p:nvPicPr>
            <p:blipFill>
              <a:blip r:embed="rId13"/>
              <a:stretch/>
            </p:blipFill>
            <p:spPr>
              <a:xfrm>
                <a:off x="6214320" y="4779000"/>
                <a:ext cx="1163880" cy="44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0" name="Rectangle 17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79480" y="4347000"/>
                <a:ext cx="1353960" cy="804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1" name="Groupe 30"/>
          <p:cNvGrpSpPr/>
          <p:nvPr/>
        </p:nvGrpSpPr>
        <p:grpSpPr>
          <a:xfrm>
            <a:off x="2583000" y="2263680"/>
            <a:ext cx="3978000" cy="2818080"/>
            <a:chOff x="2583000" y="2263680"/>
            <a:chExt cx="3978000" cy="2818080"/>
          </a:xfrm>
        </p:grpSpPr>
        <p:grpSp>
          <p:nvGrpSpPr>
            <p:cNvPr id="262" name="Ellipse 8"/>
            <p:cNvGrpSpPr/>
            <p:nvPr/>
          </p:nvGrpSpPr>
          <p:grpSpPr>
            <a:xfrm>
              <a:off x="2583000" y="2263680"/>
              <a:ext cx="3978000" cy="2818080"/>
              <a:chOff x="2583000" y="2263680"/>
              <a:chExt cx="3978000" cy="2818080"/>
            </a:xfrm>
          </p:grpSpPr>
          <p:pic>
            <p:nvPicPr>
              <p:cNvPr id="263" name="Ellipse 8" descr=""/>
              <p:cNvPicPr/>
              <p:nvPr/>
            </p:nvPicPr>
            <p:blipFill>
              <a:blip r:embed="rId15"/>
              <a:stretch/>
            </p:blipFill>
            <p:spPr>
              <a:xfrm>
                <a:off x="2583000" y="2263680"/>
                <a:ext cx="3978000" cy="28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3181680" y="2696040"/>
                <a:ext cx="2785680" cy="19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e 9"/>
            <p:cNvGrpSpPr/>
            <p:nvPr/>
          </p:nvGrpSpPr>
          <p:grpSpPr>
            <a:xfrm>
              <a:off x="2934720" y="3274200"/>
              <a:ext cx="3208680" cy="728280"/>
              <a:chOff x="2934720" y="3274200"/>
              <a:chExt cx="3208680" cy="728280"/>
            </a:xfrm>
          </p:grpSpPr>
          <p:pic>
            <p:nvPicPr>
              <p:cNvPr id="266" name="Rectangle 12" descr=""/>
              <p:cNvPicPr/>
              <p:nvPr/>
            </p:nvPicPr>
            <p:blipFill>
              <a:blip r:embed="rId16"/>
              <a:stretch/>
            </p:blipFill>
            <p:spPr>
              <a:xfrm>
                <a:off x="3713040" y="3302640"/>
                <a:ext cx="1439280" cy="699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7" name="Rectangle 1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934720" y="3274200"/>
                <a:ext cx="3208680" cy="728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68" name="Espace réservé du pied de page 3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Espace réservé de la date 32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1" name="Espace réservé du contenu 2"/>
          <p:cNvSpPr/>
          <p:nvPr/>
        </p:nvSpPr>
        <p:spPr>
          <a:xfrm>
            <a:off x="755640" y="1916280"/>
            <a:ext cx="80643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80064"/>
                </a:solidFill>
                <a:latin typeface="Calibri"/>
              </a:rPr>
              <a:t>sa mission</a:t>
            </a:r>
            <a:r>
              <a:rPr b="0" lang="fr-FR" sz="2400" spc="-1" strike="noStrike">
                <a:solidFill>
                  <a:srgbClr val="c80064"/>
                </a:solidFill>
                <a:latin typeface="Calibri"/>
              </a:rPr>
              <a:t> :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ssurer un soutien pédagogique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près des professeurs d'économie-gestio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 lycée profession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utils et ressource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périmentations pédagog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eille informationn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ormation des enseign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buClr>
                <a:srgbClr val="c80064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ccompagnement des rénov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just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Espace réservé du pied de page 1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Espace réservé de la date 6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"/>
          <p:cNvSpPr/>
          <p:nvPr/>
        </p:nvSpPr>
        <p:spPr>
          <a:xfrm>
            <a:off x="755640" y="1484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80064"/>
                </a:solidFill>
                <a:latin typeface="Arial"/>
              </a:rPr>
              <a:t>www.cerpeg.ac-versailles.f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755640" y="2736720"/>
            <a:ext cx="7416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Mise en ligne régulière de ressources sur le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nonce des publications sur la liste L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c800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efonte du site Internet dans les prochaines sema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Espace réservé de la date 5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2"/>
          <a:stretch/>
        </p:blipFill>
        <p:spPr>
          <a:xfrm>
            <a:off x="463680" y="237960"/>
            <a:ext cx="263340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"/>
          <p:cNvGrpSpPr/>
          <p:nvPr/>
        </p:nvGrpSpPr>
        <p:grpSpPr>
          <a:xfrm>
            <a:off x="1784520" y="1628640"/>
            <a:ext cx="5667120" cy="3888000"/>
            <a:chOff x="1784520" y="1628640"/>
            <a:chExt cx="5667120" cy="3888000"/>
          </a:xfrm>
        </p:grpSpPr>
        <p:grpSp>
          <p:nvGrpSpPr>
            <p:cNvPr id="281" name="Groupe 5"/>
            <p:cNvGrpSpPr/>
            <p:nvPr/>
          </p:nvGrpSpPr>
          <p:grpSpPr>
            <a:xfrm>
              <a:off x="1815840" y="1628640"/>
              <a:ext cx="3360240" cy="2309400"/>
              <a:chOff x="1815840" y="1628640"/>
              <a:chExt cx="3360240" cy="2309400"/>
            </a:xfrm>
          </p:grpSpPr>
          <p:grpSp>
            <p:nvGrpSpPr>
              <p:cNvPr id="282" name="Ellipse 26"/>
              <p:cNvGrpSpPr/>
              <p:nvPr/>
            </p:nvGrpSpPr>
            <p:grpSpPr>
              <a:xfrm>
                <a:off x="1815840" y="1628640"/>
                <a:ext cx="3360240" cy="2309400"/>
                <a:chOff x="1815840" y="1628640"/>
                <a:chExt cx="3360240" cy="2309400"/>
              </a:xfrm>
            </p:grpSpPr>
            <p:pic>
              <p:nvPicPr>
                <p:cNvPr id="283" name="Ellips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815840" y="1628640"/>
                  <a:ext cx="3360240" cy="2309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4" name=""/>
                <p:cNvSpPr/>
                <p:nvPr/>
              </p:nvSpPr>
              <p:spPr>
                <a:xfrm>
                  <a:off x="2324880" y="1984680"/>
                  <a:ext cx="2347920" cy="160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Groupe 2"/>
              <p:cNvGrpSpPr/>
              <p:nvPr/>
            </p:nvGrpSpPr>
            <p:grpSpPr>
              <a:xfrm>
                <a:off x="2279520" y="2309040"/>
                <a:ext cx="1057680" cy="338760"/>
                <a:chOff x="2279520" y="2309040"/>
                <a:chExt cx="1057680" cy="338760"/>
              </a:xfrm>
            </p:grpSpPr>
            <p:pic>
              <p:nvPicPr>
                <p:cNvPr id="286" name="Rectangle 2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382480" y="2391480"/>
                  <a:ext cx="833040" cy="239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Rectangle 2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279520" y="2309040"/>
                  <a:ext cx="1057680" cy="338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88" name="Groupe 10"/>
            <p:cNvGrpSpPr/>
            <p:nvPr/>
          </p:nvGrpSpPr>
          <p:grpSpPr>
            <a:xfrm>
              <a:off x="4016160" y="1712160"/>
              <a:ext cx="3360240" cy="2361600"/>
              <a:chOff x="4016160" y="1712160"/>
              <a:chExt cx="3360240" cy="2361600"/>
            </a:xfrm>
          </p:grpSpPr>
          <p:grpSp>
            <p:nvGrpSpPr>
              <p:cNvPr id="289" name="Ellipse 22"/>
              <p:cNvGrpSpPr/>
              <p:nvPr/>
            </p:nvGrpSpPr>
            <p:grpSpPr>
              <a:xfrm>
                <a:off x="4016160" y="1712160"/>
                <a:ext cx="3360240" cy="2361600"/>
                <a:chOff x="4016160" y="1712160"/>
                <a:chExt cx="3360240" cy="2361600"/>
              </a:xfrm>
            </p:grpSpPr>
            <p:pic>
              <p:nvPicPr>
                <p:cNvPr id="290" name="Ellips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16160" y="1712160"/>
                  <a:ext cx="3360240" cy="2361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1" name=""/>
                <p:cNvSpPr/>
                <p:nvPr/>
              </p:nvSpPr>
              <p:spPr>
                <a:xfrm>
                  <a:off x="4525200" y="2074680"/>
                  <a:ext cx="2347920" cy="16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Groupe 7"/>
              <p:cNvGrpSpPr/>
              <p:nvPr/>
            </p:nvGrpSpPr>
            <p:grpSpPr>
              <a:xfrm>
                <a:off x="6184080" y="2392200"/>
                <a:ext cx="762480" cy="338400"/>
                <a:chOff x="6184080" y="2392200"/>
                <a:chExt cx="762480" cy="338400"/>
              </a:xfrm>
            </p:grpSpPr>
            <p:pic>
              <p:nvPicPr>
                <p:cNvPr id="293" name="Rectangle 2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246720" y="2470680"/>
                  <a:ext cx="622800" cy="243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Rectangle 2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184080" y="2392200"/>
                  <a:ext cx="762480" cy="3384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295" name="Groupe 15"/>
            <p:cNvGrpSpPr/>
            <p:nvPr/>
          </p:nvGrpSpPr>
          <p:grpSpPr>
            <a:xfrm>
              <a:off x="1784520" y="3088440"/>
              <a:ext cx="3142080" cy="2428200"/>
              <a:chOff x="1784520" y="3088440"/>
              <a:chExt cx="3142080" cy="2428200"/>
            </a:xfrm>
          </p:grpSpPr>
          <p:grpSp>
            <p:nvGrpSpPr>
              <p:cNvPr id="296" name="Ellipse 18"/>
              <p:cNvGrpSpPr/>
              <p:nvPr/>
            </p:nvGrpSpPr>
            <p:grpSpPr>
              <a:xfrm>
                <a:off x="1852920" y="3088440"/>
                <a:ext cx="3073680" cy="2277720"/>
                <a:chOff x="1852920" y="3088440"/>
                <a:chExt cx="3073680" cy="2277720"/>
              </a:xfrm>
            </p:grpSpPr>
            <p:pic>
              <p:nvPicPr>
                <p:cNvPr id="297" name="Ellipse 18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852920" y="3088440"/>
                  <a:ext cx="3073680" cy="2277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98" name=""/>
                <p:cNvSpPr/>
                <p:nvPr/>
              </p:nvSpPr>
              <p:spPr>
                <a:xfrm>
                  <a:off x="2318760" y="3437640"/>
                  <a:ext cx="2145960" cy="158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Groupe 12"/>
              <p:cNvGrpSpPr/>
              <p:nvPr/>
            </p:nvGrpSpPr>
            <p:grpSpPr>
              <a:xfrm>
                <a:off x="1784520" y="4479480"/>
                <a:ext cx="2802600" cy="1037160"/>
                <a:chOff x="1784520" y="4479480"/>
                <a:chExt cx="2802600" cy="1037160"/>
              </a:xfrm>
            </p:grpSpPr>
            <p:pic>
              <p:nvPicPr>
                <p:cNvPr id="300" name="Rectangle 20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273760" y="4479480"/>
                  <a:ext cx="1159560" cy="53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Rectangle 21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784520" y="4598640"/>
                  <a:ext cx="2802600" cy="918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2" name="Groupe 20"/>
            <p:cNvGrpSpPr/>
            <p:nvPr/>
          </p:nvGrpSpPr>
          <p:grpSpPr>
            <a:xfrm>
              <a:off x="4194360" y="3073680"/>
              <a:ext cx="3257280" cy="2289240"/>
              <a:chOff x="4194360" y="3073680"/>
              <a:chExt cx="3257280" cy="2289240"/>
            </a:xfrm>
          </p:grpSpPr>
          <p:grpSp>
            <p:nvGrpSpPr>
              <p:cNvPr id="303" name="Ellipse 14"/>
              <p:cNvGrpSpPr/>
              <p:nvPr/>
            </p:nvGrpSpPr>
            <p:grpSpPr>
              <a:xfrm>
                <a:off x="4194360" y="3073680"/>
                <a:ext cx="3257280" cy="2289240"/>
                <a:chOff x="4194360" y="3073680"/>
                <a:chExt cx="3257280" cy="2289240"/>
              </a:xfrm>
            </p:grpSpPr>
            <p:pic>
              <p:nvPicPr>
                <p:cNvPr id="304" name="Ellipse 14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194360" y="3073680"/>
                  <a:ext cx="3257280" cy="2289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5" name=""/>
                <p:cNvSpPr/>
                <p:nvPr/>
              </p:nvSpPr>
              <p:spPr>
                <a:xfrm>
                  <a:off x="4689000" y="3426840"/>
                  <a:ext cx="2271240" cy="158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Groupe 17"/>
              <p:cNvGrpSpPr/>
              <p:nvPr/>
            </p:nvGrpSpPr>
            <p:grpSpPr>
              <a:xfrm>
                <a:off x="5978160" y="4156560"/>
                <a:ext cx="1158840" cy="714240"/>
                <a:chOff x="5978160" y="4156560"/>
                <a:chExt cx="1158840" cy="714240"/>
              </a:xfrm>
            </p:grpSpPr>
            <p:pic>
              <p:nvPicPr>
                <p:cNvPr id="307" name="Rectangle 1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78160" y="4510800"/>
                  <a:ext cx="909000" cy="360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Rectangle 1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023520" y="4156560"/>
                  <a:ext cx="1113480" cy="651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grpSp>
          <p:nvGrpSpPr>
            <p:cNvPr id="309" name="Groupe 30"/>
            <p:cNvGrpSpPr/>
            <p:nvPr/>
          </p:nvGrpSpPr>
          <p:grpSpPr>
            <a:xfrm>
              <a:off x="3004920" y="2464200"/>
              <a:ext cx="3256560" cy="2288520"/>
              <a:chOff x="3004920" y="2464200"/>
              <a:chExt cx="3256560" cy="2288520"/>
            </a:xfrm>
          </p:grpSpPr>
          <p:grpSp>
            <p:nvGrpSpPr>
              <p:cNvPr id="310" name="Ellipse 8"/>
              <p:cNvGrpSpPr/>
              <p:nvPr/>
            </p:nvGrpSpPr>
            <p:grpSpPr>
              <a:xfrm>
                <a:off x="3004920" y="2464200"/>
                <a:ext cx="3256560" cy="2288520"/>
                <a:chOff x="3004920" y="2464200"/>
                <a:chExt cx="3256560" cy="2288520"/>
              </a:xfrm>
            </p:grpSpPr>
            <p:pic>
              <p:nvPicPr>
                <p:cNvPr id="311" name="Ellipse 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3004920" y="2464200"/>
                  <a:ext cx="3256560" cy="2288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2" name=""/>
                <p:cNvSpPr/>
                <p:nvPr/>
              </p:nvSpPr>
              <p:spPr>
                <a:xfrm>
                  <a:off x="3499560" y="2817720"/>
                  <a:ext cx="2274480" cy="158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Groupe 9"/>
              <p:cNvGrpSpPr/>
              <p:nvPr/>
            </p:nvGrpSpPr>
            <p:grpSpPr>
              <a:xfrm>
                <a:off x="3297960" y="3285720"/>
                <a:ext cx="2620080" cy="589680"/>
                <a:chOff x="3297960" y="3285720"/>
                <a:chExt cx="2620080" cy="589680"/>
              </a:xfrm>
            </p:grpSpPr>
            <p:pic>
              <p:nvPicPr>
                <p:cNvPr id="314" name="Rectangle 12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3891600" y="3285720"/>
                  <a:ext cx="126504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Rectangle 1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3297960" y="3285720"/>
                  <a:ext cx="2620080" cy="589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316" name="Espace réservé du pied de page 3"/>
          <p:cNvSpPr/>
          <p:nvPr/>
        </p:nvSpPr>
        <p:spPr>
          <a:xfrm>
            <a:off x="762120" y="6208560"/>
            <a:ext cx="4873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Séminaire national de Poitiers – Bac Pro G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Espace réservé de la date 10"/>
          <p:cNvSpPr/>
          <p:nvPr/>
        </p:nvSpPr>
        <p:spPr>
          <a:xfrm>
            <a:off x="6248520" y="620856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454545"/>
                </a:solidFill>
                <a:latin typeface="Times New Roman"/>
              </a:rPr>
              <a:t>11/10/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ZoneTexte 11"/>
          <p:cNvSpPr/>
          <p:nvPr/>
        </p:nvSpPr>
        <p:spPr>
          <a:xfrm>
            <a:off x="7377120" y="522936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c80064"/>
                </a:solidFill>
                <a:latin typeface="Calibri"/>
              </a:rPr>
              <a:t>F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1T18:14:53Z</dcterms:created>
  <dc:creator>Pat</dc:creator>
  <dc:description/>
  <dc:language>en-US</dc:language>
  <cp:lastModifiedBy>Géraldine FONDEVILLE</cp:lastModifiedBy>
  <dcterms:modified xsi:type="dcterms:W3CDTF">2011-10-12T08:25:11Z</dcterms:modified>
  <cp:revision>8</cp:revision>
  <dc:subject/>
  <dc:title>Présentation PowerPoint</dc:title>
</cp:coreProperties>
</file>