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9174-587C-4F9F-AEAA-0EC6C572635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97E9-5979-41E7-AF66-659F6CAB110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0BC0-6092-4668-BE2F-62F3A020CE0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CF1F-3B1C-4C5E-B47F-7E36C4EB9A3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43FE-75A5-4464-8EBB-5ECC6A3F5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4BBA-F549-4EA0-B2FC-71793FE2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3873-46E3-4FA2-87D3-FAA52F42E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287C-069D-4FF2-85A4-05DC76F9A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0AB0-C823-4D5F-9B19-FBE2413E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97C2-170F-4CEF-9FA8-B1B74679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DF6E-8274-424B-AE0C-D9A09DDA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116E-01A2-405B-A5D5-6746227E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E2D7-8A9F-4268-A0B7-3461D4A0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72EF-7939-4D28-8ADA-F1306CA9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B817-197C-4F1C-A84E-6AC0F210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9448-0DE4-4F14-884A-CEC7169D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300B-84E6-464C-8981-1A33AAD1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19C1-DA9D-462E-A038-634983FE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A290-FB70-4034-A0BD-B3A2A7C2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4801-BBBD-45F0-AD90-9389E016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6BAA-79EA-4015-AA0B-1D47A52A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CFD88-9794-4B58-84ED-D8938F809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F9CF3-33B0-409E-AE9C-7EC6BA6D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863DC-5C8D-42F3-AA06-ADEA3B35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BA778-7CC2-4AEE-A927-C695346C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8CE95-8A8A-472F-827E-6C2680BF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A141-71A1-4B79-A656-9D8C1689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EAC25-C5A3-4DC7-83AF-E22BEB32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0E7A7-6BC1-46D2-A2BF-9FCFAC2A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2431F-E0ED-4D89-9E1E-62E8E801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B4198-50E3-4D6F-BD75-5A0AC68B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FBF81-1DCC-4F4E-B68E-76D78445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518B3-BA73-4E7D-B949-5DC267E2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C1FC2-DB12-4C07-BF72-F24666C5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EDC30-3FD4-4C7D-B19E-DAD89FC9A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231C5-1D1A-45D1-B22E-CB2966CF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F4B13-487D-48D5-8D66-95B92264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6F77-13E1-4F9B-ABB4-E6FF9777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69925-1F0C-4C02-951A-4D11C8FE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6C1F4-C2B7-47EA-BFE1-1867692A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44B77-C0CF-4122-B9B9-C2561397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73A5F-22D2-49F2-8694-1428D101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FC0E5-4D0E-430D-807F-52EB4A42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65242-44E5-4A5E-846F-26179D0E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3AF13-E311-4561-A937-3E9F80B3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76C86-D786-453C-9835-2B40005F5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43B95-1B04-4763-B850-03E77AC3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ACD90-5BAA-48E0-9782-45F04E6C9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2DFA-5151-43C0-B4D6-EA6CAC67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B0AFD-8599-4EF6-BC49-A3667FB5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7F254-9812-4486-8351-8FEB0774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95C58-5EB9-4193-B6A5-570A55EF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1B931-71B4-408F-958F-37055BB4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4FA26-10EB-41EE-9222-10803251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3F5FA-3CBD-4157-ADEE-65206DCE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B4C24-71F5-4F20-BC05-81720C11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41FC8-8A5B-436A-AF3B-60F9C737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5BFC4-47F0-432B-9395-EB202A3F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01648-CA17-4598-AAC8-68EEE15E8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3D8E-2662-4497-BEFA-4B1A7F1E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28203-5251-48D6-AFDA-7FB1EDC8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F5DFA-1FE7-4F2D-AB0A-9D0547634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E1884-6019-4FAD-9D89-072B8594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33984-CC3C-4F76-B82E-3E17ECF5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C1117-5B49-45DE-B0F9-8C3D4500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06014-9088-494B-B89F-08869659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BC816-908B-4CE5-AAF4-C97A2DC1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8112A-3C8E-4B87-97FC-D9B37FA5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857E1-CCC3-4681-97E2-2E240D36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61EA5-5510-48C9-A4AC-AFA49E5E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9246-B707-464D-9B1F-660452EC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5CC75-055D-4C8A-B8FB-9CC4A9B1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C1986-6581-4F28-8775-314BB591D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5E3BA-041E-4730-A2D2-8E495BE5E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30D1C-50C4-454C-9871-1CF114CA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A522E-2C4A-4939-8EE8-440CFBC5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FE323-B321-4F65-B6C2-ADFA972D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5490A-2F90-449E-AA45-A23E319A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0205A-DF4C-412F-AC28-E54F28AB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5F997-6E61-43CD-880A-20AF24BC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41CD5-55CB-44A1-9D67-E665BE97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58DB-123F-43FB-81C0-561EBE38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07E26-B141-434F-9D8E-6B3A6CC6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96EC9-90EF-44C9-B82B-6B9B024E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24DB5-144E-4D5A-A6B7-01E826EF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3F450-617F-49E9-B236-0DCB7407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882C4-6153-4297-9EE1-6A15A21BF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4C70E-D587-4689-BEFA-BA89425D1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D09B4-0472-4081-B3B6-D8C8FC69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01562-8917-4A9D-80E8-E4A38675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997AA-C245-4512-88D5-E9847FAA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08C83-31FB-44D3-80DB-FEE82040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8FDC-96A0-4772-95AC-BA305BDB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1F64D-3B74-4484-8A29-5AB24B66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9D812-4562-4892-9236-5FE2D09D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C9EC7-CC32-4987-AF9C-9BB94737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6A151-6A1C-45DD-B5DE-EAE780FB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C53BE-2E07-45BF-BA00-9D7671EF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D9E35-3FE8-4B8A-B034-05E28B448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28F68-0908-4737-BE23-A1A065E7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FA68-7177-4033-A924-CFA7C0CFF90C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38BB-85AE-45FF-885C-25753586D281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A493-EB6D-46A2-839A-2346EDE99471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1772-44C4-4B37-900F-111B8AE344D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9130-044F-440A-8D69-B8C2615C5C99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A273-310D-4902-A2B1-AE82D915737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A9DC-09BC-436A-B223-56DD3C185077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7379-082D-4670-B6E0-81872EBBD8D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6A52-EF6C-4650-A71D-C8CD08809348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AEF9-AEA2-41FE-8003-9D8291FFC4E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CA2C-7BC5-49F0-BA98-998069EAD0D6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6C85-E5E0-45A9-ABFF-A760D4E5ED9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0549-B925-4E82-83FB-9AA6537892B2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F5FD-EB8C-45F5-A87F-A598AFC151A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5333-4413-4CEC-B49B-5D0BF0F571A1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E806-EBC8-48D3-B37E-8D023664067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4. Gestion administrative des relations social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36540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œuvre de procédures relevant de la santé et la sécurité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7348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Produire des supports associés aux procédures santé - sécurité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6540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place d’activités sociales et culturel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7348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en œuvre des actions à destin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33F2-9D3A-4F4A-9CCD-DE7554EE732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5580000" y="4941720"/>
            <a:ext cx="356400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NIVEAU DE PRISE EN COMPTE DE LA COHE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6767640" y="234936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&amp; LISIB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Bouton d'action : Personnalisé 7"/>
          <p:cNvSpPr/>
          <p:nvPr/>
        </p:nvSpPr>
        <p:spPr>
          <a:xfrm>
            <a:off x="8317080" y="3789360"/>
            <a:ext cx="826920" cy="431640"/>
          </a:xfrm>
          <a:custGeom>
            <a:avLst/>
            <a:gdLst>
              <a:gd name="textAreaLeft" fmla="*/ 27720 w 826920"/>
              <a:gd name="textAreaRight" fmla="*/ 799200 w 826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1364" h="21600">
                <a:moveTo>
                  <a:pt x="0" y="0"/>
                </a:moveTo>
                <a:lnTo>
                  <a:pt x="41364" y="0"/>
                </a:lnTo>
                <a:lnTo>
                  <a:pt x="41364" y="21600"/>
                </a:lnTo>
                <a:lnTo>
                  <a:pt x="0" y="21600"/>
                </a:lnTo>
                <a:close/>
              </a:path>
              <a:path fill="lightenLess" w="41364" h="21600">
                <a:moveTo>
                  <a:pt x="0" y="0"/>
                </a:moveTo>
                <a:lnTo>
                  <a:pt x="41364" y="0"/>
                </a:lnTo>
                <a:lnTo>
                  <a:pt x="39964" y="1400"/>
                </a:lnTo>
                <a:lnTo>
                  <a:pt x="1400" y="1400"/>
                </a:lnTo>
                <a:close/>
              </a:path>
              <a:path fill="darken" w="41364" h="21600">
                <a:moveTo>
                  <a:pt x="41364" y="0"/>
                </a:moveTo>
                <a:lnTo>
                  <a:pt x="41364" y="21600"/>
                </a:lnTo>
                <a:lnTo>
                  <a:pt x="39964" y="20200"/>
                </a:lnTo>
                <a:lnTo>
                  <a:pt x="39964" y="1400"/>
                </a:lnTo>
                <a:close/>
              </a:path>
              <a:path fill="darkenLess" w="41364" h="21600">
                <a:moveTo>
                  <a:pt x="41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64" y="20200"/>
                </a:lnTo>
                <a:close/>
              </a:path>
              <a:path fill="lighten" w="41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Bouton d'action : Personnalisé 8"/>
          <p:cNvSpPr/>
          <p:nvPr/>
        </p:nvSpPr>
        <p:spPr>
          <a:xfrm>
            <a:off x="8388360" y="177336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 2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7F87-1591-4B7A-82EF-604BABF9EE9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"/>
          <p:cNvSpPr/>
          <p:nvPr/>
        </p:nvSpPr>
        <p:spPr>
          <a:xfrm>
            <a:off x="533880" y="884160"/>
            <a:ext cx="752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2.1. Gestion administrative courante du personnel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2.2.2 Tenue et suivi des dossiers salari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68360" y="1268280"/>
          <a:ext cx="8207280" cy="446436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975040"/>
              </a:tblGrid>
              <a:tr h="20340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23200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documentation juridique et soc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réglement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xtraits de conventions et accords collectif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èles de décla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ul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ertificats, des attest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trats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signes de tenue des dossiers dans l’ent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u personne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registre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en matière de confidenti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 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gestion opérationnelle du suivi de dossier 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Gestion Électronique des Don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es de classement et d’archiva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législation du travail adaptée au secteur,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anche, statut, mé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incipaux types de contrats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es de rupture du contrat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alités légales et administratives liées à l’embauche, au suivi et au départ du salar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bligations relatives à la médecine du travail et aux organismes socia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et procédures de confidenti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venants aux contr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Missions tempor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availleurs étrangers UE et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élé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gés spécif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mplois protég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cident du travai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cès d’un salar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éparation d’un contrôle administr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1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formation inexac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ossier déclass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erte de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dossiers des personnels sont mis à jour et les formalités administratives sont réalisées dans le respect de la législation du travai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ualiser des dossiers de personnel dans le respect de la législation du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abilité et exhaustivité des dossiers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17" name="Bouton d'action : Document 7"/>
          <p:cNvSpPr/>
          <p:nvPr/>
        </p:nvSpPr>
        <p:spPr>
          <a:xfrm>
            <a:off x="7812000" y="5661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7007" h="21600">
                <a:moveTo>
                  <a:pt x="7977" y="3985"/>
                </a:moveTo>
                <a:lnTo>
                  <a:pt x="14974" y="3985"/>
                </a:lnTo>
                <a:lnTo>
                  <a:pt x="19030" y="7484"/>
                </a:lnTo>
                <a:lnTo>
                  <a:pt x="19030" y="17615"/>
                </a:lnTo>
                <a:lnTo>
                  <a:pt x="7977" y="17615"/>
                </a:lnTo>
                <a:close/>
              </a:path>
              <a:path fill="darken" w="27007" h="21600">
                <a:moveTo>
                  <a:pt x="14974" y="3985"/>
                </a:moveTo>
                <a:lnTo>
                  <a:pt x="19030" y="7484"/>
                </a:lnTo>
                <a:lnTo>
                  <a:pt x="14974" y="7484"/>
                </a:lnTo>
                <a:close/>
              </a:path>
            </a:pathLst>
          </a:custGeom>
          <a:noFill/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</a:t>
            </a:r>
            <a:r>
              <a:rPr b="0" lang="fr-FR" sz="3200" spc="-1" strike="noStrike">
                <a:solidFill>
                  <a:srgbClr val="00b0f0"/>
                </a:solidFill>
                <a:latin typeface="Franklin Gothic Medium"/>
              </a:rPr>
              <a:t> 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D49F-EAB0-4120-B36D-9CBF351FAAA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"/>
          <p:cNvSpPr/>
          <p:nvPr/>
        </p:nvSpPr>
        <p:spPr>
          <a:xfrm>
            <a:off x="60120" y="764280"/>
            <a:ext cx="919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2.2. Gestion administrative des ressources humaines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2.2.2 Participation à la mise en œuvre d’un programme d’accue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250920" y="1197000"/>
          <a:ext cx="8712000" cy="5083200"/>
        </p:xfrm>
        <a:graphic>
          <a:graphicData uri="http://schemas.openxmlformats.org/drawingml/2006/table">
            <a:tbl>
              <a:tblPr/>
              <a:tblGrid>
                <a:gridCol w="2307960"/>
                <a:gridCol w="3426120"/>
                <a:gridCol w="2977920"/>
              </a:tblGrid>
              <a:tr h="1753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5264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documentation juridique et sociale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’état des entr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procédur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charte graph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intégration du personnel 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procédures d’accueil des salariés ou stagi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dispositifs d’inté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outils de suivi des procédure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cuments composi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njeux de l’inté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’image de l’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ohésion soc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ulture d’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document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structuration du document : titres, inter ti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mise en page du document : textes, images, schémas, cartes, plans, énumé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temps et modes des verbes : infinitif, présent de l'indic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formulation de consignes et consei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lexique du métier de l'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tualisation d’un document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iversité des profils salariés accueill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éparation d’une visite de loca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uivi et bilan d’un programm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7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formations manquantes ou erro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Questions non traitées dans les document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ituation non prévue dans la procédur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mise en œuvre du programme d’accueil respecte les consignes données en matière d’intégration du personne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liquer un programm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ect des consignes d’intégration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3" name="Bouton d'action : Document 6"/>
          <p:cNvSpPr/>
          <p:nvPr/>
        </p:nvSpPr>
        <p:spPr>
          <a:xfrm>
            <a:off x="8136000" y="508464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Less" w="21600" h="21615">
                <a:moveTo>
                  <a:pt x="5273" y="3993"/>
                </a:moveTo>
                <a:lnTo>
                  <a:pt x="12271" y="3993"/>
                </a:lnTo>
                <a:lnTo>
                  <a:pt x="16327" y="7492"/>
                </a:lnTo>
                <a:lnTo>
                  <a:pt x="16327" y="17623"/>
                </a:lnTo>
                <a:lnTo>
                  <a:pt x="5273" y="17623"/>
                </a:lnTo>
                <a:close/>
              </a:path>
              <a:path fill="darken" w="21600" h="21615">
                <a:moveTo>
                  <a:pt x="12271" y="3993"/>
                </a:moveTo>
                <a:lnTo>
                  <a:pt x="16327" y="7492"/>
                </a:lnTo>
                <a:lnTo>
                  <a:pt x="12271" y="7492"/>
                </a:lnTo>
                <a:close/>
              </a:path>
            </a:pathLst>
          </a:custGeom>
          <a:noFill/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caractéristiques de ce pô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006560" y="1267920"/>
            <a:ext cx="813744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es situations liées à la taille et la structure de l'organisation, parfois rencontrées lors de PFMP.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es situations à fort potentiel de développement installées dans un cadre juridique robuste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onc, une évaluation en étude de cas.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31FE-9C36-41FE-8144-3B5635D7A2D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2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Gestion administrative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s relations avec le pers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755280" y="549360"/>
            <a:ext cx="7521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 gestionnaire administratif assure les activités nécessaires au bon déroulement de la gestion administrative des relations avec les salarié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Opérations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 courantes de gestion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du personnel pour tout type de contrat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Opérations</a:t>
            </a:r>
            <a:r>
              <a:rPr b="0" lang="fr-FR" sz="2000" spc="-1" strike="noStrike">
                <a:solidFill>
                  <a:srgbClr val="00b0f0"/>
                </a:solidFill>
                <a:latin typeface="Franklin Gothic Book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ponctuelle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relatives aux mouvements de personnel, à leur carrière et à leur formation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ctivités de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suivi administratif financier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(préparation de la paie, budgets, indicateurs)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ctivités de gestion administrative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 relations sociales 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1A4E-C657-4984-9C33-49D6434A2F3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042920" y="4419000"/>
            <a:ext cx="7274160" cy="1313640"/>
          </a:xfrm>
          <a:prstGeom prst="rect">
            <a:avLst/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Respect  des délais et des consig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Respect</a:t>
            </a: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de la législation en vigueur et des règles et procé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4427640" y="2637000"/>
            <a:ext cx="3529080" cy="72072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1. Gestion administrative courante du 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26920" y="1197000"/>
            <a:ext cx="7521840" cy="387504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00">
                <a:alpha val="50000"/>
              </a:srgbClr>
            </a:solidFill>
            <a:miter/>
          </a:ln>
        </p:spPr>
        <p:txBody>
          <a:bodyPr anchor="t">
            <a:normAutofit/>
          </a:bodyPr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Tenue et suivi des dossiers des salariés 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ctualiser des dossiers de personnel dans le respect de la législation du travail 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Gestion administrative des temps de travai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écompter et planifier le temps de travai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D3D4-4A5A-4F0F-82B3-23F6EFA15A0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6767640" y="422100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6767640" y="263700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FIABILITE &amp; EXHAUSTIV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1. Gestion administrative courante du 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6920" y="119700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et suivi des déplacements du personne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Préparer et contrôler des déplacement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Transmission d’informations à destination du personnel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pprécier la nature et le degré de confidentialité de l’information à destin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AD04-8D23-440D-A827-ABC2DC9DACF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767640" y="479736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QUALITE DE LA 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6767640" y="206064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FFICACITE DU SU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Bouton d'action : Personnalisé 7"/>
          <p:cNvSpPr/>
          <p:nvPr/>
        </p:nvSpPr>
        <p:spPr>
          <a:xfrm>
            <a:off x="8388360" y="3500280"/>
            <a:ext cx="792000" cy="433440"/>
          </a:xfrm>
          <a:custGeom>
            <a:avLst/>
            <a:gdLst>
              <a:gd name="textAreaLeft" fmla="*/ 28080 w 792000"/>
              <a:gd name="textAreaRight" fmla="*/ 763920 w 792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9454" h="21600">
                <a:moveTo>
                  <a:pt x="0" y="0"/>
                </a:moveTo>
                <a:lnTo>
                  <a:pt x="39454" y="0"/>
                </a:lnTo>
                <a:lnTo>
                  <a:pt x="39454" y="21600"/>
                </a:lnTo>
                <a:lnTo>
                  <a:pt x="0" y="21600"/>
                </a:lnTo>
                <a:close/>
              </a:path>
              <a:path fill="lightenLess" w="39454" h="21600">
                <a:moveTo>
                  <a:pt x="0" y="0"/>
                </a:moveTo>
                <a:lnTo>
                  <a:pt x="39454" y="0"/>
                </a:lnTo>
                <a:lnTo>
                  <a:pt x="38054" y="1400"/>
                </a:lnTo>
                <a:lnTo>
                  <a:pt x="1400" y="1400"/>
                </a:lnTo>
                <a:close/>
              </a:path>
              <a:path fill="darken" w="39454" h="21600">
                <a:moveTo>
                  <a:pt x="39454" y="0"/>
                </a:moveTo>
                <a:lnTo>
                  <a:pt x="39454" y="21600"/>
                </a:lnTo>
                <a:lnTo>
                  <a:pt x="38054" y="20200"/>
                </a:lnTo>
                <a:lnTo>
                  <a:pt x="38054" y="1400"/>
                </a:lnTo>
                <a:close/>
              </a:path>
              <a:path fill="darkenLess" w="39454" h="21600">
                <a:moveTo>
                  <a:pt x="394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54" y="20200"/>
                </a:lnTo>
                <a:close/>
              </a:path>
              <a:path fill="lighten" w="394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6520" y="476280"/>
            <a:ext cx="75214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2. Gestion administrative des ressources humain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au recrutement du personnel 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48280" indent="-1422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8374a"/>
                </a:solidFill>
                <a:latin typeface="Franklin Gothic Book"/>
              </a:rPr>
              <a:t>Assurer des opérations administratives liées aux étapes d’un recrutement</a:t>
            </a:r>
            <a:endParaRPr b="0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œuvre d'un programme d'accuei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48280" indent="-1422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8374a"/>
                </a:solidFill>
                <a:latin typeface="Franklin Gothic Book"/>
              </a:rPr>
              <a:t>Appliquer un programme d’accueil </a:t>
            </a:r>
            <a:endParaRPr b="0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4F4A-6040-48B9-8B5A-14EE15CEFFB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6767640" y="422100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DE CONSIG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6767640" y="2924280"/>
            <a:ext cx="2376360" cy="649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ET SECU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Bouton d'action : Personnalisé 7"/>
          <p:cNvSpPr/>
          <p:nvPr/>
        </p:nvSpPr>
        <p:spPr>
          <a:xfrm>
            <a:off x="8388360" y="1916280"/>
            <a:ext cx="792000" cy="433080"/>
          </a:xfrm>
          <a:custGeom>
            <a:avLst/>
            <a:gdLst>
              <a:gd name="textAreaLeft" fmla="*/ 28080 w 792000"/>
              <a:gd name="textAreaRight" fmla="*/ 763920 w 79200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9486" h="21600">
                <a:moveTo>
                  <a:pt x="0" y="0"/>
                </a:moveTo>
                <a:lnTo>
                  <a:pt x="39486" y="0"/>
                </a:lnTo>
                <a:lnTo>
                  <a:pt x="39486" y="21600"/>
                </a:lnTo>
                <a:lnTo>
                  <a:pt x="0" y="21600"/>
                </a:lnTo>
                <a:close/>
              </a:path>
              <a:path fill="lightenLess" w="39486" h="21600">
                <a:moveTo>
                  <a:pt x="0" y="0"/>
                </a:moveTo>
                <a:lnTo>
                  <a:pt x="39486" y="0"/>
                </a:lnTo>
                <a:lnTo>
                  <a:pt x="38086" y="1400"/>
                </a:lnTo>
                <a:lnTo>
                  <a:pt x="1400" y="1400"/>
                </a:lnTo>
                <a:close/>
              </a:path>
              <a:path fill="darken" w="39486" h="21600">
                <a:moveTo>
                  <a:pt x="39486" y="0"/>
                </a:moveTo>
                <a:lnTo>
                  <a:pt x="39486" y="21600"/>
                </a:lnTo>
                <a:lnTo>
                  <a:pt x="38086" y="20200"/>
                </a:lnTo>
                <a:lnTo>
                  <a:pt x="38086" y="1400"/>
                </a:lnTo>
                <a:close/>
              </a:path>
              <a:path fill="darkenLess" w="39486" h="21600">
                <a:moveTo>
                  <a:pt x="394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86" y="20200"/>
                </a:lnTo>
                <a:close/>
              </a:path>
              <a:path fill="lighten" w="394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Bouton d'action : Personnalisé 8"/>
          <p:cNvSpPr/>
          <p:nvPr/>
        </p:nvSpPr>
        <p:spPr>
          <a:xfrm>
            <a:off x="8388360" y="364500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2. Gestion administrative des ressources humain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822240" y="1699920"/>
            <a:ext cx="75218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Suivi administratif des carrières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ppliquer à chaque cas traité les règles spécifiques de suivi de carrière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et suivi de la formation du personnel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ssurer des opérations administratives liées à la form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1052-EF49-4F45-8A72-6232C49C547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6767640" y="515772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&amp; SECU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6767640" y="306864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QUALITE &amp; PERTIN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12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3. Gestion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administrative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rémunération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et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budget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84360" y="1700280"/>
            <a:ext cx="7519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bulletins de salaire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nseigner et contrôler la vraisemblance des états préparatoires aux bulletins de salaire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déclarations socia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nseigner des états préparatoires aux déclarations sociale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préparation et au suivi budgétaire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à jour un état budgétaire et signaler les écart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EA1C-ECC6-4AB0-B4AD-370BC9917FF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6767640" y="558972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6767640" y="465300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6767640" y="2924280"/>
            <a:ext cx="2376360" cy="649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4. Gestion administrative des relations social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22240" y="1700280"/>
            <a:ext cx="75218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2" marL="39348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Suivi administratif des obligations liées aux instances représentatives du personne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1740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Organiser des élections et des consultations d’instances représentative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tableaux de bord, des indicateurs sociaux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1740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à jour des indicateurs sociaux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F03F-DAED-48DA-9128-36E52EDFF25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6767640" y="508464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 &amp; LISIB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6767640" y="357336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1T21:15:07Z</dcterms:modified>
  <cp:revision>80</cp:revision>
  <dc:subject/>
  <dc:title>Baccalauréat professionnel Gestion -- Administration</dc:title>
</cp:coreProperties>
</file>