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9104-A71D-4053-9504-A73F1F2FA6A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101D-7FA2-423C-AF02-D468324B18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F303-F1BB-4795-8428-C91300CF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38B7-2426-4061-96E3-CF891BD8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E6904-1279-4681-BF94-37036A30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068951-AE90-40DD-BBBC-AF3C400D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C7789-0B6E-41E4-BD2E-8988EE6D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D51AE-9701-4E61-A166-AC155DBA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18354-80B5-4C69-B437-86F13143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DF194-2525-4920-AC61-A030380C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1ACD4-7B25-4714-91BC-0B3C26BA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82339-C267-4927-BAFA-AEB18691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00BF28-37B4-44CF-8B1F-49C32527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D648-13AD-49F8-AA0B-217DE7AC1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F5B4-B76F-45E0-9CA4-62718B1A1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571F1-CAA9-4F4D-8EA6-CF11C0DE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6DDB-8A70-4A4D-8D12-E3305B9E5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E041-DC18-42DE-87A9-4C21C970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34F0-8B5F-4671-B256-75E61C77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1E80-0C2A-40D2-BF36-2CD3EC39C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72DA-545F-4F02-9E09-4E661285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B7E7-E490-4AF3-AE21-588AF14C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B00B-C77B-4FB9-9DDE-AAAA392B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5899-CA3E-4D8C-80A2-57C747D1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DF1D-D00C-4ED9-B6BA-57D1B2BB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EBA7-9BF8-4628-AD99-4AA72A8E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7FB7-71E0-4830-A427-9E8870FF2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0A0A-34C3-48E5-8D8B-892E3571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6BCA6-4903-46C3-B66F-CCB908455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C305C-0C55-4C47-869F-8A4051BE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AB68A-71CC-437B-B078-33C662D7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72E0C-A4ED-425D-9430-4351D0DA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FE9C5-3C7B-4003-9865-324E06F3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F3C7-8467-4F1B-8C44-4F35C0A2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90741-A9EC-4833-B075-2DB40EBB0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8324F-AE5C-447E-86AA-4B7082C2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C5D26-B563-4734-A983-D0B44C97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202B0-65C7-435A-ABB2-7C716BA9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665F1-7401-48AA-AC9C-083A3D37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2F0C8-A6AE-42A1-960C-924A0207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8258F-FFC1-4312-A190-1D0493AE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02074-2EE9-4C34-9A66-139E0B549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D7ED6-F2F4-47DD-B4E0-91B1AAC2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75DB8-7C47-4C3D-8CFE-2DE5C832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DA41-49B4-436E-87AA-F3C4AB5E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57650-726D-4695-82C1-E914E8F4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7A8B8-2E66-4C1E-A25C-64E5CEDD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D5F20-AC20-4540-ACC1-C89BD8C6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BB59B-4BC5-45E1-B1A8-7F136EFF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45376-AEDE-4BAC-8010-143D5BA5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66AF3-B209-4ED5-86EF-5B48B79D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DD411-1602-4F7A-8961-E2DEFF2B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CD839-1527-423F-A48E-B92F4158A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C718F-B8DC-4022-87FB-789BA101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87AED-7B70-4BD6-95BC-F5BDD3CF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377-D095-4011-BC24-1E5A15B7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83162-B845-4A55-A8E3-10C85DEB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5734C-9092-48FD-B36F-0F708F841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A783A-056C-4755-9BEE-7B0BD8B2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6C4B9-1B3C-4E15-875D-71954E40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9FA07B-41FF-4DCC-A294-7C67114C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E1EED-F6E6-4B51-8A9A-8E348740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D2EFC-6357-42D3-8799-D96F4096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595AF-6645-44D2-A922-D8F01EC0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D98C8-3EBA-4216-8804-83FB98F6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3CCB6-C352-46F5-8104-45DD2D38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FEA8-3D1D-4639-86E0-D9F876D0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D3025-E80D-4006-98A0-6C0463851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99DEA-9784-41CD-B9DF-A5F95C93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3C211-D489-4251-93CD-F94BE5AD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03660-892A-4EC5-9D53-1B000965C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208BC-7C51-46E6-908C-B3587EA7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DB3C7-6FB6-4ED3-81A3-39BF0459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17CEA-139C-4FCD-9E08-73BBA64E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3D6B1-971A-4C04-A3DA-847A9949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FF399-9BE7-4439-A451-B6B493A8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23415-2312-486D-A420-CF4DAB12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0E6D-23A3-4E8E-8801-A918ADC7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C2D45-405F-4725-95B0-7FB81D4C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FD8D0-5EEA-4EB5-8979-991EE2434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8C1AE-C19A-4AC9-8350-245A037B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2B120-2564-4F55-89A8-06E0669E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F14A6-6511-4111-B991-223AC960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BF0B4-1461-4F14-A02B-3DC4CAC9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2E13E-9341-465A-BD73-ABEE78BE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A6399-23E4-4FAD-9C33-15A684D8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FE7EC-121E-4030-95F7-B4144EAC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18BB5-9E4B-4B42-A3C4-F3BC6CC6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0E70-5386-4E8D-BED7-0BD6E6C2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16895-770D-4D72-87D0-C7DBC2A9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FA588-C016-4165-8E0A-76CA1F15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C016BE-439C-49A8-A3D1-166F7FE0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22143-20CA-4A3F-9B29-3DD57CA8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18BBA-66E3-4B1B-BAB1-E6EC0F35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23DD2-61CA-4DE0-BDAF-080127BDA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31B6C5-3322-464B-8A54-B3738A21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492A4-1527-4F5A-A897-0AB5079D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98EDC-7003-480D-AB6B-2263143E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9D61B-4BFC-4F6A-BF56-C153C7CF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6DB-4E16-4CDF-826A-75F3ED9E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-42984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algn="ctr">
              <a:spcBef>
                <a:spcPts val="799"/>
              </a:spcBef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AADA7-B453-4042-B2D2-D9D711A0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C1ABAE-9C08-426F-A305-80C3FF70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E4094-DD97-4ECF-AAFD-2F33F8AB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94D3B-D623-4CD7-BA7D-FB241F81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3797F-F299-402D-B91D-D38C624F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35428-DEC4-488A-9D69-BD8877AEB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C3EC3-981F-44B6-93BA-85078A76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5CA36-AA14-4006-9A83-7AC5A750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2240" y="821520"/>
            <a:ext cx="7521840" cy="41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6954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0D578-1B3D-47C5-9B3F-D95BF0D2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65515-D6D7-4916-87C7-2CB09802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EC4E-3689-421C-9E54-5C71D45B31E9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ÉRIODES DE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F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ORMATION EN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M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ILIEU</a:t>
            </a: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 P</a:t>
            </a:r>
            <a:r>
              <a:rPr b="1" lang="fr-FR" sz="800" spc="-1" strike="noStrike">
                <a:solidFill>
                  <a:srgbClr val="ff0000"/>
                </a:solidFill>
                <a:latin typeface="Times New Roman"/>
              </a:rPr>
              <a:t>ROFESSIONNEL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   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2618-249B-41F6-B7C5-A3EBE5074BED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C9D6-8CEF-4E31-957A-189AD27079E2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Times New Roman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894E-B5D4-48A8-9F9C-4513D931D5E5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1FA5-D68C-4ABA-8268-DC863545D7BD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4877-F24F-4CEB-BFC7-AA7BB3F12DA4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A0C10-C948-4A49-AA90-C3038E4F5240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5C70-5DDF-47BA-A111-8A8D2DA7CE3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F3120-F3EE-4B02-B116-A1108B3A82D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1752-097A-469D-9F29-146934D4FDDC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AAFF-7F1A-489D-B806-49495F51CFC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B9C7-DD68-42A8-B944-889125034A22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9633A-143F-47BD-9278-8AEA322E2C84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28374a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6C6A-32B5-4C97-96AF-49F16E9B1887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12000" y="5903640"/>
            <a:ext cx="1368360" cy="2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9F89-925B-4F09-B69A-BDACEE1EA493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Times New Roman"/>
              </a:rPr>
              <a:t>PÔLE 4 – GESTION ADMINISTRATIVE DES PROJETS</a:t>
            </a:r>
            <a:r>
              <a:rPr b="0" lang="fr-FR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FR" sz="1000" spc="-1" strike="noStrike">
                <a:solidFill>
                  <a:srgbClr val="434342"/>
                </a:solidFill>
                <a:latin typeface="Times New Roman"/>
              </a:rPr>
              <a:t>-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A59C-1E06-4EB5-BEC3-9D4A165EB08B}" type="slidenum">
              <a:rPr b="0" lang="fr-FR" sz="1600" spc="-1" strike="noStrike">
                <a:solidFill>
                  <a:srgbClr val="28374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indent="9037080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indent="903628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indent="903628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4477-45FD-40D2-A67B-AC9EF8AAE1C8}" type="datetime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2133360" y="6400440"/>
            <a:ext cx="60958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3372-8F01-4D8A-A50B-99AB40217C0B}" type="slidenum">
              <a:rPr b="0" lang="fr-F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Les Périodes de Formation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 en Milieu Professi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9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9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Objectifs et princip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826560" y="1341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doivent permettre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cquisition et/ou l’approfondissement des compétence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L’amélioration de la connaissance du milieu professionnel et de l'emplo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es périodes de formation en milieu professionnel  :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ituent un gage d’insertion professionnell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986720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rticipent à la formation des candidats au bac pro Gestion-Administr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E4A6-D9AC-4D6F-8107-47819394372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500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500" fill="hold"/>
                                        <p:tgtEl>
                                          <p:spTgt spid="3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Modalité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22240" y="4508640"/>
            <a:ext cx="7710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Référent professionnel (tuteur)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tribue à la form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eille à la complémentarité des savoirs et savoir-fair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855084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rocède à une évaluation générale et une évaluation spécifique (voir modèle national) fondée sur la capacité du candidat à affronter la complexité et les aléas des situations professionnelles, à aborder d'autres situations comparables 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AE7F-10E0-4109-AE91-96F96F80301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5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830160" y="1268280"/>
            <a:ext cx="77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Duré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22 semaines sur 3 ans (BO spécial 19 février 2009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16 semaines dans le cas d'un cycle en 2 an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1360" indent="-1713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Espace réservé du contenu 2"/>
          <p:cNvSpPr/>
          <p:nvPr/>
        </p:nvSpPr>
        <p:spPr>
          <a:xfrm>
            <a:off x="826920" y="3218040"/>
            <a:ext cx="771048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ogrammation des périodes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lève de l'autonomie des établissements en concertation avec les milieux professionnels, les CET…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specte la contrainte liée au BEP MSA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8" name="Espace réservé du contenu 2"/>
          <p:cNvSpPr/>
          <p:nvPr/>
        </p:nvSpPr>
        <p:spPr>
          <a:xfrm>
            <a:off x="846000" y="2205000"/>
            <a:ext cx="77090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ieu(x)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ans tout type d'organisation proposant des activités de gestion administrative (TPE, PME/PMI, ETI, GE, collectivités territoriales, administrations, associations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ilotage pédagogiqu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1614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L’équipe pédagogique participe à l’organisation et au suivi des PFMP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Circulaire 2000-095 du 26 juin 2000 – BO n° 25 du 29 juin 2000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Prépa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echerche et choix du lieu d'accuei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ccompagnement des élèves dans leur recherch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ultation du portail des stag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Suivi et  accompagnement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e suivi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Visite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xploit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7512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Réinvestissement des situations professionn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1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60CF-0274-493E-9E1B-59B9A80BAEC7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553680"/>
            <a:ext cx="793116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Trace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7521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Enrichissement du passeport profess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réelle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Situations observ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8374a"/>
                </a:solidFill>
                <a:latin typeface="Franklin Gothic Book"/>
              </a:rPr>
              <a:t>Compte rendu d'évaluation  </a:t>
            </a:r>
            <a:r>
              <a:rPr b="0" lang="fr-FR" sz="1400" spc="-1" strike="noStrike">
                <a:solidFill>
                  <a:srgbClr val="28374a"/>
                </a:solidFill>
                <a:latin typeface="Franklin Gothic Book"/>
              </a:rPr>
              <a:t>(document national)</a:t>
            </a:r>
            <a:endParaRPr b="1" lang="en-US" sz="14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ertificat de stag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Objectifs négociés pour chaque PFMP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Indicateurs d'évaluation des compétences transversa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7270560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Description de la complexité et de la criticité des activités proposé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B129-FA0C-43D5-A92B-28DD8935CAA2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553680"/>
            <a:ext cx="7859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FMP &amp; Certific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75200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Apport de la PFMP pour le candidat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limenter son passeport professionnel par des situations vécu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Affronter la complexité et les aléas des situations professionnel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nstruire sa compétence en abordant des situation comparabl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Épreuve E3 en CCF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1 – coef 3 : Gestion des relations administratives externe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2 – coef 4 : Gestion administrative interne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E33 – coef 2 : Gestion administrative des projets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28374a"/>
                </a:solidFill>
                <a:latin typeface="Franklin Gothic Book"/>
              </a:rPr>
              <a:t>Supports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Passeport professionnel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indent="62319240">
              <a:lnSpc>
                <a:spcPct val="15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Medium"/>
              </a:rPr>
              <a:t>Comptes rendus d'évaluation</a:t>
            </a:r>
            <a:endParaRPr b="0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58200" y="6202440"/>
            <a:ext cx="457200" cy="503280"/>
          </a:xfrm>
          <a:prstGeom prst="ellipse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8394-AEAE-409E-8826-6FE31FDB36EB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Espace réservé du pied de page 3"/>
          <p:cNvSpPr/>
          <p:nvPr/>
        </p:nvSpPr>
        <p:spPr>
          <a:xfrm>
            <a:off x="2133720" y="6400800"/>
            <a:ext cx="609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0000"/>
                </a:solidFill>
                <a:latin typeface="Franklin Gothic Book"/>
              </a:rPr>
              <a:t>PFMP -</a:t>
            </a: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  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9T11:23:50Z</dcterms:created>
  <dc:creator>Simon, Mazoyer</dc:creator>
  <dc:description/>
  <dc:language>en-US</dc:language>
  <cp:lastModifiedBy>Edith Simon</cp:lastModifiedBy>
  <dcterms:modified xsi:type="dcterms:W3CDTF">2011-10-25T19:09:46Z</dcterms:modified>
  <cp:revision>38</cp:revision>
  <dc:subject/>
  <dc:title>Présentation PowerPoint</dc:title>
</cp:coreProperties>
</file>