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5D4E-2C36-4C4B-A8B5-0D953582D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CA8-72A8-4FB0-B372-F13D3288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DA88-0157-476E-81D8-2B0C5CB2E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9AC-EA98-4F14-9935-94CB088B1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70D4-864C-4349-8DAC-F287EDA0B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56D99-9809-4F77-8CBC-5384FC32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3816-8C70-447B-B982-9968B897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01DBA-2681-4A62-9B42-DF306034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D9F7-CB2E-4D03-AE74-BA3901A50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79B7-10F0-4393-8CF2-19FF2F86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5CC9-2625-44CE-82D2-C9FA7080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CC0E-C888-46F9-9E77-5F36C816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6196-4F82-431B-BD93-AC1AB105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5195-392A-4DEB-A3C2-EBD9F8B3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F79E-9538-45A3-8FE8-2BD9BB78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2E4D-9E5B-463A-A762-8937A3ED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500-5697-49FC-A33B-22771EF95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E29DC-A6C8-4D89-98DB-7B0ED0BF2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37DD9-C9AF-43AF-8393-1F008395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7DD26-15B5-44EE-8BE6-22B8D565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6C69E-0D6D-4ED6-A5A4-09EAE7EC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CE95-690E-4BC5-9810-27B6F304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5AF-9F53-4457-9090-8B6051B5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932A4-F68A-479B-9DB1-6DCC52F9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D006-AA32-4B5B-83DF-896DDDAA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94BCC-4DC9-4033-9DC3-FC1C24A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36EE4-86BD-48A8-82AC-FEC295D5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23336-13D4-44C4-99CB-48D5E200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3995-EEFE-473F-8B06-9DAB3EA7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203A3-3F1C-4062-AE6E-E7DD5E675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5A281-1FA6-4F8A-878F-83E99BA5C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0BEE6-388B-4639-8A18-95FE1702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47931-5937-408A-8E9D-002488C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918-F284-4FC3-A2B4-64E5001F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7BBF6-2FD3-4D45-AFFA-74D891B6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EA6F-EEE4-4F4D-937E-48BAAC6E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E9C45-FBC6-4AB7-B1E9-7BFE45A4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8F634-D417-4D82-9A4B-78BE7913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2C286-25E3-451B-9716-FDDF3FA1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A984-D572-4389-AEF3-D863E4D7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6ED6B-9376-4D25-9C79-2B2B8BB1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6685C-E699-4676-9C1F-9B37B7C21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129E0-157A-43BC-B2FD-06B69E9D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48FBA-18A0-46DF-A515-52ECFFA7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4EBA-57A4-4745-91CD-825185BA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B03DE-C3DF-4A52-B916-F2755C2F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8BF6F-6261-4051-A2EE-3E3B04D6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DC7E6-7E99-468D-8360-C1E73374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B5F68-12F8-4FD8-B913-019050ABE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4CF67-AF9E-4332-93CE-41644E3E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E3C76-242C-4224-8B08-3031A98F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9E934-899A-468C-979F-49B5A528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E828-642F-400A-9772-DC08B42F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BAB4F-7BA2-466D-9AAC-F0AF1B7A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89578-20E8-4736-B367-E67A50E1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6F2-8623-406C-8E40-EFE7D12EF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51EB0-47BE-4860-AD44-AB0AFCDD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199EE-682B-41F6-9CD8-3A2B5E07B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4BB92-6D5F-4DB5-BC9C-D3971CE6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325EB-01D9-4A94-AE29-D8EE63B1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A98B6-40BC-457A-A475-E492EC6E3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FC27C-7EBE-4A93-8344-D265BAA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9E1B-41B4-4997-ACD1-F99F15E8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FB848-C95E-4217-81DD-18FB57763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8BA4D-5EC2-4AE2-A3F4-90827451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9A748-18C1-43E8-96A4-7C28EB2A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BD8C-C7E7-44F5-91CB-DE526AEE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09C8B-9A54-44A9-A417-63FFF798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A6D5F-2F1D-4B9B-B4D3-557CD0C59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30DE6-A604-4E45-B33D-FCC1FDF1E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8046C-D68C-476F-9EE7-9D7C829EF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B4FE-DA9B-4933-8831-8E9BE7E9D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81019-9CF4-45DA-83B9-CB701908A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D1899-6FD5-4EC6-B85C-A9CD3FD9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CA733-A04D-4170-A3C7-03251EEA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0A2F-824D-404F-BB4C-88D25BEE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A8780-380A-412B-893E-38A55C7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7137-E39E-4E75-8485-54374F86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C2F5B-0548-41DA-9564-A8C640CC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68702-2EA4-4049-821D-45AA2EB1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A8903-18F0-4184-9CD4-CBD65F12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3ADBF-73CA-470A-AD8B-D9449A3F9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4C34C-6299-44C9-88AE-DC7A4F74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57EE9-55FA-40E8-9506-52B54083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0EE3B-DE49-4768-B5AC-DC851998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ED151-5DC0-4FA7-A622-38008467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D6CA8-9CD3-4BCC-AC2E-6187B633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6E65E-8FD2-44C5-B791-C665D561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2FF-B770-4B6B-B6DD-501DE33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065CE-67CF-489D-828C-CC631640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1AE6A-7040-42E9-A19F-0E2C183E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79C35-02C7-4D77-824D-1049787B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7A65-13D5-4C35-A516-FFA45E25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BDCE92-C3E0-4EBA-BF12-76D59140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543AA-FFBE-410E-BCB9-0C3B92572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F5FD6-0489-45BB-BE94-CF91603D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CC4-A834-468D-9C71-1F709381F092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8B28-46A4-44AC-AC31-F33C24B74FEC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7D8-4E67-4D1D-A3AC-F548B62656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8607-9945-49BA-9127-F10B478527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2E5B-5228-44BD-8794-06C27858DA43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E664-CB7C-4561-8721-C7848BE414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3DF8-1670-4956-8376-1E32655F83FA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C70-F83F-458F-A0B4-B599050B591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E1EF-FEF8-4D48-B823-330CA673030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D980-FC9E-4C8E-8A38-CC339347C72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C253-5FC9-4FAE-91C4-48CAD8C5687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E258-FE24-4F29-A654-A18FBA74063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71C9-809A-4B80-94C6-E4C3A505E6E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5E2-AD47-43EB-90F0-E5D467E4804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4725-29E7-4191-823E-FFD63113D988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D1A6-0B72-4D26-94BB-83CD48E002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46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47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Épreuve E2 – Gestion administrative des relations avec le personnel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0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1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826920" y="1125360"/>
            <a:ext cx="752184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Quatre classes de situations sont concernées par l’épreuve E2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.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1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courante du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2 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ssources humain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 2.3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émunérations et d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budgets 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.4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Gestion administrative des relations social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50F1-9978-46B7-B163-E54E7F4C248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ZoneTexte 5"/>
          <p:cNvSpPr/>
          <p:nvPr/>
        </p:nvSpPr>
        <p:spPr>
          <a:xfrm>
            <a:off x="576360" y="4149720"/>
            <a:ext cx="781344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Les compétences du pôle 2 et les critères d’évaluation du pôl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ZoneTexte 11"/>
          <p:cNvSpPr/>
          <p:nvPr/>
        </p:nvSpPr>
        <p:spPr>
          <a:xfrm>
            <a:off x="576360" y="5516640"/>
            <a:ext cx="7812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Franklin Gothic Book"/>
              </a:rPr>
              <a:t>Maîtrise orthographique et syntax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ZoneTexte 10"/>
          <p:cNvSpPr/>
          <p:nvPr/>
        </p:nvSpPr>
        <p:spPr>
          <a:xfrm>
            <a:off x="3203640" y="4508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Objectifs de l’épreuv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6920" y="1125360"/>
            <a:ext cx="75218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 candidat doi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traiter des situations professionnelle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relevant de la gestion administrative des relations avec le personnel, dan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les limites de complexité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apportées par la description des situations professionnelles dans le référentiel de certification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objectif est donc d’évaluer si le candidat est capable de :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se situer et situer sa réflexion et son action dans un processus RH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appliquer des consignes, des procédures, des textes règlementaires concernant les relations avec le personnel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duire, renseigner, chiffrer, mettre à jour et contrôler des documents et des formulaire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vérifier la qualité orthographique et syntaxique des documents traités ;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D824-1369-4C37-A084-959D7D047C9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E2 - Gestion administrative des relations avec le personnel – Coefficient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8000" y="1413000"/>
          <a:ext cx="8929800" cy="4581360"/>
        </p:xfrm>
        <a:graphic>
          <a:graphicData uri="http://schemas.openxmlformats.org/drawingml/2006/table">
            <a:tbl>
              <a:tblPr/>
              <a:tblGrid>
                <a:gridCol w="1728720"/>
                <a:gridCol w="2158920"/>
                <a:gridCol w="1513080"/>
                <a:gridCol w="1871640"/>
                <a:gridCol w="1657440"/>
              </a:tblGrid>
              <a:tr h="4597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Candida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ublic ou privé sous contra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section d'apprentissage habilité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colaire dans un établissement privé hors contra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pprenti dans un CFA ou une section d'apprentissage non habilit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rivé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ndidat justifiant de 3 années d’activité professionnelle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nseignement à d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ormation professionnelle continue dans un établissement public habilit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280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ur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280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 écr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Ponctu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3 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CC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36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8721-05C5-462F-AD39-F4CC8DBAC2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900000" y="1483920"/>
            <a:ext cx="75218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lusieurs dossier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indépendant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 et contextualisé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dossier traite d’une ou plusieurs «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situations-problèmes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» empruntées à la réalité professionnelle et inscrite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cadre juridique et règlementaire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 propre à la gestion administrative des relations avec le personnel.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554400" indent="-144000" algn="just">
              <a:spcBef>
                <a:spcPts val="3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dans le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respect des processus internes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, des </a:t>
            </a:r>
            <a:r>
              <a:rPr b="0" lang="fr-FR" sz="1800" spc="-1" strike="noStrike">
                <a:solidFill>
                  <a:srgbClr val="ff0000"/>
                </a:solidFill>
                <a:latin typeface="Franklin Gothic Book"/>
              </a:rPr>
              <a:t>procédures et des consignes </a:t>
            </a:r>
            <a:r>
              <a:rPr b="0" lang="fr-FR" sz="1800" spc="-1" strike="noStrike">
                <a:solidFill>
                  <a:srgbClr val="28374a"/>
                </a:solidFill>
                <a:latin typeface="Franklin Gothic Book"/>
              </a:rPr>
              <a:t>relatives aux activités de gestion administrative des relations avec le personnel</a:t>
            </a:r>
            <a:endParaRPr b="0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es situations font apparaître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es niveaux de complex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et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’aléas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tels qu’ils sont décrits dans le référenti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prend appui sur des </a:t>
            </a:r>
            <a:r>
              <a:rPr b="0" lang="fr-FR" sz="2000" spc="-1" strike="noStrike">
                <a:solidFill>
                  <a:srgbClr val="ff0000"/>
                </a:solidFill>
                <a:latin typeface="Franklin Gothic Book"/>
              </a:rPr>
              <a:t>documents et ressources documentaires décrivant les situations de travail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à traiter et nécessaires à la résolution du cas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CD69-14B8-4DFC-8BFB-5EFDCF5601AE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Épreuve Ponctuelle : Étude de cas écri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6920" y="13413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’épreuve ne nécessite pas, pendant son déroulement, de mettre un poste de travail informatique à la disposition du candidat.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La correction est assurée par un professeur ayant en charge des enseignements professionnels dans le baccalauréat professionnel Gestion-Administration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3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0136-2297-480C-AAC7-B9474E4C7B9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c00000"/>
                </a:solidFill>
                <a:latin typeface="Franklin Gothic Medium"/>
              </a:rPr>
              <a:t>Forme CCF: 4 situations écrit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55280" y="1196640"/>
            <a:ext cx="752148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ère situation d’évaluation E2A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1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2ème situation d’évaluation E2B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2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3ème situation d’évaluation E2C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3 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4ème situation d’évaluation E2D –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lasse 2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1 heur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oefficient 1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Chaque situation :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étude de ca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just">
              <a:spcBef>
                <a:spcPts val="7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Proposition de note au jury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7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4EED-C320-4FF1-8B09-43B605C60385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10"/>
          <p:cNvCxnSpPr/>
          <p:nvPr/>
        </p:nvCxnSpPr>
        <p:spPr>
          <a:xfrm>
            <a:off x="5111280" y="1412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0" name="Connecteur droit avec flèche 12"/>
          <p:cNvCxnSpPr/>
          <p:nvPr/>
        </p:nvCxnSpPr>
        <p:spPr>
          <a:xfrm>
            <a:off x="5111280" y="184428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1" name="Connecteur droit avec flèche 13"/>
          <p:cNvCxnSpPr/>
          <p:nvPr/>
        </p:nvCxnSpPr>
        <p:spPr>
          <a:xfrm>
            <a:off x="5111280" y="2204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cxnSp>
        <p:nvCxnSpPr>
          <p:cNvPr id="382" name="Connecteur droit avec flèche 14"/>
          <p:cNvCxnSpPr/>
          <p:nvPr/>
        </p:nvCxnSpPr>
        <p:spPr>
          <a:xfrm>
            <a:off x="5111280" y="2636640"/>
            <a:ext cx="864360" cy="1080"/>
          </a:xfrm>
          <a:prstGeom prst="straightConnector1">
            <a:avLst/>
          </a:prstGeom>
          <a:ln w="9360">
            <a:solidFill>
              <a:srgbClr val="76787b"/>
            </a:solidFill>
            <a:miter/>
            <a:tailEnd len="med" type="arrow" w="med"/>
          </a:ln>
        </p:spPr>
      </p:cxnSp>
      <p:sp>
        <p:nvSpPr>
          <p:cNvPr id="383" name="Flèche vers le bas 15"/>
          <p:cNvSpPr/>
          <p:nvPr/>
        </p:nvSpPr>
        <p:spPr>
          <a:xfrm>
            <a:off x="4211640" y="4508640"/>
            <a:ext cx="289080" cy="649080"/>
          </a:xfrm>
          <a:prstGeom prst="downArrow">
            <a:avLst>
              <a:gd name="adj1" fmla="val 50000"/>
              <a:gd name="adj2" fmla="val 49959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12:04:16Z</dcterms:created>
  <dc:creator>Martine Deconinck</dc:creator>
  <dc:description/>
  <dc:language>en-US</dc:language>
  <cp:lastModifiedBy> N. SEV</cp:lastModifiedBy>
  <dcterms:modified xsi:type="dcterms:W3CDTF">2011-10-11T16:18:04Z</dcterms:modified>
  <cp:revision>60</cp:revision>
  <dc:subject/>
  <dc:title>Baccalauréat professionnel Gestion -- Administration</dc:title>
</cp:coreProperties>
</file>