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86DD-D58C-41A7-A0EB-A1C7C42710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8AAA-9286-482B-B563-DDA59C50ED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D55-AFC8-4AFF-8078-BAFFFD24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ABC-843B-42A8-98F2-3C7D1224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C4CFF-76FD-4673-8B2B-AC9E1B6E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B0702-AEA9-4E31-A2EE-2F0F87A3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48B82-A170-45C9-97C3-DF76FA29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56692-2F6A-4945-8B11-4E3F84B4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803B3-9C1F-4D39-BB46-5B1A6CA6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0B8D7-3194-400C-A962-41326097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AF717-CEE4-46DA-A874-06ED8E34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6D96F-70D3-4953-B5E7-72BD23CA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020C9-6662-453D-BFDD-CCFF0309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7D7-FD9F-45BE-942B-DAFAAF2D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F064-E2E4-4E1E-816A-10A6C310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0614-AE81-445B-80BE-86A7F5B3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B647-EB23-4FF1-98CD-F0BF96CF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9F9B-0774-4CAE-83AF-13FADE11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ADE4-45D7-4E2F-9CAD-5FAFFE74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81E6-5D53-4CCD-B3C5-3363F83F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1C16-E4FE-44F5-A9D1-570FF234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EEEF-85E5-47F4-BFFE-DF695833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934-7151-4A98-9289-89449C3B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5A68-5C61-4ABF-9556-1C7BF986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2635-E552-475B-9CE7-B5CC4CF9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76A1-D10C-4C65-99F2-782D0466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E1D8-5D88-4E3E-B58D-444596E1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6B3C-87B9-416C-A67F-BECF8963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684D9-512D-4AF2-A25C-1B42E195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F252E-5350-45E2-A7B0-50CB4473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94DE5-D2C3-4FC2-A19E-EFF0DABE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D2B5E-2F9A-4AAB-AAFA-AAD0ECA7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6DCE2-02AF-4F30-B78E-684134DF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D3B1-90C7-45BC-83FF-CC9D294A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6AA2-42D6-44F0-AEE2-F91A1B5E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E1E15-1709-4C43-B927-2390F8FA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FFB73-B39E-4F4B-8F97-066A62EE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8F6A2-A7CC-44CA-81B3-DCD0C957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8C496-D40E-4556-BE85-BE37AB5E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CFA84-3533-4683-AD49-B895C282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5658C-96BA-4725-B463-23C9E115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3E944-FD04-47A5-9CEC-531CCC02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6D507-F65F-45D0-830A-79281C21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503B3-52F6-4B23-B9AA-CDADC6B5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1F9-DD16-46F9-9F72-C0AC8101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ECF58-BE9B-4BF8-8DD8-A45D472B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8022E-8C64-414D-B527-21A1C3D5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47635-0DC7-446C-91E0-C0D5E6B0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5209C-D113-4B2C-B4E8-B0D104C5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0C4B9-0C17-4BEF-9861-93C415B6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1EB9C-E6A1-4054-9FF4-15A22E66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E2777-27EF-4DF4-B500-E79A21FB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00003-E665-4A0B-A831-AE72D232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4B19C-6A74-4FE8-AED7-AD759BFB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9D9BF-38FD-4F99-9C01-03341020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CF1-B2D6-4131-AE5D-5D011915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32C5F-E724-4854-BABF-D65E1EF6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FF987-EFE2-404F-A649-AA4D9E6A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C2E9E-9881-40C8-8FE7-D726C0DC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56EDD-16D9-427F-BF32-8826E42C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9B981-5DBD-4731-AC4C-C06118DB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0397D-EAB0-4ECC-AEEB-E105F775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BD382-D12F-42A0-897E-53AF27FB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743B7-9BC6-4739-956A-FF4C3857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CD96A-AF22-4108-B5EE-C16C19FC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A3809-2DE3-439D-8717-1430C6D8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202-1E32-4548-B55A-9F999D8D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9FB02-18E5-4343-9E00-D755913B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11A0E-C454-4E42-B3F9-013FE521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ACAEC-F456-404B-8A46-99768A3D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8931C-E9D9-4926-A087-75C7C09B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FCA5E-15DA-45F1-94EC-BE73738D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48354-D0DE-4AC0-8E7B-35B0780A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9BB4E-7F07-4646-A0C4-37339BDA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0B45A-5020-4A6E-A9F6-30D8C4C0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C6966-F031-4F54-859F-A8AA32E6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DEEEA-B988-4688-8D1F-AA1102E8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BA3-5318-4A0B-9D15-A500B8CC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34074-A2CB-46EF-94F9-49F794A5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425A7-FF43-45C1-ABE2-E2CE59C4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C2D40-A9A2-4934-BCE4-D5A98A8E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309DC-89D9-4749-95AE-5E510828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F6BF9-440C-465E-8CE9-C92133AE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759D1-BF7F-4DD6-8705-FE71FC8C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22CA6-4AB6-45EF-80CB-CFD1D638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23F7F-3C8E-4E92-A6A7-B85BBC12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DE1EF-031B-47B1-9A8C-36F55541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EB064-B675-4931-9E17-63C61AE6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2BD-8414-4B2D-A1A5-98FD56FB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87565-E7F0-45F3-BBF7-CBAE9E2A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49A2E-E64F-43D9-BC2A-0908389D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4F8BD-A237-48AD-868C-34B54785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79A26-4B2C-4A8B-A68C-C4702279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BCC97-60DE-48B3-921B-BDC91116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C5ACE-C306-4E67-92A4-F11BBF47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48B5C-E51A-4E98-8D3C-BA7DAEAB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DB115-0458-4277-928A-48DE2D65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74B05-9ED4-4B6B-B2D9-B4CACE5F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D2B51-5B94-4BA4-BEC6-EA5DA35B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0E73-37DE-4BD4-8CA7-FE4A9822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74BF3-5EF1-48D6-B437-9AC6FBAE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99CF8-9FE9-4B0E-872F-2999A815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50B19-DF1E-4D92-9E4A-60F0D60A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22F4B-FB1D-45B4-BDAF-39C58AB9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26552-564D-44B2-9F81-6DEB023A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AF1B0-D9F4-45E5-AA60-9FF5CE7C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09EBD-21F3-45A5-BF0E-2256BD2C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92557-3D6C-45DF-BA2E-AEC78632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9778F-61C6-4CD8-83C0-697DDD7E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FD963-4251-41C7-9ACE-FC36D6E3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4B03-6F76-4BCF-B3D3-E4D9C3C03B3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ÉRIODES DE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ORMATION EN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ILIEU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ROFESSIONNEL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   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BA0D-94B6-43B1-92D8-63B5C71BB450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11A8-5F54-4950-98ED-04F203D985E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2833-361C-4EF2-AA94-6DA4B454506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635E-E47A-4E01-B284-133E9D7B2F1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F7B8-FDC9-418C-9B9D-C5664034120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44AB-5F1C-43BE-B39E-A31BF74B2F0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F68C-5E2A-406E-A618-F83F67A88C2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B08A-5D16-4FE4-ABE3-63199C82CBE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C7E9-39A2-4EB5-B7A2-2C620235729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E00F-90E8-423F-BA48-79F5288AB8C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DD5D-9611-46E8-8729-32E01A86D97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2BCE-BF4F-4464-9AD7-BE989D20E76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8539-016C-4B1A-A338-63BCB7B9644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12000" y="5903640"/>
            <a:ext cx="13683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B110-A07C-4EA6-AB99-996DFEF6AF8C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FBE7-A534-41A5-9B54-736307139E1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E287-1589-44E3-AD5A-899787A630B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2189-9F73-4A80-8316-C5FDAC77B41B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Les Périodes de Formation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 en Milieu Professi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9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9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Objectifs et princip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doivent permettre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cquisition et/ou l’approfondissement des compétence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mélioration de la connaissance du milieu professionnel et de l'emplo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ituent un gage d’insertion professionnell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rticipent à la formation des candidats au bac pro Gestion-Administr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2C64-131B-4447-9520-575F848ED14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Modalité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4508640"/>
            <a:ext cx="7710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Référent professionnel (tuteur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tribue à la form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eille à la complémentarité des savoirs et savoir-fair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rocède à une évaluation générale et une évaluation spécifique (voir modèle national) fondée sur la capacité du candidat à affronter la complexité et les aléas des situations professionnelles, à aborder d'autres situations comparables 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0F3C-DED2-4807-85B6-DD609007E73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830160" y="1268280"/>
            <a:ext cx="77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Duré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22 semaines sur 3 ans (BO spécial 19 février 2009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16 semaines dans le cas d'un cycle en 2 a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Espace réservé du contenu 2"/>
          <p:cNvSpPr/>
          <p:nvPr/>
        </p:nvSpPr>
        <p:spPr>
          <a:xfrm>
            <a:off x="826920" y="3218040"/>
            <a:ext cx="77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ogrammation des périod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lève de l'autonomie des établissements en concertation avec les milieux professionnels, les CET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specte la contrainte liée au BEP MS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Espace réservé du contenu 2"/>
          <p:cNvSpPr/>
          <p:nvPr/>
        </p:nvSpPr>
        <p:spPr>
          <a:xfrm>
            <a:off x="846000" y="2205000"/>
            <a:ext cx="7709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ieu(x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ans tout type d'organisation proposant des activités de gestion administrative (TPE, PME/PMI, ETI, GE, collectivités territoriales, administrations, association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ilotage pédagogiqu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16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’équipe pédagogique participe à l’organisation et au suivi des PFMP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Circulaire 2000-095 du 26 juin 2000 – BO n° 25 du 29 juin 2000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épa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cherche et choix du lieu d'accuei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ccompagnement des élèves dans leur recherch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ultation du portail des stag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Suivi et  accompagnement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e suiv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xploit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éinvestissement des situations professionn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1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4674-F79F-441B-85F7-C025E22349CE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Trace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21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nrichissement du passeport profess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ré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observ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Compte rendu d'évaluation 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document national)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ertificat de stag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Objectifs négociés pour chaque PFMP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Indicateurs d'évaluation des compétences transversa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escription de la complexité et de la criticité des activités propos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33D8-39C5-4360-A870-C52C3F90925D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553680"/>
            <a:ext cx="7859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FMP &amp; Certific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Apport de la PFMP pour le candidat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limenter son passeport professionnel par des situation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ffronter la complexité et les aléas des situation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ruire sa compétence en abordant des situation comparab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Épreuve E3 en CCF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1 – coef 3 : Gestion des relations administratives extern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2 – coef 4 : Gestion administrative intern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3 – coef 2 : Gestion administrative des projet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Supports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sseport professionne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mptes rendus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4DA2-08AE-4078-8FF0-39B5AC514101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23:50Z</dcterms:created>
  <dc:creator>Simon, Mazoyer</dc:creator>
  <dc:description/>
  <dc:language>en-US</dc:language>
  <cp:lastModifiedBy>Edith Simon</cp:lastModifiedBy>
  <dcterms:modified xsi:type="dcterms:W3CDTF">2011-10-25T19:09:46Z</dcterms:modified>
  <cp:revision>38</cp:revision>
  <dc:subject/>
  <dc:title>Présentation PowerPoint</dc:title>
</cp:coreProperties>
</file>