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A3DF-83CD-4AB3-BE14-E76791D7E2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64C4-376D-4F49-ABE1-61E325C73F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9E81-3353-497C-98EE-CAFCD53960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5054-ABEF-41E5-8E6E-8098FB18FE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A5CD-72B3-42F6-B662-CA295EE24B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EB4A-E2D5-4676-8D23-F5465A273A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6DB9-4357-4809-847D-53A68E8572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8706-F3C5-4E1B-BC52-46028CEADD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3E66-55B7-49F0-A275-089131A60F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A2DF-254B-4D68-9342-3328535FD8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24B4-F82B-4BF5-B81B-5B0D223409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84B5-4A1B-4605-91C5-2F08ED8DFA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35D6-62AE-4780-B84B-D6912F07CD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119B-8E59-4767-A387-A0DDB980F2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331C-A88F-415D-BFEC-D480CE108D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3BD5-0CED-4C9D-B71C-45A130E834A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C533-175F-42DC-994E-3F6E88451A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8BFC-4589-4C10-800A-5E9C5C9112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1DD4-023C-490C-B0B0-AE2857F713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6CA3-ACD0-43CA-A19B-862A07614B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F969-0213-40C5-B366-6997ED12C9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D866-23D2-47DC-8B48-9EAD9D5179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BB29-D2FC-458E-BCD3-11699A3130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CBE0-8FC4-46E5-A31A-4D4EF1BDBA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65DE-E0BF-494F-A24D-C531A5AD0A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8003-E619-4B86-B9AC-0E56B63B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C55A-DAA1-4D76-841A-03441E92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895F-43C9-4590-AC36-E022483F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04A-9868-472E-854E-8EA0C4B7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A2A3-F7C5-48CD-AF59-7F2BC345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CB12-620C-405D-931A-E9F54F06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44E6-351D-4547-8B8C-E0E91D92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9956-8CED-4C89-A20C-76CFCBA9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1336-2311-432A-B6C2-DD82E60E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E080-395B-4EE2-9782-7F4B610A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4128-2D49-4464-B5C2-9EB4800E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27CB-E154-4C23-BB33-007DD340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9B7F-BB53-4292-AD40-76448150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EF3C-4031-4440-BF03-DF81FC1A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78B4-17CC-49A0-ADBB-90C8B10B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CDFA-5EA1-4AC6-A342-E5DD0AF4D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F426-6251-4FC2-92AC-8C43F492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EC3FF-7D64-4C30-8F19-539ED985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10E0E-4037-48D3-8A92-01A28080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C7FF3-4BB9-47F7-AB79-6C91E9EA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49A1D-4D46-49DD-A06E-B1D4B12B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2C3E8-D699-4071-9E6E-9C19CCA1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727-5E10-46C7-8ACD-D3C44472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5B848-C4BB-4F79-B5C5-2C232690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E5A5A-712B-476C-ABFC-A60696F5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B183D-8012-41DF-8A3A-F2BA731B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18CFE-5AA4-41D8-A95E-B666A4A7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F1777-5743-4B60-B8E8-78D2602D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D77C6-27D6-49E3-89C6-52BDF1D7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396D1-FE82-46C7-8D42-712C7377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439F7-09FE-49E6-8AEE-6E5F90CA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D28D2-7B04-4541-9482-81D03790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AABC3-DC49-439A-A48A-D93D00A6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0CF6-CFD3-45DA-B541-24DE6E95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FC325-EE1E-4EE2-8E2D-2662C6C9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8E6BC-84BD-493A-ADB1-051699E1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FA08B-BECF-4115-96AA-802B33B5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DB29-2278-4E79-8FB7-34A185D6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494FF-2CF8-4A70-ABC0-2104A93C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9795B-7A4B-4CCA-8D8A-D55DE6C9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131BD-70F2-4829-BBD0-D92D85DF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1A6DB-2DD5-4888-9A06-C282FFF77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7D376-4521-4D45-A6E8-B8316DE1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BBA2E-5B8F-4452-9906-27270DB4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2A6F-6A2B-4215-AE8C-FE19A713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776C9-DD9B-4A81-B2A8-49A30FEE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E0AA7-9722-48A6-9C1A-A0AAE10E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2F61A-B2CC-487C-81A7-6C12F94B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31E8C-CFD9-4810-ABA2-B5867580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26A74-53E8-42B9-B21A-DF9C3BD7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F1E17-9FB0-4AAF-815F-9D4F2147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85B7E-5979-48DC-910C-64A8976B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0BDCE-7C9C-4631-84BB-9CBACAAE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0A34B-A46B-4766-B54F-CB249814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8AF40-1C94-4124-A54B-8ADEDB6E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50F2-6559-4CFF-8D0F-C16E9F0F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A53C4-4D9C-4665-9C7B-D8247EB9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5E656-7EA7-407F-A13C-C88C52FC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684C8-4E70-4038-A12B-A507C0AC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76DE0-018E-43A7-9901-E37F9719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D6F44-3AED-4DEF-A956-31F46642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F75C2-A0A6-4C54-B54A-FBEE206B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727AC-A8E8-4DAE-8719-80A04097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F7AD8-C2D1-4125-9050-73F752D9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53BF2-81E0-481F-B2A1-6D43C50C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CE950-E6FF-4201-A1B7-4B65F285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DE3-29FD-49FC-A7BE-8C86F057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387C9-7AF5-4391-AAA4-B7DBEA9A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2D018-A5A9-49BB-834D-98111EB7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B1ECF-1E7A-4CA9-B144-26E29BA5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C5EEC-01DC-476D-827C-9D0A3AA2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10A05-3398-4AE2-95F1-A6E6CE50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D4D5D-933D-48DE-A843-4E28AD0D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180EE-9B61-46D2-8B03-8BF743A8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59E10-C55F-4717-AC4F-64034188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23190-BFAC-4E31-892A-280464C0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BF321-FEDA-4A31-9A5F-2D1592B7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D2F0-A3DC-4782-A259-32A82C8B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BA0A5-4B53-4287-B6C3-9CB19E79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70084-4D59-408D-BBC4-42DE3817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3984E-A9D2-477A-AAA8-2813816F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90667-C399-498C-A29C-5702C41A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D8AFD-0508-4CAF-A832-136D6D60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A4908-E041-4B49-B0CD-2FAC2174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BF679-3923-49D1-8332-BD84CD12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2609E-B519-417E-B575-E1BFBE1D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0D1D8-2E8C-41E6-8A5E-E0A80B87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0D22C-E286-4A5E-8E0E-360CF65F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574-C0AD-4F7B-B793-763B35BB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AA82A-86EC-4F90-91C6-5F6F3AA1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D4F9B-D9E5-49C2-8035-F6ADEFF1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56288-904C-4967-AB45-5D950632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5B7D8-C29B-494E-AC21-EC276BAE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FEDF5-80EE-499C-9E00-759B24B3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94DD4-6129-4B77-A2D1-36421F71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A111A-DD9C-476A-B2B8-537CED75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2DED-BC8E-4201-AAB1-FCFCD112DEE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7F5C-114F-4F18-9505-BDDEAC8F12B4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82BE-0724-409A-AE27-ACF5A0D9721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58DF-E16C-42F7-9754-3AD5541DDD1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4245-F57C-4D0B-8FFC-CB73BD5A6E7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1A52-8F81-4A46-9DC2-806CC3DA996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A5BF-7842-47C3-B0AE-2B4E30E5739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8840-B5C5-4F91-A006-8C7A15C0C00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D098-8E6C-4FD5-B47A-DF3260CEF8B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1758-7F8B-4F26-BE9B-E489DC07345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0BD7-8765-498A-B1DA-04DBBDAA71E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205B-2DE4-40B1-B11D-61507C8F19E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5CEF-3FC4-41AE-B1A9-5DAFE26718F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0128-4E8B-40C2-B0BD-1AEB619A4E2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90A1-7330-4B6A-8765-3C3063FF87E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E07D-175F-4531-BAC3-52F75A6F084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752184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2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objectifs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et quelles démarches ?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2C16-01F8-4C0E-97FB-C8A7AA557E0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ux « cadres » de référenc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0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5F7B-CD44-430A-AB5B-60F64B2A986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826920" y="1197000"/>
            <a:ext cx="6697800" cy="64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Projet Pluridisciplinaire à Caractère Professionnel </a:t>
            </a:r>
            <a:br>
              <a:rPr sz="2000"/>
            </a:b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Réalisation, en équipe, d'un objectif prenant en compte  les enseignements généraux mobilisés dans toute activité professionnelle »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socle commun et la compétence 1: Maîtrise de la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Savoir lire, écrire et parler le français conditionne l'accès à tous les domaines du savoir et l'acquisition de toutes les compétences . 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Faire accéder tous les élèves à la maîtrise de la langue française, à une expression précise et claire à l'oral comme à l'écrit, relève de l'enseignement du français mais aussi de toutes les disciplines. »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s objectifs des ateliers rédactionnels </a:t>
            </a:r>
            <a:r>
              <a:rPr b="0" lang="fr-FR" sz="24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(RC. Annexe III c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EB73-EFE8-4A69-8D81-F3589A4ADA7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250920" y="140652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« 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évelopper des comportements professionnels adapté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aux contextes et situations rencontrés (écoute, rigueur, réactivité, créativité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S’approprier les contextes de production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ceptualiser les différents document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Produire des documents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et supports de communication dans le respect de consignes, de procédures ou d’un cahier des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trôler la qualité rédactionnelle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traités.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ans la logique des situations professionnell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8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1058-94ED-44DE-A642-01204F81791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ZoneTexte 4"/>
          <p:cNvSpPr/>
          <p:nvPr/>
        </p:nvSpPr>
        <p:spPr>
          <a:xfrm>
            <a:off x="1042920" y="1844640"/>
            <a:ext cx="7561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Préambule du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-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Les savoirs rédactionnels sont centrés sur la production écrite en situation professionne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- Ces savoirs sont présents dans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17 situations professionnelles sur les 55 que comporte le référentiel.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2240" y="1268280"/>
            <a:ext cx="75218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3 .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quels apprentissages 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B9F4-8FD2-4F59-ACA5-40252A7069C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genres d’écrits à travaill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Dans le cadre des 17 situations professionnelles du RC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d’un partenaire ou à un partenaire (réclamation à un fournisseur, relance client, sollicitation auprès d’une administration etc.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consignes de sécur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documents d’accueil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à un salarié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iscour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’annonc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mpte rendu de réunion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a fiche de synthèse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escriptif d’un projet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rapport d’étape d’un projet etc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5CDB-CA9C-4F39-8680-505FE7E3E58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67DB-D323-4AF7-A2C5-03EB155B87D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95280" y="879480"/>
          <a:ext cx="8496360" cy="515160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1825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716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des d’accès aux sites de déclarations des formalité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juridiques relatives aux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sur le ou les partenaires concernés par la form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nécessaires à l’élaboration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à respecter pour maintenir la relation avec les différentes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ervices et interlocuteurs de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accomplissement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urriers types de demande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les formalités administratives, y compris au sein de l’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administrations, leurs finalités et leurs champs d’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ubven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rganismes europé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courrier de sollicitation auprès d’une 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positionnement et la situation de l’émett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 description et la justification de la requê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codes et règles du courrier aux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lexique du souhait, de la demande, de l’autor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modes et temps des verbes :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nécessitant un processus long : échanges, validations, rendez-v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intégrant des données jurid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nombreuses exigeant l’établissement d’un calendri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au sein de l’UE ou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incomplètes ou non co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hors dél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déclarée irrecevable par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formalités administratives courantes sont réalisé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dre en charge des formalité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obligation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22240" y="1100160"/>
            <a:ext cx="75218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3. Gestion administrative des relations avec les autres partenaires</a:t>
            </a:r>
            <a:r>
              <a:rPr b="1" lang="fr-FR" sz="17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bd"/>
                </a:solidFill>
                <a:latin typeface="Arial"/>
                <a:ea typeface="Times New Roman"/>
              </a:rPr>
              <a:t>1.3.3. Traitement des formalités administratives</a:t>
            </a: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8374a"/>
                </a:solidFill>
                <a:latin typeface="Franklin Gothic Book"/>
              </a:rPr>
              <a:t>Savoirs associé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avoirs rédactionnel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Lecture et écriture d’un genre 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courrier de sollicitation auprès d’une administ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Procédés d’écritur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positionnement et la situation de l’émetteur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 description et la justification de la requêt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codes et règles du courrier aux administration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lexique du souhait, de la demande, de l’autoris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modes et temps des verbes : condit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4FEE-38F7-41BF-8C84-BA7D5F8B2D2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courri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2240" y="907920"/>
            <a:ext cx="7521840" cy="532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SARL   ESCOUZEL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roduits régionaux et biologiqu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                                                                                Labastide, le 1</a:t>
            </a:r>
            <a:r>
              <a:rPr b="1" lang="fr-FR" sz="1000" spc="-1" strike="noStrike" baseline="30000">
                <a:solidFill>
                  <a:srgbClr val="000000"/>
                </a:solidFill>
                <a:latin typeface="Franklin Gothic Book"/>
              </a:rPr>
              <a:t>er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octobre 2011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                                                                                            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Hôtel de Vill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    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Objet : modification couleur menuiseries extérieur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,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mme suite à notre courrier du 24 août dernier au service départemental de l’architecture et du patrimoine des Landes, et à la rencontre du 22 septembre avec Monsieur Gileti, architecte des Bâtiments de France et à son courrier du 29, nous avons pris bonne note des références qu’il nous a conseill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avons donc l’honneur de vous informer que, conformément à l’avis de Monsieur Gileti, nous allons utiliser, pour la peinture des menuiseries extérieures de notre commerce de Labastide d’Armagnac , les références des couleurs suivantes :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Franklin Gothic Book"/>
              </a:rPr>
              <a:t>Nuancier Sikkens Color, collection 2021, page 88, G8.1060 ou G8.1070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vous prions d’agréer, Monsieur le Maire, l’expression de nos salutations les plus distingu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Le Gérant, Pierre Escouzel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pie : M. Gileti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 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6251-C12C-49D8-A8A7-9942655E60A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age 11" descr="label-ab-europeen.jpg"/>
          <p:cNvPicPr/>
          <p:nvPr/>
        </p:nvPicPr>
        <p:blipFill>
          <a:blip r:embed="rId1"/>
          <a:stretch/>
        </p:blipFill>
        <p:spPr>
          <a:xfrm>
            <a:off x="900000" y="981000"/>
            <a:ext cx="576360" cy="385920"/>
          </a:xfrm>
          <a:prstGeom prst="rect">
            <a:avLst/>
          </a:prstGeom>
          <a:ln w="0">
            <a:noFill/>
          </a:ln>
        </p:spPr>
      </p:pic>
      <p:sp>
        <p:nvSpPr>
          <p:cNvPr id="421" name="Bouton d'action : Personnalisé 5">
            <a:hlinkClick r:id="rId2" action="ppaction://hlinksldjump"/>
          </p:cNvPr>
          <p:cNvSpPr/>
          <p:nvPr/>
        </p:nvSpPr>
        <p:spPr>
          <a:xfrm>
            <a:off x="179280" y="580536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ranklin Gothic Book"/>
              </a:rPr>
              <a:t>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Bouton d'action : Personnalisé 6">
            <a:hlinkClick r:id="rId3" action="ppaction://hlinksldjump"/>
          </p:cNvPr>
          <p:cNvSpPr/>
          <p:nvPr/>
        </p:nvSpPr>
        <p:spPr>
          <a:xfrm>
            <a:off x="171360" y="5326200"/>
            <a:ext cx="432000" cy="263520"/>
          </a:xfrm>
          <a:custGeom>
            <a:avLst/>
            <a:gdLst>
              <a:gd name="textAreaLeft" fmla="*/ 16920 w 432000"/>
              <a:gd name="textAreaRight" fmla="*/ 415080 w 432000"/>
              <a:gd name="textAreaTop" fmla="*/ 16920 h 263520"/>
              <a:gd name="textAreaBottom" fmla="*/ 246600 h 263520"/>
            </a:gdLst>
            <a:ahLst/>
            <a:rect l="textAreaLeft" t="textAreaTop" r="textAreaRight" b="textAreaBottom"/>
            <a:pathLst>
              <a:path w="35391" h="21600">
                <a:moveTo>
                  <a:pt x="0" y="0"/>
                </a:moveTo>
                <a:lnTo>
                  <a:pt x="35391" y="0"/>
                </a:lnTo>
                <a:lnTo>
                  <a:pt x="35391" y="21600"/>
                </a:lnTo>
                <a:lnTo>
                  <a:pt x="0" y="21600"/>
                </a:lnTo>
                <a:close/>
              </a:path>
              <a:path fill="lightenLess" w="35391" h="21600">
                <a:moveTo>
                  <a:pt x="0" y="0"/>
                </a:moveTo>
                <a:lnTo>
                  <a:pt x="35391" y="0"/>
                </a:lnTo>
                <a:lnTo>
                  <a:pt x="33991" y="1400"/>
                </a:lnTo>
                <a:lnTo>
                  <a:pt x="1400" y="1400"/>
                </a:lnTo>
                <a:close/>
              </a:path>
              <a:path fill="darken" w="35391" h="21600">
                <a:moveTo>
                  <a:pt x="35391" y="0"/>
                </a:moveTo>
                <a:lnTo>
                  <a:pt x="35391" y="21600"/>
                </a:lnTo>
                <a:lnTo>
                  <a:pt x="33991" y="20200"/>
                </a:lnTo>
                <a:lnTo>
                  <a:pt x="33991" y="1400"/>
                </a:lnTo>
                <a:close/>
              </a:path>
              <a:path fill="darkenLess" w="35391" h="21600">
                <a:moveTo>
                  <a:pt x="35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91" y="20200"/>
                </a:lnTo>
                <a:close/>
              </a:path>
              <a:path fill="lighten" w="35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Franklin Gothic Book"/>
              </a:rPr>
              <a:t>+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</a:t>
            </a:r>
            <a:r>
              <a:rPr b="0" lang="fr-FR" sz="1800" spc="-1" strike="noStrike">
                <a:solidFill>
                  <a:srgbClr val="c00000"/>
                </a:solidFill>
                <a:latin typeface="Franklin Gothic Medium"/>
              </a:rPr>
              <a:t>(RC Annexe III c)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2240" y="1267920"/>
            <a:ext cx="7521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1. Communication et énonci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Contexte, situation de communication et ses marques dans l’énonciation du text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identités des interlocuteurs, pronoms personnels, indicateurs temporels, temps verbaux  (antériorité, simultanéité, postériorité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2. Visées et enjeux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Visée informative avec un enjeu « civique » implicit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ode indicatif, phrases déclaratives, mise en paragraphes, valorisation de la décision, lexique  « neutre »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3.Genres des documents professionnel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 courrier d’information d’un  commerçant  à une administr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ise en page du courrier, formules d’usage…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09D7-F45F-40BD-8483-69B8E4A179A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Bouton d'action : Personnalisé 7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compétences…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aux ateliers rédactionnel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(suite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22240" y="1099800"/>
            <a:ext cx="752184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4. Lexique professionn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thémat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usuel codifié selon l’usage et les relations (hiérarchiques ou entre « pairs »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5. Mobilisation de connaissances et de codes orthographique, grammatical et syntax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caractères typographiqu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« marques de personne », les modes et temps verbaux, (valeurs et conjugaisons), les accords, la syntaxe, la ponctu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a cohésion du texte (connecteurs, faits de reprise) et cohérence logique (mise en paragraphes, progression de l’information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niveaux de langue et l’orthographe lexical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Une révision en situation, au fil de l’écriture et de la réécritur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3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D63A-3E96-4638-BA27-F138A357A56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Bouton d'action : Personnalisé 6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521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4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types d’ateliers et comment les mettre en place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E5D9-2E55-4055-954F-5CA0659B221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ifférents types d’ateli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5BB3-A882-4787-ADBA-112153EE74E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4"/>
          <p:cNvSpPr/>
          <p:nvPr/>
        </p:nvSpPr>
        <p:spPr>
          <a:xfrm>
            <a:off x="826920" y="1197000"/>
            <a:ext cx="734544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observation et d’analyse du ré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ocuments et supports de communication exis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simula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e situations professionn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emandes ré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artage d’expérience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près des PFM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- Ateliers de transposition rédactionnelle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(changement d’énonciateur, de cibles, de contraintes, de supports… dans des contextes plus ou moins criti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auto-formation,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notamment aux logiciels dédié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Avec une organisation propre à chaque établiss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1880" y="1557360"/>
            <a:ext cx="7637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anklin Gothic Book"/>
              </a:rPr>
              <a:t>Des séances en co-animation dans le cadre (et/ou)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Enseignement Général en Lien avec la Spécialité (EGLS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accompagnement personnalisé (AP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PFMP : avant, pendant et après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 projets à caractère pluridisciplinaire et professionnel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→ 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Pas d’horaires spécifiques. Projet d’établissement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AC65-3153-4FD4-8366-6920C3CB56E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n guise de conclusion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22240" y="1100160"/>
            <a:ext cx="75218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« Écrire est toujours un art plein de rencontr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La lettre la plus simple suppose un choix entr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des milliers de mots, dont la plupart sont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étrangers à ce que vous voulez dire. »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Franklin Gothic Book"/>
              </a:rPr>
              <a:t>Alain - 193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7575-3AE0-4469-8DBD-4F87C9881D6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2240" y="1100160"/>
            <a:ext cx="75218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quoi des ateliers rédactionnels ? 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objectifs  et quelles démarch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 quels apprentissag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types d’ateliers et comment les mettre en place ?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15AE-5C11-462F-A8F6-49F22692E0A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1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ourquoi des ateliers rédactionnels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131D-DE2C-4144-8FAF-2DA147E3269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989000"/>
            <a:ext cx="75218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Note d’opportunité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28374a"/>
                </a:solidFill>
                <a:latin typeface="Franklin Gothic Book"/>
              </a:rPr>
              <a:t>« La compétence à communiquer intègre une maîtrise langagière spécifique du métier et une utilisation du lexique de l’organisation dans tout type de contexte et de situation professionnels. »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A744-639D-43AD-9B59-D9046A70A2A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25360"/>
            <a:ext cx="752184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Le Référentiel d’Activités Professionnelles  (RAP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28374a"/>
                </a:solidFill>
                <a:latin typeface="Franklin Gothic Book"/>
              </a:rPr>
              <a:t>«</a:t>
            </a:r>
            <a:r>
              <a:rPr b="0" i="1" lang="fr-FR" sz="2800" spc="-1" strike="noStrike">
                <a:solidFill>
                  <a:srgbClr val="28374a"/>
                </a:solidFill>
                <a:latin typeface="Franklin Gothic Book"/>
              </a:rPr>
              <a:t>  </a:t>
            </a:r>
            <a:r>
              <a:rPr b="1" i="1" lang="fr-FR" sz="2400" spc="-1" strike="noStrike">
                <a:solidFill>
                  <a:srgbClr val="28374a"/>
                </a:solidFill>
                <a:latin typeface="Franklin Gothic Book"/>
              </a:rPr>
              <a:t>Dans son rôle d’interface et de producteur de documents et de supports de communication, le titulaire du baccalauréat professionnel Gestion-Administration doit maîtriser la qualité de son expression écrite et orale. Vecteur de l’image de l’organisation, sa maîtrise de l’orthographe et de la syntaxe est impérative. »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712B-AE6D-4CB0-AEBA-0D66C453DA9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complex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26920" y="1341360"/>
            <a:ext cx="75218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situations de communication et des productions écrites très diverses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Mobilisant des connaissances et capacités langagières spécifiques variant selon les productions attendues 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 la part d’élèves ou d’apprentis qui, au sortir de la troisième générale ou de la troisième préparant à la voie professionnelle, n’auront peut-être pas encore validé la compétence 1 du socle commun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15A8-81E7-4878-95BC-5042E56B6F5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nécessaire collabor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280" y="1267920"/>
            <a:ext cx="758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Un enseignement en co-disciplinarité: professeur de français (PLP Lettres-histoire ou PLP langue-Lettres) et professeur d’économie-gestion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Chaque professeur apportant, selon les productions travaillées, ses compétences disciplinaires spécifi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Dans un esprit de découverte, de mutualisation et d’enrichissement récipro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6CB8-5E2A-4378-AACD-5FA2A474517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des finalités divers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2240" y="1099800"/>
            <a:ext cx="75218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ire  évoluer les représentations des jeunes dans l’apprentissage d’un métier :  liaison EG /EP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ciliter les poursuites d’étud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parfaire les compétences  rédactionnelles des jeunes qu’elles soient professionnelles ou plus personnell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BE9F-8DD0-4348-8F2D-A6ED4484DE3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6:57:33Z</dcterms:created>
  <dc:creator>Simon</dc:creator>
  <dc:description/>
  <cp:keywords/>
  <dc:language>en-US</dc:language>
  <cp:lastModifiedBy>Edith Simon</cp:lastModifiedBy>
  <dcterms:modified xsi:type="dcterms:W3CDTF">2011-10-25T19:03:02Z</dcterms:modified>
  <cp:revision>167</cp:revision>
  <dc:subject/>
  <dc:title>Présentation PowerPoint</dc:title>
</cp:coreProperties>
</file>