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AC0-415F-40B8-8C33-26D3769D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996-66C1-4C0B-8DB8-A340FB6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1C6-E776-4AC9-9A3B-D573EAB6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013-522F-4834-A3BC-EC757FA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9CF-E75B-438C-9EB9-6F5D9CC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7A1-B231-4307-B44E-28809FA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A18-F98A-4C24-8FC0-1395D486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4A8-AD71-4A66-9ADA-88F770A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C69-1F19-4EB6-8D8A-6E08E2C0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38C-72C4-4773-A5E8-900776D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ADA-2D9D-4D9A-954A-82E05C4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2E9-62B6-44AF-9D16-3E4B1823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D567-2793-4DF7-93EA-1CFCBB37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PROTECTION DU COR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172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08000"/>
                </a:solidFill>
                <a:latin typeface="Comic Sans MS"/>
              </a:rPr>
              <a:t>Réalisé par E. Cassan – J.-M. Pe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38240" y="1442880"/>
            <a:ext cx="7067520" cy="3972240"/>
          </a:xfrm>
          <a:prstGeom prst="rect">
            <a:avLst/>
          </a:prstGeom>
          <a:ln w="0">
            <a:noFill/>
          </a:ln>
        </p:spPr>
      </p:pic>
      <p:pic>
        <p:nvPicPr>
          <p:cNvPr id="46" name="le%20corps%20humain%20et%20le%20temps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Pour protéger le corps, il faut utiliser des vêtements ou des articles d’habillement spécifique pour chaque ris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8954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salariés sont exposés aux risqu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thermiques (feu, chaleur, froid, intempéri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himiques (expositions aux produits chimiques,</a:t>
            </a:r>
            <a:br>
              <a:rPr sz="2000"/>
            </a:b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iquides ou gazeux, projections de matièr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dangereus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mécaniques (perforations, coupures, happement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i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rout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23840" y="43020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n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17524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normes de ba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340 : exigences générales relatives à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’ergonomie, au vieillissement et à la taille d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ête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510 : spécifications contre le risque d’être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happé par des pièces de machines en mouve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 EN 1149-1 à 5 : propriétés électrosta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523840" y="43020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n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1752480"/>
            <a:ext cx="777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normes spécifiqu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342 : vêtements de protection contre le froid à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des températures inférieures à – 5° C. Elle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distingue 3 niveaux de performanc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A : isolation thermique de ba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 : niveau de perméabilit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 : niveau de respira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343 : vêtements de protection contre l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intempéries en cas de températures supérieures à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– 5° C. Elle distingue 2 niveaux de performanc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A : niveau d’imperméabilit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 : niveau de respira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523840" y="43020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n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1752480"/>
            <a:ext cx="777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normes spécifiqu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465, EN 466 et EN 467 : vêtement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réutilisables de protection contre les risqu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him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1511, EN 1512, EN 1513, EN 943-1, EN 943-2 :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êtements à usage limité contre les risqu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him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 EN 471 : vêtements de signalisation à haute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isi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67720" y="380880"/>
            <a:ext cx="35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 marq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1160" y="1905120"/>
            <a:ext cx="8581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53200" y="457200"/>
            <a:ext cx="56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Exemples de modè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7400" y="2133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omb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ombinaison-de-travail-000020425-4" descr=""/>
          <p:cNvPicPr/>
          <p:nvPr/>
        </p:nvPicPr>
        <p:blipFill>
          <a:blip r:embed="rId3"/>
          <a:srcRect l="21426" t="0" r="22883" b="2914"/>
          <a:stretch/>
        </p:blipFill>
        <p:spPr>
          <a:xfrm>
            <a:off x="685800" y="1676520"/>
            <a:ext cx="826920" cy="14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5280" y="3276720"/>
            <a:ext cx="824040" cy="143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4600" y="38862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ombinaison haute vi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811" descr=""/>
          <p:cNvPicPr/>
          <p:nvPr/>
        </p:nvPicPr>
        <p:blipFill>
          <a:blip r:embed="rId5"/>
          <a:srcRect l="7756" t="3364" r="2708" b="7773"/>
          <a:stretch/>
        </p:blipFill>
        <p:spPr>
          <a:xfrm>
            <a:off x="1981080" y="4952880"/>
            <a:ext cx="1295640" cy="143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33920" y="5638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Gilet matelas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53200" y="457200"/>
            <a:ext cx="56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Exemples de modè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7400" y="21337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este et pantalon de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38862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louse de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638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P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esize" descr=""/>
          <p:cNvPicPr/>
          <p:nvPr/>
        </p:nvPicPr>
        <p:blipFill>
          <a:blip r:embed="rId3"/>
          <a:srcRect l="0" t="16673" r="0" b="16673"/>
          <a:stretch/>
        </p:blipFill>
        <p:spPr>
          <a:xfrm>
            <a:off x="457200" y="1905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blouse-de-travail-1484-700-113-bleu-roi-bleu-fonce" descr=""/>
          <p:cNvPicPr/>
          <p:nvPr/>
        </p:nvPicPr>
        <p:blipFill>
          <a:blip r:embed="rId4"/>
          <a:stretch/>
        </p:blipFill>
        <p:spPr>
          <a:xfrm>
            <a:off x="1143000" y="3124080"/>
            <a:ext cx="1241280" cy="1436760"/>
          </a:xfrm>
          <a:prstGeom prst="rect">
            <a:avLst/>
          </a:prstGeom>
          <a:ln w="0">
            <a:noFill/>
          </a:ln>
        </p:spPr>
      </p:pic>
      <p:pic>
        <p:nvPicPr>
          <p:cNvPr id="78" name="artoff255" descr=""/>
          <p:cNvPicPr/>
          <p:nvPr/>
        </p:nvPicPr>
        <p:blipFill>
          <a:blip r:embed="rId5"/>
          <a:stretch/>
        </p:blipFill>
        <p:spPr>
          <a:xfrm>
            <a:off x="2133720" y="4876920"/>
            <a:ext cx="1292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2:36:54Z</dcterms:created>
  <dc:creator>K100</dc:creator>
  <dc:description/>
  <dc:language>en-US</dc:language>
  <cp:lastModifiedBy>K100</cp:lastModifiedBy>
  <dcterms:modified xsi:type="dcterms:W3CDTF">2008-10-03T13:57:40Z</dcterms:modified>
  <cp:revision>7</cp:revision>
  <dc:subject/>
  <dc:title>Présentation PowerPoint</dc:title>
</cp:coreProperties>
</file>