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EE04-59B3-4589-A361-A78F399B4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72B5-DA75-4B9A-93BE-E94D574C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C164-879C-4BAD-806E-68D0BF3DA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3E9A-13BB-4C3D-A632-F0F7D23EC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18D3-D43A-47E3-9952-D1813281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253C-05E2-45E3-8F92-9890AC19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8FD1-28D2-4E3D-BA76-3A696DDD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945F-BF8F-471F-85FA-A442E0D5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AE59-CFA6-4B7D-9C89-244C509B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6279-FE85-4921-A1AD-8089747C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52AB-ED49-43EF-A87F-F04DF7D9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82A7-D1DD-4C69-A8E7-F790F145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15A5-CD10-46C1-BE1A-6ADAFB382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lanfrance.fr/default.aspx?detail=1072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3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99ff"/>
                </a:solidFill>
                <a:latin typeface="Comic Sans MS"/>
              </a:rPr>
              <a:t>EPI </a:t>
            </a:r>
            <a:br>
              <a:rPr sz="4800"/>
            </a:br>
            <a:r>
              <a:rPr b="0" lang="en-US" sz="4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ICARO S3">
            <a:hlinkClick r:id="rId2"/>
          </p:cNvPr>
          <p:cNvPicPr/>
          <p:nvPr/>
        </p:nvPicPr>
        <p:blipFill>
          <a:blip r:embed="rId3"/>
          <a:srcRect l="0" t="24247" r="0" b="0"/>
          <a:stretch/>
        </p:blipFill>
        <p:spPr>
          <a:xfrm>
            <a:off x="6705720" y="5079960"/>
            <a:ext cx="1944720" cy="1473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rcRect l="3327" t="0" r="0" b="9728"/>
          <a:stretch/>
        </p:blipFill>
        <p:spPr>
          <a:xfrm>
            <a:off x="380880" y="304920"/>
            <a:ext cx="2210040" cy="1752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280" y="6172200"/>
            <a:ext cx="441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3399ff"/>
                </a:solidFill>
                <a:latin typeface="Arial"/>
              </a:rPr>
              <a:t>Réalisé par V. Leblanc – V. Genain – S. Brugge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057400" y="2362320"/>
            <a:ext cx="763560" cy="1619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800600" y="2743200"/>
            <a:ext cx="1684440" cy="898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3429000" y="4495680"/>
            <a:ext cx="78732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5181480" y="4495680"/>
            <a:ext cx="571680" cy="1619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447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ACCESSO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447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RECOMMANDATIONS D’ENTRE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236844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 Contrôler visuellement le bon état de la chaussure avant </a:t>
            </a:r>
            <a:br>
              <a:rPr sz="2400"/>
            </a:b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chaque utilis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Mettre au rebut les chaussures lorsque le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relief des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semelles est usé ou lorsqu’une détérioration importante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apparaî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Tenir les chaussures en état de propre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es faire sécher de façon naturelle lorsqu’elles sont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humides, ne pas les placer à proximité d’une source de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chale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Graisser ou cirer les chaussures afin de limiter le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dessèchement ou la formation de craquel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170820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e milieu industriel génère des risques importants et variés qui nécessitent notamment une protection efficace des pie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320040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es normes et directives européennes définissent </a:t>
            </a:r>
            <a:br>
              <a:rPr sz="2400"/>
            </a:b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trois catégories de chaussures à usage professionn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3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DIFFÉRENTS RIS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mécanique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chocs, écrasement, perfo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chimique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produits dangereux, corrosif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thermique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froid, chaleur, intempéri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électrique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décharge électrique, électricité stat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biologique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allergies, irritation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Risque lié aux déplacements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gliss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38360" y="2362320"/>
          <a:ext cx="7665840" cy="3504960"/>
        </p:xfrm>
        <a:graphic>
          <a:graphicData uri="http://schemas.openxmlformats.org/drawingml/2006/table">
            <a:tbl>
              <a:tblPr/>
              <a:tblGrid>
                <a:gridCol w="2004840"/>
                <a:gridCol w="2286000"/>
                <a:gridCol w="3375000"/>
              </a:tblGrid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Nor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Type de chaussu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Protection aux cho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EN 3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Chaussures de trava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Aucu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90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EN 3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Chaussures de prote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Moyen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(choc de 100 joules</a:t>
                      </a:r>
                      <a:r>
                        <a:rPr b="0" lang="en-US" sz="2400" spc="-1" strike="noStrike" baseline="30000">
                          <a:solidFill>
                            <a:srgbClr val="3399ff"/>
                          </a:solidFill>
                          <a:latin typeface="Comic Sans MS"/>
                        </a:rPr>
                        <a:t>*</a:t>
                      </a: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92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EN 3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Chaussures de sécurit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Importa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(choc de 200 joules</a:t>
                      </a:r>
                      <a:r>
                        <a:rPr b="0" lang="en-US" sz="2400" spc="-1" strike="noStrike" baseline="30000">
                          <a:solidFill>
                            <a:srgbClr val="3399ff"/>
                          </a:solidFill>
                          <a:latin typeface="Comic Sans MS"/>
                        </a:rPr>
                        <a:t>*</a:t>
                      </a:r>
                      <a:r>
                        <a:rPr b="0" lang="en-US" sz="2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457200" y="6165720"/>
            <a:ext cx="828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3399ff"/>
                </a:solidFill>
                <a:latin typeface="Comic Sans MS"/>
              </a:rPr>
              <a:t>*</a:t>
            </a:r>
            <a:r>
              <a:rPr b="0" lang="en-US" sz="1600" spc="-1" strike="noStrike">
                <a:solidFill>
                  <a:srgbClr val="3399ff"/>
                </a:solidFill>
                <a:latin typeface="Comic Sans MS"/>
              </a:rPr>
              <a:t> Joule : Unité élémentaire de mesure d’énergie, de travail et de quantité de chaleur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5238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NOR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28600" y="259056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Classe 1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Chaussures tout cuir sauf caoutchouc ou polymè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Classe 2 :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Bottes tout caoutchouc entièrement vulcanisé ou tout polymère moul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5238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MATÉRIAUX UTI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rcRect l="0" t="0" r="0" b="22576"/>
          <a:stretch/>
        </p:blipFill>
        <p:spPr>
          <a:xfrm>
            <a:off x="1600200" y="2743200"/>
            <a:ext cx="6019920" cy="3657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DIFFÉRENTES PARTIES D’UNE CHAUSSURE DE SÉCUR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447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EXIGENCES FONDAM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2286000"/>
            <a:ext cx="8458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Elles portent sur toute ou partie de la chaussure : </a:t>
            </a: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tige, doublure, languette, semel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es exigences fondamentales concerne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- la qualité et la performance de matériaux utilisé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a résistance à la déchirure, à la flexion et à l ’abras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a perméabilité à la vapeur d ’eau et aux huil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’adhésion tige-semel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99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la propriété antidérapante de la semel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447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EXIGENCES ADDITION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2054160" y="2092320"/>
            <a:ext cx="50338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1219320" y="2549520"/>
            <a:ext cx="3193920" cy="1758960"/>
            <a:chOff x="1219320" y="2549520"/>
            <a:chExt cx="3193920" cy="1758960"/>
          </a:xfrm>
        </p:grpSpPr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1219320" y="2549520"/>
              <a:ext cx="1846440" cy="90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3"/>
            <a:stretch/>
          </p:blipFill>
          <p:spPr>
            <a:xfrm>
              <a:off x="2819520" y="3227400"/>
              <a:ext cx="1593720" cy="108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7" name="" descr=""/>
          <p:cNvPicPr/>
          <p:nvPr/>
        </p:nvPicPr>
        <p:blipFill>
          <a:blip r:embed="rId4"/>
          <a:srcRect l="3327" t="0" r="0" b="9728"/>
          <a:stretch/>
        </p:blipFill>
        <p:spPr>
          <a:xfrm>
            <a:off x="0" y="0"/>
            <a:ext cx="1295280" cy="1027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267080" y="30492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Comic Sans MS"/>
              </a:rPr>
              <a:t>PROTECTION DES PI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447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ff"/>
                </a:solidFill>
                <a:latin typeface="Comic Sans MS"/>
              </a:rPr>
              <a:t>LES DIFFÉRENTS MODÈ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715000" y="2286000"/>
            <a:ext cx="2477880" cy="1978200"/>
            <a:chOff x="5715000" y="2286000"/>
            <a:chExt cx="2477880" cy="1978200"/>
          </a:xfrm>
        </p:grpSpPr>
        <p:pic>
          <p:nvPicPr>
            <p:cNvPr id="81" name="" descr=""/>
            <p:cNvPicPr/>
            <p:nvPr/>
          </p:nvPicPr>
          <p:blipFill>
            <a:blip r:embed="rId5"/>
            <a:stretch/>
          </p:blipFill>
          <p:spPr>
            <a:xfrm>
              <a:off x="5715000" y="2286000"/>
              <a:ext cx="1258920" cy="12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6"/>
            <a:stretch/>
          </p:blipFill>
          <p:spPr>
            <a:xfrm>
              <a:off x="6933960" y="3005280"/>
              <a:ext cx="1258920" cy="125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"/>
          <p:cNvGrpSpPr/>
          <p:nvPr/>
        </p:nvGrpSpPr>
        <p:grpSpPr>
          <a:xfrm>
            <a:off x="4724280" y="4495680"/>
            <a:ext cx="2786040" cy="2097000"/>
            <a:chOff x="4724280" y="4495680"/>
            <a:chExt cx="2786040" cy="2097000"/>
          </a:xfrm>
        </p:grpSpPr>
        <p:pic>
          <p:nvPicPr>
            <p:cNvPr id="84" name="" descr=""/>
            <p:cNvPicPr/>
            <p:nvPr/>
          </p:nvPicPr>
          <p:blipFill>
            <a:blip r:embed="rId7"/>
            <a:stretch/>
          </p:blipFill>
          <p:spPr>
            <a:xfrm>
              <a:off x="4724280" y="5333760"/>
              <a:ext cx="1863720" cy="12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8"/>
            <a:stretch/>
          </p:blipFill>
          <p:spPr>
            <a:xfrm>
              <a:off x="5638680" y="4495680"/>
              <a:ext cx="1871640" cy="125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"/>
          <p:cNvGrpSpPr/>
          <p:nvPr/>
        </p:nvGrpSpPr>
        <p:grpSpPr>
          <a:xfrm>
            <a:off x="1066680" y="4114800"/>
            <a:ext cx="1967040" cy="2230560"/>
            <a:chOff x="1066680" y="4114800"/>
            <a:chExt cx="1967040" cy="2230560"/>
          </a:xfrm>
        </p:grpSpPr>
        <p:pic>
          <p:nvPicPr>
            <p:cNvPr id="87" name="" descr=""/>
            <p:cNvPicPr/>
            <p:nvPr/>
          </p:nvPicPr>
          <p:blipFill>
            <a:blip r:embed="rId9"/>
            <a:stretch/>
          </p:blipFill>
          <p:spPr>
            <a:xfrm>
              <a:off x="1066680" y="4114800"/>
              <a:ext cx="86688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10"/>
            <a:stretch/>
          </p:blipFill>
          <p:spPr>
            <a:xfrm>
              <a:off x="1828800" y="4724280"/>
              <a:ext cx="1204920" cy="1621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12:06:23Z</dcterms:created>
  <dc:creator>lp la peupleraie</dc:creator>
  <dc:description/>
  <dc:language>en-US</dc:language>
  <cp:lastModifiedBy>Jean-Michel PETIT</cp:lastModifiedBy>
  <dcterms:modified xsi:type="dcterms:W3CDTF">2008-10-09T12:20:19Z</dcterms:modified>
  <cp:revision>34</cp:revision>
  <dc:subject/>
  <dc:title>LES EPI</dc:title>
</cp:coreProperties>
</file>