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4D73-0B36-4C99-BCDF-00729387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6DE7-B730-4FCD-BF6E-17568172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6465-3886-4D85-A80B-E660FB21E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6623-6BB0-4166-82A9-DD99B23F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A6A-1C42-4C89-AC9E-A237F766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8C56-BBFA-4511-8EF6-A50DA85E8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A44-E434-4206-BF53-304645CAF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6C83-F645-45E8-A8F4-ABE2C06A6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3301-2591-423B-8597-E70B3836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419-41D3-40CB-AAEF-08DBE3A1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BC3-F2B3-4299-AB88-01C2CE16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920-C164-42F3-905F-925AAE50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9E257-5572-493E-A3FC-8A8CA387E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slide" Target="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91720" y="3886200"/>
            <a:ext cx="460188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PROTECTION 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339966"/>
                </a:solidFill>
                <a:latin typeface="Verdana"/>
                <a:ea typeface="Arial"/>
              </a:rPr>
              <a:t>DES YEUX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egard1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4648320" cy="1690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4920" y="60958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400" spc="-1" strike="noStrike">
                <a:solidFill>
                  <a:srgbClr val="339966"/>
                </a:solidFill>
                <a:latin typeface="Times New Roman"/>
              </a:rPr>
              <a:t>Réalisé par S. Monet – M. Neyrinck – B. Lefebv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525640" y="43020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Statis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979640"/>
            <a:ext cx="6843600" cy="28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280" y="1828800"/>
            <a:ext cx="824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Au poste de travail, les yeux et le visage des travailleurs sont susceptibles d’être exposés à des risqu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189080"/>
            <a:ext cx="8229600" cy="55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1. Que faut-il faire pour charger une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Vérifier le niveau d'électrolyte avant de recharger une batterie : si l'électrolyte recouvre le dessus des plaques, ne pas ajouter d'eau et vérifier à nouveau le niveau de liquide une fois la batterie recharg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 </a:t>
            </a: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Pour réduire les risques d'explosion, suivre les recommandations du fabricant du chargeur sur le branchement et débranchement des câbles et sur le fonctionnement du charge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règle générale, on recommande de débrancher le chargeur ou de le mettre hors tension avant de brancher ou de débrancher les pinces. En y allant délicatement, brancher la pince positive [+], habituellement rouge, sur la borne positive de la batterie et la pince négative [-], habituellement noire, sur la borne né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Ne recharger des batteries que dans un endroit bien ventil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Si la batterie devient chaude ou si de l'électrolyte se met à jaillir d'un bouchon, mettre temporairement le chargeur hors tension. Reprendre le chargement avec un courant de plus faible intensité ou à une vitesse de chargement moins élev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32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2. Quels sont les risques pour les yeux lors de la mise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 charge de la batter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électri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Contact des deux bornes en même tem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’explo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Dégagement d’hydrogène qui à concentration suffisante dans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air devient explosi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- Risque de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Échauffement de l’électroly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En fin de charge, une opératrice fait l’appoint de niveau d’une batterie de traction. Que se passe-t-il 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867280"/>
            <a:ext cx="8229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’opératrice a reçu une projection d’électrolyte dans l’œil ga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163600" y="2133720"/>
            <a:ext cx="477072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137160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3. Que peut-on mettre en place pour limiter les risques </a:t>
            </a:r>
            <a:br>
              <a:rPr sz="2000"/>
            </a:b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encourus par les yeux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 port d’une protection adapté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36440" y="430200"/>
            <a:ext cx="30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Les ris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505480" y="430200"/>
            <a:ext cx="310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Prot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95280"/>
            <a:ext cx="82296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Il existe de nombreux modèles de protecteurs des yeux et/ou du vis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On peut les classer en trois grands types :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59092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branch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416088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lunettes mas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5608800"/>
            <a:ext cx="335268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339966"/>
                </a:solidFill>
                <a:latin typeface="Verdana"/>
              </a:rPr>
              <a:t>- </a:t>
            </a:r>
            <a:r>
              <a:rPr b="1" lang="en-US" sz="1600" spc="-1" strike="noStrike">
                <a:solidFill>
                  <a:srgbClr val="339966"/>
                </a:solidFill>
                <a:latin typeface="Verdana"/>
              </a:rPr>
              <a:t>Les écrans faciau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962520" y="4132440"/>
            <a:ext cx="2209680" cy="744480"/>
            <a:chOff x="3962520" y="4132440"/>
            <a:chExt cx="2209680" cy="744480"/>
          </a:xfrm>
        </p:grpSpPr>
        <p:pic>
          <p:nvPicPr>
            <p:cNvPr id="71" name="" descr=""/>
            <p:cNvPicPr/>
            <p:nvPr/>
          </p:nvPicPr>
          <p:blipFill>
            <a:blip r:embed="rId3"/>
            <a:srcRect l="2771" t="22239" r="3704" b="19641"/>
            <a:stretch/>
          </p:blipFill>
          <p:spPr>
            <a:xfrm>
              <a:off x="3962520" y="4132440"/>
              <a:ext cx="2209680" cy="7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 txBox="1"/>
            <p:nvPr/>
          </p:nvSpPr>
          <p:spPr>
            <a:xfrm>
              <a:off x="3962520" y="4132440"/>
              <a:ext cx="2209680" cy="744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4038480" y="2590920"/>
            <a:ext cx="3272040" cy="1455480"/>
            <a:chOff x="4038480" y="2590920"/>
            <a:chExt cx="3272040" cy="1455480"/>
          </a:xfrm>
        </p:grpSpPr>
        <p:grpSp>
          <p:nvGrpSpPr>
            <p:cNvPr id="74" name=""/>
            <p:cNvGrpSpPr/>
            <p:nvPr/>
          </p:nvGrpSpPr>
          <p:grpSpPr>
            <a:xfrm>
              <a:off x="4038480" y="2590920"/>
              <a:ext cx="1828800" cy="690480"/>
              <a:chOff x="4038480" y="2590920"/>
              <a:chExt cx="1828800" cy="690480"/>
            </a:xfrm>
          </p:grpSpPr>
          <p:pic>
            <p:nvPicPr>
              <p:cNvPr id="75" name="" descr=""/>
              <p:cNvPicPr/>
              <p:nvPr/>
            </p:nvPicPr>
            <p:blipFill>
              <a:blip r:embed="rId4"/>
              <a:srcRect l="2248" t="24225" r="5967" b="11784"/>
              <a:stretch/>
            </p:blipFill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6" name=""/>
              <p:cNvSpPr txBox="1"/>
              <p:nvPr/>
            </p:nvSpPr>
            <p:spPr>
              <a:xfrm>
                <a:off x="4038480" y="2590920"/>
                <a:ext cx="1828800" cy="69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marL="343080" indent="-343080">
                  <a:spcBef>
                    <a:spcPts val="799"/>
                  </a:spcBef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5715000" y="3124080"/>
              <a:ext cx="1595520" cy="92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3505320" y="5029200"/>
            <a:ext cx="2382840" cy="1596960"/>
            <a:chOff x="3505320" y="5029200"/>
            <a:chExt cx="2382840" cy="1596960"/>
          </a:xfrm>
        </p:grpSpPr>
        <p:pic>
          <p:nvPicPr>
            <p:cNvPr id="79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4800600" y="5029200"/>
              <a:ext cx="1087560" cy="15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8"/>
            <a:stretch/>
          </p:blipFill>
          <p:spPr>
            <a:xfrm>
              <a:off x="3505320" y="5257800"/>
              <a:ext cx="817560" cy="11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regard1" descr=""/>
          <p:cNvPicPr/>
          <p:nvPr/>
        </p:nvPicPr>
        <p:blipFill>
          <a:blip r:embed="rId2"/>
          <a:stretch/>
        </p:blipFill>
        <p:spPr>
          <a:xfrm>
            <a:off x="0" y="0"/>
            <a:ext cx="1523880" cy="55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496840" y="430200"/>
            <a:ext cx="29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9966"/>
                </a:solidFill>
                <a:latin typeface="Verdana"/>
                <a:ea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1447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L’œil est un organe fragile et vulnéra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Les effets d’un accident aux yeux sont nombreux et d’une gravité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allant d’une simple irritation à la cécité totale, d’où l’importance </a:t>
            </a:r>
            <a:br>
              <a:rPr sz="1600"/>
            </a:b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	</a:t>
            </a:r>
            <a:r>
              <a:rPr b="1" lang="fr-FR" sz="1600" spc="-1" strike="noStrike">
                <a:solidFill>
                  <a:srgbClr val="339966"/>
                </a:solidFill>
                <a:latin typeface="Verdana"/>
              </a:rPr>
              <a:t>d’utiliser l’EPI adapté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4:40:51Z</dcterms:created>
  <dc:creator>K100</dc:creator>
  <dc:description/>
  <dc:language>en-US</dc:language>
  <cp:lastModifiedBy>K100</cp:lastModifiedBy>
  <dcterms:modified xsi:type="dcterms:W3CDTF">2008-10-03T13:56:28Z</dcterms:modified>
  <cp:revision>9</cp:revision>
  <dc:subject/>
  <dc:title>Présentation PowerPoint</dc:title>
</cp:coreProperties>
</file>