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25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-352440"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82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196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6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6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28800" y="471060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70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2800" y="2223720"/>
            <a:ext cx="27270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6600" y="2223720"/>
            <a:ext cx="27270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70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2800" y="4710600"/>
            <a:ext cx="27270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16600" y="4710600"/>
            <a:ext cx="27270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69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69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117360"/>
            <a:ext cx="86011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28800" y="471060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2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693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1000"/>
              </a:lnSpc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112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2440"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693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71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84080" indent="-426960">
              <a:lnSpc>
                <a:spcPct val="71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073160" indent="-425520">
              <a:lnSpc>
                <a:spcPct val="71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360440" indent="-425520">
              <a:lnSpc>
                <a:spcPct val="71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1649520" indent="-428760">
              <a:lnSpc>
                <a:spcPct val="71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1649520" indent="-428760">
              <a:lnSpc>
                <a:spcPct val="71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1649520" indent="-428760">
              <a:lnSpc>
                <a:spcPct val="71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992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082600"/>
            <a:ext cx="907272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3600"/>
                <a:tab algn="l" pos="5428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640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e6e6e6"/>
                </a:solidFill>
                <a:latin typeface="Arial"/>
              </a:rPr>
              <a:t>GROUPE ACADEMIQUE </a:t>
            </a:r>
            <a:br>
              <a:rPr sz="4800"/>
            </a:br>
            <a:r>
              <a:rPr b="1" i="1" lang="en-US" sz="4800" spc="-1" strike="noStrike">
                <a:solidFill>
                  <a:srgbClr val="e6e6e6"/>
                </a:solidFill>
                <a:latin typeface="Arial"/>
              </a:rPr>
              <a:t>RESTAURATION  SANTE NUTRITION</a:t>
            </a:r>
            <a:br>
              <a:rPr sz="4800"/>
            </a:br>
            <a:br>
              <a:rPr sz="4800"/>
            </a:br>
            <a:r>
              <a:rPr b="1" i="1" lang="en-US" sz="6000" spc="-1" strike="noStrike">
                <a:solidFill>
                  <a:srgbClr val="e6e6e6"/>
                </a:solidFill>
                <a:latin typeface="Arial"/>
              </a:rPr>
              <a:t>G.A.R.S.A.N.</a:t>
            </a:r>
            <a:endParaRPr b="1" i="1" lang="en-US" sz="6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2340000"/>
            <a:ext cx="57610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343080"/>
            <a:ext cx="1800360" cy="109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40000" y="6300720"/>
            <a:ext cx="5580000" cy="108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60360" y="4761000"/>
            <a:ext cx="1933560" cy="261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023320" y="4680000"/>
            <a:ext cx="1877760" cy="270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8427960" y="360360"/>
            <a:ext cx="111132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17520"/>
            <a:ext cx="1008072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334800" indent="-334800"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Lucida Sans Unicode"/>
              </a:rPr>
              <a:t>LES TEXTES ET DI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B.O N°9 du 28 juin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Programme Quinquennal B.O N°46 du 11 décembre 200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Directive sur la collation matinale à l’école le 25 mars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Politique de santé publique: J.O du 11 août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Projet académique 2004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B.O N°18 du 05 mai 2005 (guide nutrition pour les a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BO N°5 du 25 août 2005 (Thèmes de convergence: sant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4800" indent="-3348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Avis n°55 du 30 mars 2006 du CNA (Centre National d'Aliment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600360"/>
            <a:ext cx="3421080" cy="900360"/>
          </a:xfrm>
          <a:prstGeom prst="roundRect">
            <a:avLst>
              <a:gd name="adj" fmla="val 1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103560"/>
            <a:ext cx="10080720" cy="1979640"/>
          </a:xfrm>
          <a:prstGeom prst="roundRect">
            <a:avLst>
              <a:gd name="adj" fmla="val 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3533760"/>
            <a:ext cx="98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Palatino Linotype"/>
              </a:rPr>
              <a:t>LES PROJE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2340000" cy="197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40360" y="5400720"/>
            <a:ext cx="2339640" cy="197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140360" y="539640"/>
            <a:ext cx="2339640" cy="19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39640" y="539640"/>
            <a:ext cx="2340000" cy="197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9640" y="539640"/>
            <a:ext cx="2340000" cy="197964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54880" y="5364000"/>
            <a:ext cx="2446200" cy="1979640"/>
          </a:xfrm>
          <a:prstGeom prst="roundRect">
            <a:avLst>
              <a:gd name="adj" fmla="val 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543640" y="3863880"/>
            <a:ext cx="2520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5040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060720"/>
            <a:ext cx="989964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Lucida Sans Unicod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Lucida Sans Unicode"/>
              </a:rPr>
              <a:t>Objectif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Augmenter la consommation de 20% par an des fruits et des légumes en restauration scolaire sur une période de 2 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Palatino Linotype"/>
                <a:ea typeface="Lucida Sans Unicode"/>
              </a:rPr>
              <a:t>Stratégie en deux temps</a:t>
            </a: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entretien avec un groupe d'élèves D.P. (questionn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observation du déroulement d'un service (évaluation consommation sur platea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0" y="49320"/>
            <a:ext cx="10015560" cy="300996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9680"/>
            <a:ext cx="1026000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2440" indent="-352440" algn="ctr">
              <a:lnSpc>
                <a:spcPct val="112000"/>
              </a:lnSpc>
              <a:tabLst>
                <a:tab algn="l" pos="0"/>
                <a:tab algn="l" pos="352440"/>
                <a:tab algn="l" pos="800280"/>
                <a:tab algn="l" pos="1249200"/>
                <a:tab algn="l" pos="1698480"/>
                <a:tab algn="l" pos="2147760"/>
                <a:tab algn="l" pos="2597040"/>
                <a:tab algn="l" pos="3046320"/>
                <a:tab algn="l" pos="3495600"/>
                <a:tab algn="l" pos="3944880"/>
                <a:tab algn="l" pos="4394160"/>
                <a:tab algn="l" pos="4843440"/>
                <a:tab algn="l" pos="5292720"/>
                <a:tab algn="l" pos="5742000"/>
                <a:tab algn="l" pos="6191280"/>
                <a:tab algn="l" pos="6640560"/>
                <a:tab algn="l" pos="7089840"/>
                <a:tab algn="l" pos="7539120"/>
                <a:tab algn="l" pos="7988400"/>
                <a:tab algn="l" pos="8437680"/>
                <a:tab algn="l" pos="8886960"/>
                <a:tab algn="l" pos="93362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PROJET P.N.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 LES FRUITS ET LES LEGUMES EN MILIEU SCOLAIRE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ctr">
              <a:lnSpc>
                <a:spcPct val="112000"/>
              </a:lnSpc>
              <a:tabLst>
                <a:tab algn="l" pos="0"/>
                <a:tab algn="l" pos="352440"/>
                <a:tab algn="l" pos="800280"/>
                <a:tab algn="l" pos="1249200"/>
                <a:tab algn="l" pos="1698480"/>
                <a:tab algn="l" pos="2147760"/>
                <a:tab algn="l" pos="2597040"/>
                <a:tab algn="l" pos="3046320"/>
                <a:tab algn="l" pos="3495600"/>
                <a:tab algn="l" pos="3944880"/>
                <a:tab algn="l" pos="4394160"/>
                <a:tab algn="l" pos="4843440"/>
                <a:tab algn="l" pos="5292720"/>
                <a:tab algn="l" pos="5742000"/>
                <a:tab algn="l" pos="6191280"/>
                <a:tab algn="l" pos="6640560"/>
                <a:tab algn="l" pos="7089840"/>
                <a:tab algn="l" pos="7539120"/>
                <a:tab algn="l" pos="7988400"/>
                <a:tab algn="l" pos="8437680"/>
                <a:tab algn="l" pos="8886960"/>
                <a:tab algn="l" pos="93362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observer pour comprend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ctr">
              <a:lnSpc>
                <a:spcPct val="112000"/>
              </a:lnSpc>
              <a:tabLst>
                <a:tab algn="l" pos="0"/>
                <a:tab algn="l" pos="352440"/>
                <a:tab algn="l" pos="800280"/>
                <a:tab algn="l" pos="1249200"/>
                <a:tab algn="l" pos="1698480"/>
                <a:tab algn="l" pos="2147760"/>
                <a:tab algn="l" pos="2597040"/>
                <a:tab algn="l" pos="3046320"/>
                <a:tab algn="l" pos="3495600"/>
                <a:tab algn="l" pos="3944880"/>
                <a:tab algn="l" pos="4394160"/>
                <a:tab algn="l" pos="4843440"/>
                <a:tab algn="l" pos="5292720"/>
                <a:tab algn="l" pos="5742000"/>
                <a:tab algn="l" pos="6191280"/>
                <a:tab algn="l" pos="6640560"/>
                <a:tab algn="l" pos="7089840"/>
                <a:tab algn="l" pos="7539120"/>
                <a:tab algn="l" pos="7988400"/>
                <a:tab algn="l" pos="8437680"/>
                <a:tab algn="l" pos="8886960"/>
                <a:tab algn="l" pos="933624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comprendre pour agir ensemble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543640" y="3863880"/>
            <a:ext cx="2520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378000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5040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0" y="262080"/>
            <a:ext cx="10206000" cy="117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buClr>
                <a:srgbClr val="99284c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</a:rPr>
              <a:t>Audit sur 17 établissements du Nord et du Pas-de-Calais réalisé par le laboratoire d'analyses sensorielles : SENSORUM avec Zouhair BEN OM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Collège G.Budé Maubeuge 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- Collège P. Neruda Vitry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Collège M. Curie Tourcoing 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- Collège Vauban Calais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Collège P. Eluard Cysoing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- Lycée Pablo Picasso Avion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Collège Germinal Raismes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- Lycée de l'Aa St Om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Collège G. Rieux Ronchin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- Lycée Flora Tristan Lill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Collège H. Matisse Ostricourt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- Lycée Woillez Montreuil  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Collège P. Eluard Beuvrages 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Lycée A. Rimbaud Sin leNoble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Lycée Beaupré Haubourd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Lycée Jessé de Forest Avesnes sur Helpe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79280"/>
            <a:ext cx="9899640" cy="82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3">
              <a:lnSpc>
                <a:spcPct val="112000"/>
              </a:lnSpc>
              <a:buClr>
                <a:srgbClr val="99284c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Le groupe Projet Action de chaque établissement reçoit les résultats des observations  ainsi que des propositions d'amélioration (nouvelle offre alimentaire, sensibilisation de la communauté éducative : projet d'établiss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buClr>
                <a:srgbClr val="99284c"/>
              </a:buClr>
              <a:buSzPct val="45000"/>
              <a:buFont typeface="Wingdings" charset="2"/>
              <a:buChar char="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Création d'outils afin de favoriser la consommation des fruits et légu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La mise en place d'un audit (analyse sensoriel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Des fiches rece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Un logiciel sur les entrées et sorties des produ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- Le plan alimen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543640" y="3863880"/>
            <a:ext cx="2520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0720" y="378000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5040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79280" y="1803240"/>
            <a:ext cx="10098000" cy="59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25520" indent="-216000">
              <a:lnSpc>
                <a:spcPct val="112000"/>
              </a:lnSpc>
              <a:buSzPct val="100000"/>
              <a:buBlip>
                <a:blip r:embed="rId1"/>
              </a:buBlip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2 secteurs géographiqu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073160" indent="-212760">
              <a:lnSpc>
                <a:spcPct val="11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Saint-Martin Boulo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073160" indent="-212760">
              <a:lnSpc>
                <a:spcPct val="11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Mons en Baroe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073160" indent="-212760">
              <a:lnSpc>
                <a:spcPct val="112000"/>
              </a:lnSpc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>
              <a:lnSpc>
                <a:spcPct val="112000"/>
              </a:lnSpc>
              <a:buSzPct val="100000"/>
              <a:buBlip>
                <a:blip r:embed="rId2"/>
              </a:buBlip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Suivi d'une cohorte d'enfants de la Grande section de Maternelle à la 6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>
              <a:lnSpc>
                <a:spcPct val="112000"/>
              </a:lnSpc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>
              <a:lnSpc>
                <a:spcPct val="112000"/>
              </a:lnSpc>
              <a:buSzPct val="100000"/>
              <a:buBlip>
                <a:blip r:embed="rId3"/>
              </a:buBlip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Accompagnement et suivi d'actions « nutrition et activités sportives » associant élèves, parents, enseignants, santé, municipalité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>
              <a:lnSpc>
                <a:spcPct val="112000"/>
              </a:lnSpc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>
              <a:lnSpc>
                <a:spcPct val="112000"/>
              </a:lnSpc>
              <a:buSzPct val="100000"/>
              <a:buBlip>
                <a:blip r:embed="rId4"/>
              </a:buBlip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Cette année, calcul de l'IMC des enfants et mise en place d'un questionnaire sur les habitudes alimentaires, l'hygiène de v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>
              <a:lnSpc>
                <a:spcPct val="112000"/>
              </a:lnSpc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de la cohorte et restitution des résultats aux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16000">
              <a:lnSpc>
                <a:spcPct val="112000"/>
              </a:lnSpc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  <a:ea typeface="Lucida Sans Unicode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5960" y="104760"/>
            <a:ext cx="9360000" cy="169560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026000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96800" indent="-426960" algn="ctr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101347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P.R.S  G.A.R.S.A.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96800" indent="-426960" algn="ctr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101347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« BIEN MANGER, BIEN BOUG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96800" indent="-426960" algn="ctr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101347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  <a:ea typeface="Lucida Sans Unicode"/>
              </a:rPr>
              <a:t>BIEN GRANDIR »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43640" y="3863880"/>
            <a:ext cx="2520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40720" y="378000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040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1240" y="179280"/>
            <a:ext cx="8460000" cy="1490760"/>
          </a:xfrm>
          <a:prstGeom prst="roundRect">
            <a:avLst>
              <a:gd name="adj" fmla="val 16667"/>
            </a:avLst>
          </a:pr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5400" y="244440"/>
            <a:ext cx="8240760" cy="13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09520" indent="-209520" algn="ctr">
              <a:lnSpc>
                <a:spcPct val="112000"/>
              </a:lnSpc>
              <a:tabLst>
                <a:tab algn="l" pos="0"/>
                <a:tab algn="l" pos="209520"/>
                <a:tab algn="l" pos="657360"/>
                <a:tab algn="l" pos="1106640"/>
                <a:tab algn="l" pos="1555920"/>
                <a:tab algn="l" pos="2004840"/>
                <a:tab algn="l" pos="2454120"/>
                <a:tab algn="l" pos="2903400"/>
                <a:tab algn="l" pos="3352680"/>
                <a:tab algn="l" pos="3801960"/>
                <a:tab algn="l" pos="4251240"/>
                <a:tab algn="l" pos="4700520"/>
                <a:tab algn="l" pos="5149800"/>
                <a:tab algn="l" pos="5599080"/>
                <a:tab algn="l" pos="6048360"/>
                <a:tab algn="l" pos="6497640"/>
                <a:tab algn="l" pos="6946920"/>
                <a:tab algn="l" pos="7396200"/>
                <a:tab algn="l" pos="7845480"/>
                <a:tab algn="l" pos="8294760"/>
                <a:tab algn="l" pos="8744040"/>
                <a:tab algn="l" pos="9193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EXEMPLES D'INTERVENTIONS DANS LES ETABLISS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0840" y="1820880"/>
            <a:ext cx="9894960" cy="53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Demande faite par un personnel de l'établissement (enseignants, infirmière, cuisinier, gestionnaire...) avec l'accord du chef d'établiss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- Demande d'analyse sur la composition des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- Aide à la mise en place d'un plan ali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- Accompagnement de projets sur l'alimentation, lutte contre l'obésité (Projet de Réussite Educative avec les municipalités), financement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- Participation aux commissions menus, C.E.S.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- Actualisation du dossier « fontaine à eau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11880" y="3406680"/>
            <a:ext cx="4662720" cy="9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latino Linotype"/>
              </a:rPr>
              <a:t>PERSPECTIVES</a:t>
            </a:r>
            <a:r>
              <a:rPr b="0" lang="en-US" sz="48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95280" y="360360"/>
            <a:ext cx="9324720" cy="81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isation des proj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 alimentation et activité physique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 les terri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ssociation plus étroite des équip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communauté éducative : santé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éducation physique, restau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lectiv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ur le bien-être des jeu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 des moins jeunes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020000" y="0"/>
            <a:ext cx="2879640" cy="72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600360"/>
            <a:ext cx="3421080" cy="900360"/>
          </a:xfrm>
          <a:prstGeom prst="roundRect">
            <a:avLst>
              <a:gd name="adj" fmla="val 1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0" y="2879640"/>
            <a:ext cx="10045800" cy="2160720"/>
          </a:xfrm>
          <a:prstGeom prst="roundRect">
            <a:avLst>
              <a:gd name="adj" fmla="val 6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340080"/>
            <a:ext cx="98996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Palatino Linotype"/>
              </a:rPr>
              <a:t>HISTORI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020000" y="0"/>
            <a:ext cx="2879640" cy="72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720720"/>
            <a:ext cx="1026000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Création du groupe technique en Septembre 2002 sur l'Académie de Lille sous l'impulsion du groupe de pilotage compos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- du Secrétaire Géné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- du Chargé de mission Resta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- des Conseillers Techniques médecins et infirm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 Linotype"/>
              </a:rPr>
              <a:t>dans le cadre du Programme National Nutrition Santé (P.N.N.S) et des priorités académi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9800" y="539640"/>
            <a:ext cx="990684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AMME NATIONAL NUTRITION S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001-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619280"/>
            <a:ext cx="9541080" cy="64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Le P.N.N.S. est une priorité  de Santé Publ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Palatino Linotype"/>
              </a:rPr>
              <a:t>OBJECTIF GENERAL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 : améliorer l'état de santé de la population frança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en agissant  sur le déterminant majeur que représente la nutr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Palatino Linotype"/>
              </a:rPr>
              <a:t>9 objectifs prioritai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Augmenter la consommation de fruits et légu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Augmenter la consommation de calc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Réduire les apports lipidiques tota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Augmenter la consommation des glucides complex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Réduire l'apport d'alco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Réduire de 5% la cholestérolém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Réduire la pression arterielle systol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Réduire la prévalence du surpoids et de l'obés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Palatino Linotype"/>
              </a:rPr>
              <a:t>- Augmenter l'activité phys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020000" y="0"/>
            <a:ext cx="2879640" cy="72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600360"/>
            <a:ext cx="3421080" cy="900360"/>
          </a:xfrm>
          <a:prstGeom prst="roundRect">
            <a:avLst>
              <a:gd name="adj" fmla="val 1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0" y="2879640"/>
            <a:ext cx="10045800" cy="2160720"/>
          </a:xfrm>
          <a:prstGeom prst="roundRect">
            <a:avLst>
              <a:gd name="adj" fmla="val 6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879640"/>
            <a:ext cx="9899640" cy="21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Palatino Linotype"/>
              </a:rPr>
              <a:t>UNE EQUIP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Palatino Linotype"/>
              </a:rPr>
              <a:t>PLURI-CATEGORIEL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900000"/>
            <a:ext cx="989964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6800" indent="-426960">
              <a:lnSpc>
                <a:spcPct val="112000"/>
              </a:lnSpc>
              <a:buClr>
                <a:srgbClr val="ff9966"/>
              </a:buClr>
              <a:buSzPct val="45000"/>
              <a:buFont typeface="StarSymbol"/>
              <a:buChar char="➲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Deux infirmières Education Nationa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42552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- </a:t>
            </a:r>
            <a:r>
              <a:rPr b="0" i="1" lang="en-US" sz="3200" spc="-1" strike="noStrike" u="sng">
                <a:solidFill>
                  <a:srgbClr val="e6e6e6"/>
                </a:solidFill>
                <a:uFillTx/>
                <a:latin typeface="Palatino Linotype"/>
                <a:ea typeface="Lucida Sans Unicode"/>
              </a:rPr>
              <a:t>Nord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 : 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	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	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	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 Anne-lise BI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42552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- </a:t>
            </a:r>
            <a:r>
              <a:rPr b="0" i="1" lang="en-US" sz="3200" spc="-1" strike="noStrike" u="sng">
                <a:solidFill>
                  <a:srgbClr val="e6e6e6"/>
                </a:solidFill>
                <a:uFillTx/>
                <a:latin typeface="Palatino Linotype"/>
                <a:ea typeface="Lucida Sans Unicode"/>
              </a:rPr>
              <a:t>Pas-de-calais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 : 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	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 Muriel DEH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800" indent="-42696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42552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96800" indent="-426960">
              <a:lnSpc>
                <a:spcPct val="112000"/>
              </a:lnSpc>
              <a:buClr>
                <a:srgbClr val="ff9966"/>
              </a:buClr>
              <a:buSzPct val="45000"/>
              <a:buFont typeface="StarSymbol"/>
              <a:buChar char="➲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Deux techniciens en restauration coll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42552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- </a:t>
            </a:r>
            <a:r>
              <a:rPr b="0" i="1" lang="en-US" sz="3200" spc="-1" strike="noStrike" u="sng">
                <a:solidFill>
                  <a:srgbClr val="e6e6e6"/>
                </a:solidFill>
                <a:uFillTx/>
                <a:latin typeface="Palatino Linotype"/>
                <a:ea typeface="Lucida Sans Unicode"/>
              </a:rPr>
              <a:t>Nord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 : 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	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	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	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  Jérôme MOR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42552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- </a:t>
            </a:r>
            <a:r>
              <a:rPr b="0" i="1" lang="en-US" sz="3200" spc="-1" strike="noStrike" u="sng">
                <a:solidFill>
                  <a:srgbClr val="e6e6e6"/>
                </a:solidFill>
                <a:uFillTx/>
                <a:latin typeface="Palatino Linotype"/>
                <a:ea typeface="Lucida Sans Unicode"/>
              </a:rPr>
              <a:t>Pas-de-Calais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  <a:ea typeface="Lucida Sans Unicode"/>
              </a:rPr>
              <a:t> : Dominique DELA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3160" indent="-42552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800" indent="-426960">
              <a:lnSpc>
                <a:spcPct val="112000"/>
              </a:lnSpc>
              <a:buClr>
                <a:srgbClr val="ff9966"/>
              </a:buClr>
              <a:buSzPct val="45000"/>
              <a:buFont typeface="StarSymbol"/>
              <a:buChar char="➲"/>
              <a:tabLst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Un médecin Education Nationa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800" indent="-42696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                                 </a:t>
            </a: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Annie REN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6800" indent="-426960">
              <a:lnSpc>
                <a:spcPct val="112000"/>
              </a:lnSpc>
              <a:tabLst>
                <a:tab algn="l" pos="0"/>
                <a:tab algn="l" pos="496800"/>
                <a:tab algn="l" pos="944640"/>
                <a:tab algn="l" pos="1393920"/>
                <a:tab algn="l" pos="1843200"/>
                <a:tab algn="l" pos="2292480"/>
                <a:tab algn="l" pos="2741760"/>
                <a:tab algn="l" pos="3191040"/>
                <a:tab algn="l" pos="3639960"/>
                <a:tab algn="l" pos="4089240"/>
                <a:tab algn="l" pos="4538520"/>
                <a:tab algn="l" pos="4987800"/>
                <a:tab algn="l" pos="5437080"/>
                <a:tab algn="l" pos="5886360"/>
                <a:tab algn="l" pos="6335640"/>
                <a:tab algn="l" pos="6784920"/>
                <a:tab algn="l" pos="7234200"/>
                <a:tab algn="l" pos="7683480"/>
                <a:tab algn="l" pos="8132760"/>
                <a:tab algn="l" pos="8582040"/>
                <a:tab algn="l" pos="9031320"/>
                <a:tab algn="l" pos="94806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600360"/>
            <a:ext cx="3421080" cy="900360"/>
          </a:xfrm>
          <a:prstGeom prst="roundRect">
            <a:avLst>
              <a:gd name="adj" fmla="val 1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103560"/>
            <a:ext cx="10080720" cy="1979640"/>
          </a:xfrm>
          <a:prstGeom prst="roundRect">
            <a:avLst>
              <a:gd name="adj" fmla="val 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3533760"/>
            <a:ext cx="98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Palatino Linotype"/>
              </a:rPr>
              <a:t>LES MISS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5580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9280" y="5580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959280" y="53964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39640" y="539640"/>
            <a:ext cx="2340000" cy="180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380360" y="5562720"/>
            <a:ext cx="2473200" cy="180000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539640"/>
            <a:ext cx="2340000" cy="180036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543640" y="3863880"/>
            <a:ext cx="252072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740720" y="378000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504036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34800" y="899640"/>
            <a:ext cx="9205920" cy="63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6800" indent="-426960">
              <a:lnSpc>
                <a:spcPct val="112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Accompagnement et valorisation des projets d'éducation nutritionnelle en milieu scolaire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112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112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112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Conseils et aides techniques sur la nutrition, et la restauration collective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112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e6e6e6"/>
              </a:solidFill>
              <a:latin typeface="Arial"/>
            </a:endParaRPr>
          </a:p>
          <a:p>
            <a:pPr marL="496800" indent="0">
              <a:lnSpc>
                <a:spcPct val="112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496800" indent="-426960">
              <a:lnSpc>
                <a:spcPct val="112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Palatino Linotype"/>
              </a:rPr>
              <a:t>Formation des personnels sur le thème de l'alimentation en application du Programme National Nutrition Santé(I et II) et des circulaires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600360"/>
            <a:ext cx="3421080" cy="900360"/>
          </a:xfrm>
          <a:prstGeom prst="roundRect">
            <a:avLst>
              <a:gd name="adj" fmla="val 1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03560"/>
            <a:ext cx="10080720" cy="1979640"/>
          </a:xfrm>
          <a:prstGeom prst="roundRect">
            <a:avLst>
              <a:gd name="adj" fmla="val 7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533760"/>
            <a:ext cx="98456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Palatino Linotype"/>
              </a:rPr>
              <a:t>LES TEXTES OFFICIE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39640" y="5580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9280" y="558000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59280" y="539640"/>
            <a:ext cx="234000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9640" y="539640"/>
            <a:ext cx="2340000" cy="1800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80360" y="5562720"/>
            <a:ext cx="2473200" cy="180000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80360" y="539640"/>
            <a:ext cx="2340000" cy="180036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BALAT THIERRY</cp:lastModifiedBy>
  <dcterms:modified xsi:type="dcterms:W3CDTF">2006-10-26T09:58:07Z</dcterms:modified>
  <cp:revision>1</cp:revision>
  <dc:subject/>
  <dc:title>GROUPE ACADEMIQUE  RESTAURATION  SANTE NUTRITION  G.A.R.S.A.N.</dc:title>
</cp:coreProperties>
</file>