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1DC-6CE3-4CE3-A68E-FC134BE9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012-C5CD-4DA0-A2DE-5879AC4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214-1E32-46E5-A76A-0BDEC936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EC2-1D46-409B-A413-ECD0F6E7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607-0CEE-4B5E-983C-411F186F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31C-C207-460E-AC58-D032083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A42-BAE7-4950-858B-A58614BB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89E-80E0-4493-968F-75B5B645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E0D-9AA6-4A4F-86AE-18360B14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D21-8DA9-42BA-A7CF-1035AF9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234-0DD6-4946-8FAA-71E2389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440-9398-4F63-8208-1686737C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FBD5-7CEF-40EF-B719-7ED5C7BC1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TS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Travaux Publ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554000"/>
            <a:ext cx="6400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r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’apprentiss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3520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600"/>
            <a:ext cx="86104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- L ’accompag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676520"/>
            <a:ext cx="8686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Il concourt à la réussite du contrat et à l ’atteinte des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Il constitue un ensemble d ’actions qui a pour but de suivre et d ’aider le bénéficiaire tout au long de son parcour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éalisé par l ’entreprise ou l ’organigramme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urée : il est au maximum de 5 à 10% du total des actions de profession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457200"/>
            <a:ext cx="845820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tu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Dans le cadre du contrat de professionnalisation, le choix d ’un tuteur par l ’employeur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ligatoi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ur les moins de 26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Le tuteur sera chargé d ’accueillir, aider, informer et guider le bénéficiaire et veiller au respect de son emploi du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2 ans d ’expérience minimum dans la qualification pré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Il ne pourra accompagner pas plus de 3 jeunes (contrat ou période de professionnalisation ou contrat d ’apprenti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796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3240"/>
            <a:ext cx="48560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072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150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572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0"/>
            <a:ext cx="81532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- L ’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990720"/>
            <a:ext cx="83059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s parcours de 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vent être précédés d ’une évaluation individu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entretien d ’évaluation a pour objectif de défini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enseignements généraux, professionnels et technologiques adaptés au profil du bénéfici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urée : au maximum 1,5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éalisée par l ’entreprise ou l ’organisme de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80880"/>
            <a:ext cx="84582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 rémunératio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alariés de moins de 26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ins de 21 ans : 65% du S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A 25 ANS : 80% du S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ulaires d ’un Bac Pro  ou  titre de niveau IV : +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emandeurs d ’emploi de 26 ans e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C sans être inférieure à 85% de 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unération minimale conven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 AUPRES DES ENTREP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75080" y="1557360"/>
            <a:ext cx="3754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84582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 délais à respe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our J : début du con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 + 5 : transmission à l ’AREF - BTP de 3 vo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 + 35 : transmission à la DDTEFP par l ’AREF de 2 vo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a DDTEFP a 30 jours pour notifier son re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 ’entreprise a 30 jours pour exercer un re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 ’entreprise a 30 jours pour informer l ’AREF, la DDTEFP et l ’URSSAF  d ’une rupture éven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57200"/>
            <a:ext cx="914400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 pièces à joind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3 volets CER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a ou les convention(s)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 calend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 CV du je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 document « attestation sur l ’honneur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746280"/>
            <a:ext cx="8785440" cy="5365440"/>
            <a:chOff x="179280" y="746280"/>
            <a:chExt cx="8785440" cy="53654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79280" y="746280"/>
              <a:ext cx="8785440" cy="53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87640" y="1989000"/>
              <a:ext cx="0" cy="38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24360" y="2060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2060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80360" y="1989000"/>
              <a:ext cx="0" cy="38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72360" y="1989000"/>
              <a:ext cx="0" cy="38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280" y="587700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494172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9280" y="422100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9280" y="350028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43200" y="128520"/>
            <a:ext cx="54576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677880"/>
            <a:ext cx="84963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4883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79930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0643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7:12:40Z</dcterms:created>
  <dc:creator>Chef de Travaux</dc:creator>
  <dc:description/>
  <dc:language>en-US</dc:language>
  <cp:lastModifiedBy>Unicornis</cp:lastModifiedBy>
  <dcterms:modified xsi:type="dcterms:W3CDTF">2007-12-09T07:31:16Z</dcterms:modified>
  <cp:revision>46</cp:revision>
  <dc:subject/>
  <dc:title>Bac pro maintenance</dc:title>
</cp:coreProperties>
</file>