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599-7D87-4829-9916-FBB0CE74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D69-407A-4F31-B803-D5F2A3DC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D1A-C6F7-4A04-B9F9-9712CE5E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51D-ACF4-472F-9CE9-C4796786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4E9-D0C2-4F87-962A-9C89577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2D3-3FE4-4BBD-A9DF-137EBC4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07F-1BAE-4F97-B695-D3B397DA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682-9D10-4658-8355-993FA941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29F-9F2E-4230-B8C7-70C31DB9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3AD-4F29-4B83-B56B-DC2DF9E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FFD-DED7-4677-8841-A7BBEE6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943-A1C3-401D-84E8-66C73E6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C25-5A78-4943-A80C-FBE18475B79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09880" y="4192560"/>
            <a:ext cx="565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ée de l’épreuve : 5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622680"/>
            <a:ext cx="3784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 :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31320" y="3161520"/>
            <a:ext cx="302544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832040"/>
            <a:ext cx="288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épreuve o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2520" y="21852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03160" y="177120"/>
            <a:ext cx="884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.P.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467080"/>
            <a:ext cx="5327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ériode d’étude = 4 sema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7040" y="3038400"/>
            <a:ext cx="4549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eur de pro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mpt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du d’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tivité e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lieu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fessionn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66280" y="602064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e : Conformément a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8200" y="291240"/>
            <a:ext cx="161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.R.A.M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47440" y="1431720"/>
            <a:ext cx="4119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L’entrepr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7800" y="1969920"/>
            <a:ext cx="4768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es d’activi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24040" y="3068640"/>
            <a:ext cx="464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endrier du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24040" y="3643200"/>
            <a:ext cx="475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érents chant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4746600"/>
            <a:ext cx="502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tre de remerci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5320" y="5307120"/>
            <a:ext cx="3063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24040" y="2565360"/>
            <a:ext cx="3784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agence d’accu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4187880"/>
            <a:ext cx="7026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vail demandé et le rôle du stagi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65640" y="291240"/>
            <a:ext cx="1474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810720" y="3291480"/>
            <a:ext cx="42289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1572" r="0" b="0"/>
          <a:stretch/>
        </p:blipFill>
        <p:spPr>
          <a:xfrm rot="21117000">
            <a:off x="1258560" y="1628280"/>
            <a:ext cx="462924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1648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07120" y="904320"/>
            <a:ext cx="48229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écrit sur 20 : par l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3240000" cy="220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81520" y="6233760"/>
            <a:ext cx="5609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oral sur 20 : par le mêm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2640" y="662040"/>
            <a:ext cx="647640" cy="165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637920" y="5586480"/>
            <a:ext cx="1296720" cy="1008000"/>
          </a:xfrm>
          <a:custGeom>
            <a:avLst/>
            <a:gdLst>
              <a:gd name="textAreaLeft" fmla="*/ 432360 w 1296720"/>
              <a:gd name="textAreaRight" fmla="*/ 1110600 w 129672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2520" y="23292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08200" y="191520"/>
            <a:ext cx="161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.R.A.M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338760" y="3587760"/>
            <a:ext cx="23767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09880" y="3492360"/>
            <a:ext cx="565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ée de l’épreuve : 3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2708280"/>
            <a:ext cx="3784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 :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320" y="3161520"/>
            <a:ext cx="302544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08200" y="305640"/>
            <a:ext cx="161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.R.A.M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1832040"/>
            <a:ext cx="288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épreuve o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uv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fessionnel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nthè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66280" y="602064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e : Conformément a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03160" y="291240"/>
            <a:ext cx="884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.P.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47440" y="1545840"/>
            <a:ext cx="4119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Des pièces écr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47800" y="2492280"/>
            <a:ext cx="4768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pièces graph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4040" y="5126040"/>
            <a:ext cx="507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Des questions individu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24040" y="3716280"/>
            <a:ext cx="4648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questions com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65640" y="291240"/>
            <a:ext cx="1474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810720" y="3291480"/>
            <a:ext cx="42289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Dossier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</a:t>
            </a:r>
            <a:r>
              <a:rPr b="1" lang="fr-FR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Travaux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11572" r="0" b="0"/>
          <a:stretch/>
        </p:blipFill>
        <p:spPr>
          <a:xfrm rot="21117000">
            <a:off x="1258560" y="1628280"/>
            <a:ext cx="4629240" cy="16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16480" cy="273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07120" y="904320"/>
            <a:ext cx="48229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écrit sur 40 : par l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324000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81520" y="6233760"/>
            <a:ext cx="5609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oral sur 40 : par le mêm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662040"/>
            <a:ext cx="647640" cy="165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37920" y="5586480"/>
            <a:ext cx="1296720" cy="1008000"/>
          </a:xfrm>
          <a:custGeom>
            <a:avLst/>
            <a:gdLst>
              <a:gd name="textAreaLeft" fmla="*/ 432360 w 1296720"/>
              <a:gd name="textAreaRight" fmla="*/ 1110600 w 129672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338760" y="3587760"/>
            <a:ext cx="23767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520" y="21852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3160" y="177120"/>
            <a:ext cx="884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.P.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6:33:26Z</dcterms:created>
  <dc:creator>OPONTOI</dc:creator>
  <dc:description/>
  <dc:language>en-US</dc:language>
  <cp:lastModifiedBy>Jean-Claude</cp:lastModifiedBy>
  <dcterms:modified xsi:type="dcterms:W3CDTF">2008-12-08T21:17:35Z</dcterms:modified>
  <cp:revision>80</cp:revision>
  <dc:subject/>
  <dc:title>RAPPORD DE STAGE 15/05 à 7/072006</dc:title>
</cp:coreProperties>
</file>