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992F-FA18-41AD-AE87-FF408218BD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3DD0-D4CD-471E-9D46-59E3B6011A5B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0004-5159-40D7-A002-1D92CF04A1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B135-A178-4633-B335-166B3E4BC7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235D-CFB9-4C72-B6A5-A12303BEB5B7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4CB7-0CB6-45AC-956C-8C74C1414227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049B-0F92-4F1F-ADB7-175D6F787F0F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3A4B-4DAC-40D8-8E00-98A728509DF7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3633-4182-4648-85B0-121756E5A44C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9039-F89D-491D-9369-F94DC52881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D1DE-4A3E-4B89-B392-1BC4A32579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A618-1614-49F6-85A5-02C48410FF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CD6C-578F-4711-A071-6934F01439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FAFC-8F6B-4969-ACCD-C8B825DB97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2183-BD05-421C-83AB-6C2BF8D1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D249-59CE-4728-9AA8-825556A0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F6D-692D-4D72-A54B-83702EC6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98A4-9896-4030-90ED-D5336ED2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89EE-49A7-49CC-8B63-E264F3C9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5477-B0B2-462C-A205-022F2D61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7263-7BB8-4C1B-81AE-FE9DE233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6AD2-53EE-4985-9B7E-0D0499CB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6E5F-9B6A-4AC3-BB52-DCDCB085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225E-DDCA-4875-AAD9-B90491CE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455E-5314-499F-AE15-7779C211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6EE-360A-4CAB-BD38-BBE54504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CF47-2CB8-4E85-86EF-80BC680F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AECC-7C36-4396-98FD-738425FA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72B9-092A-436E-88AC-AD92971D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946E-265A-4717-B97A-A759CDB9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86C1-82F4-4043-BE0C-C46A6279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98E5F3-D99A-4140-83F4-9A9E430E0A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37E6E3-34F6-46DE-9ED8-A8DB57E095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351AB4-3AA4-48DC-94BF-BA095E5D31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76DBA3-7E50-4AEB-B107-4C8BA1D1E8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FBF062-E5FD-4778-90C7-AE9CEC5464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48C6-1545-451A-8EFC-DB510CB8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C6BE46-281C-4632-B359-BCA7927ADE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B49164-53CE-4C75-A125-C2E8D7FE08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8CE015-3FC0-4EB7-9D59-2EF25348B7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ECE28B-4800-4010-81C1-416F385B9A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C447AF-14C4-4441-A4DF-B026197E45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45B655-2262-46CD-A1A7-4F5A86EEBC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7109F1-B4B7-4049-B617-4EEF22706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4128-0FC4-4D1A-9113-FA68F63A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BAF7-CAA9-4452-8982-491C4E2B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978A-B373-41CF-B536-E9E13C1A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7A36-F5B9-4CC7-A372-A45F0774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F4BB-F572-4486-9804-083F1E68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054B-54D3-494B-927C-8114C56E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4090-E9FD-4D40-ABC8-DCFBDC8E3364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8C05-D0A8-4A39-8C94-5D6CA826CE5F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6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7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7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7"/>
          </p:nvPr>
        </p:nvSpPr>
        <p:spPr>
          <a:xfrm>
            <a:off x="8013600" y="6381360"/>
            <a:ext cx="1130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C9AA-14B1-4830-9DA2-D9683DF213AF}" type="slidenum"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0" y="-27000"/>
            <a:ext cx="4643280" cy="3614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"/>
          <p:cNvPicPr/>
          <p:nvPr/>
        </p:nvPicPr>
        <p:blipFill>
          <a:blip r:embed="rId2"/>
          <a:stretch/>
        </p:blipFill>
        <p:spPr>
          <a:xfrm>
            <a:off x="4284720" y="3216240"/>
            <a:ext cx="4859280" cy="36417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923840"/>
            <a:ext cx="7772400" cy="193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Arial"/>
              </a:rPr>
              <a:t>Formation et Emploi dans le secteur des Travaux Public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ce réservé du numéro de diapositive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1A78-886C-4D44-B22C-122D85B71AA1}" type="slidenum">
              <a:rPr b="0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c3300"/>
                </a:solidFill>
                <a:uFillTx/>
                <a:latin typeface="Arial"/>
              </a:rPr>
              <a:t>B. PROSPECTIVES: EMPLOIS A POURVOIR ENTRE 2007 ET 2016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57120" y="1700280"/>
            <a:ext cx="8429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17554"/>
              <a:buBlip>
                <a:blip r:embed="rId1"/>
              </a:buBlip>
              <a:tabLst>
                <a:tab algn="r" pos="869796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3300"/>
                </a:solidFill>
                <a:uFillTx/>
                <a:latin typeface="Verdana"/>
              </a:rPr>
              <a:t>EMPLOIS « DIRECTS »</a:t>
            </a:r>
            <a:r>
              <a:rPr b="0" lang="fr-FR" sz="2800" spc="-1" strike="noStrike">
                <a:solidFill>
                  <a:srgbClr val="cc3300"/>
                </a:solidFill>
                <a:latin typeface="Verdana"/>
              </a:rPr>
              <a:t> : </a:t>
            </a:r>
            <a:r>
              <a:rPr b="0" lang="fr-FR" sz="2800" spc="-1" strike="noStrike">
                <a:solidFill>
                  <a:srgbClr val="cc33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cc3300"/>
                </a:solidFill>
                <a:latin typeface="Verdana"/>
              </a:rPr>
              <a:t>520 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r" pos="869796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cc3300"/>
                </a:solidFill>
                <a:latin typeface="Verdana"/>
              </a:rPr>
              <a:t>(créations + remplacements)</a:t>
            </a:r>
            <a:r>
              <a:rPr b="0" lang="fr-FR" sz="2800" spc="-1" strike="noStrike">
                <a:solidFill>
                  <a:srgbClr val="cc33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r" pos="869796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- Non qualif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40 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r" pos="869796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- Ouv. Qual., TP et Gr. Œu. Bat.     180 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r" pos="869796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- Ouvr. Qualif., Second Œuvre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120 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r" pos="869796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- Techniciens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90 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r" pos="869796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- Cadres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90 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2"/>
              </a:buBlip>
              <a:tabLst>
                <a:tab algn="r" pos="869796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3300"/>
                </a:solidFill>
                <a:uFillTx/>
                <a:latin typeface="Verdana"/>
              </a:rPr>
              <a:t>EMPLOIS « DIRECTEMENT INDUITS 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r" pos="869796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cc33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cc3300"/>
                </a:solidFill>
                <a:latin typeface="Verdana"/>
              </a:rPr>
              <a:t>120 à 150 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Espace réservé du numéro de diapositive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7409-9B63-42E2-AF71-190DDE159AF1}" type="slidenum">
              <a:rPr b="0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33"/>
                </a:solidFill>
                <a:latin typeface="Arial"/>
              </a:rPr>
              <a:t>3.CONCLUS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71680" y="1928880"/>
            <a:ext cx="8229600" cy="33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99"/>
              </a:buClr>
              <a:buFont typeface="Verdana"/>
              <a:buAutoNum type="alphaUcPeriod"/>
              <a:tabLst>
                <a:tab algn="r" pos="260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3300"/>
                </a:solidFill>
                <a:latin typeface="Verdana"/>
              </a:rPr>
              <a:t>LE « STOCK » 200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r" pos="260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fr-FR" sz="2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1 610 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r" pos="260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-    700 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r" pos="260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70"/>
                </a:solidFill>
                <a:latin typeface="Verdana"/>
              </a:rPr>
              <a:t>B. </a:t>
            </a:r>
            <a:r>
              <a:rPr b="1" lang="fr-FR" sz="2800" spc="-1" strike="noStrike">
                <a:solidFill>
                  <a:srgbClr val="cc3300"/>
                </a:solidFill>
                <a:latin typeface="Verdana"/>
              </a:rPr>
              <a:t>LE FLUX D’EMBAUCHES SUR 10 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r" pos="260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fr-FR" sz="28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47 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r" pos="260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-      16 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4838760" y="2637000"/>
            <a:ext cx="26906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Verdana"/>
              </a:rPr>
              <a:t>2 310 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AutoShape 5"/>
          <p:cNvSpPr/>
          <p:nvPr/>
        </p:nvSpPr>
        <p:spPr>
          <a:xfrm>
            <a:off x="3619440" y="2484360"/>
            <a:ext cx="144360" cy="1006560"/>
          </a:xfrm>
          <a:custGeom>
            <a:avLst/>
            <a:gdLst>
              <a:gd name="textAreaLeft" fmla="*/ 0 w 144360"/>
              <a:gd name="textAreaRight" fmla="*/ 52200 w 144360"/>
              <a:gd name="textAreaTop" fmla="*/ 25920 h 1006560"/>
              <a:gd name="textAreaBottom" fmla="*/ 98064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5219640" y="4237200"/>
            <a:ext cx="18097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Verdana"/>
              </a:rPr>
              <a:t>63 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AutoShape 8"/>
          <p:cNvSpPr/>
          <p:nvPr/>
        </p:nvSpPr>
        <p:spPr>
          <a:xfrm>
            <a:off x="3619440" y="3998880"/>
            <a:ext cx="144360" cy="1006560"/>
          </a:xfrm>
          <a:custGeom>
            <a:avLst/>
            <a:gdLst>
              <a:gd name="textAreaLeft" fmla="*/ 0 w 144360"/>
              <a:gd name="textAreaRight" fmla="*/ 52200 w 144360"/>
              <a:gd name="textAreaTop" fmla="*/ 25920 h 1006560"/>
              <a:gd name="textAreaBottom" fmla="*/ 98064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Espace réservé du numéro de diapositive 4"/>
          <p:cNvSpPr/>
          <p:nvPr/>
        </p:nvSpPr>
        <p:spPr>
          <a:xfrm>
            <a:off x="8013600" y="6381720"/>
            <a:ext cx="1130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1D8E-4B41-411E-9627-CCFCAAC136FD}" type="slidenum">
              <a:rPr b="0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4400" spc="-1" strike="noStrike">
                <a:solidFill>
                  <a:srgbClr val="ffff99"/>
                </a:solidFill>
                <a:latin typeface="Arial"/>
              </a:rPr>
              <a:t>L’emploi aujourd’hui dans les TP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9600" indent="-309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250 000 salariés dans les entreprises de travaux public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9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73200" indent="-258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Verdana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Verdana"/>
              </a:rPr>
              <a:t>165 600 ouvriers (66,3%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73200" indent="-258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Verdana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ff6600"/>
                </a:solidFill>
                <a:latin typeface="Verdana"/>
              </a:rPr>
              <a:t>56 400 ETAM (22,8%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73200" indent="-258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Verdana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ff6600"/>
                </a:solidFill>
                <a:latin typeface="Verdana"/>
              </a:rPr>
              <a:t>28 000 Cadres (10,9%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73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9600" indent="-309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28 894 nouveaux entrants en 200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9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73200" indent="-258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Verdana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Verdana"/>
              </a:rPr>
              <a:t>Moins de 27 ans : 10 53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73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400" spc="-1" strike="noStrike">
                <a:solidFill>
                  <a:srgbClr val="cc66ff"/>
                </a:solidFill>
                <a:latin typeface="Verdana"/>
              </a:rPr>
              <a:t>7 223 ouvriers, 2 573 ETAM, 739 cad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73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73200" indent="-258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Verdana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Verdana"/>
              </a:rPr>
              <a:t>27 ans et plus : 18 35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73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400" spc="-1" strike="noStrike">
                <a:solidFill>
                  <a:srgbClr val="cc66ff"/>
                </a:solidFill>
                <a:latin typeface="Verdana"/>
              </a:rPr>
              <a:t>12 349 ouvriers, 3 807 ETAM,  2 203 cad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9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9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3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09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Object 2"/>
          <p:cNvGraphicFramePr/>
          <p:nvPr/>
        </p:nvGraphicFramePr>
        <p:xfrm>
          <a:off x="0" y="1214280"/>
          <a:ext cx="9144000" cy="56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4280"/>
                    <a:ext cx="9144000" cy="56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Rectangle 7"/>
          <p:cNvSpPr/>
          <p:nvPr/>
        </p:nvSpPr>
        <p:spPr>
          <a:xfrm>
            <a:off x="0" y="42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Structure de l’emploi par tranche d’effectif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8538120" y="6581880"/>
            <a:ext cx="7995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88D4-1582-444C-8245-552D1F99905F}" type="slidenum">
              <a:rPr b="0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Espace réservé du numéro de diapositive 4"/>
          <p:cNvSpPr/>
          <p:nvPr/>
        </p:nvSpPr>
        <p:spPr>
          <a:xfrm>
            <a:off x="8013600" y="6381720"/>
            <a:ext cx="1130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89AA-9635-47DC-9063-2FF1B64102FC}" type="slidenum">
              <a:rPr b="0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fr-FR" sz="4400" spc="-1" strike="noStrike">
                <a:solidFill>
                  <a:srgbClr val="ffff99"/>
                </a:solidFill>
                <a:latin typeface="Arial"/>
              </a:rPr>
              <a:t>L’emploi aujourd’hui dans les TP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192852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194760" indent="-19476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Recrutement prévu au cours des 10 prochaines années 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94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19476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3300" spc="-1" strike="noStrike">
                <a:solidFill>
                  <a:srgbClr val="ff6600"/>
                </a:solidFill>
                <a:latin typeface="Verdana"/>
              </a:rPr>
              <a:t>100 000 jeunes 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1" marL="424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194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194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194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194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Object 3998"/>
          <p:cNvGraphicFramePr/>
          <p:nvPr/>
        </p:nvGraphicFramePr>
        <p:xfrm>
          <a:off x="0" y="0"/>
          <a:ext cx="917568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Object 39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75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55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99"/>
                </a:solidFill>
                <a:latin typeface="Arial"/>
              </a:rPr>
              <a:t>Travaux publics : canalisations, routes, ouvrages d’art, conduite d’engins</a:t>
            </a:r>
            <a:r>
              <a:rPr b="0" lang="fr-FR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51" name="Group 54"/>
          <p:cNvGrpSpPr/>
          <p:nvPr/>
        </p:nvGrpSpPr>
        <p:grpSpPr>
          <a:xfrm>
            <a:off x="539640" y="4653000"/>
            <a:ext cx="8064720" cy="1562040"/>
            <a:chOff x="539640" y="4653000"/>
            <a:chExt cx="8064720" cy="1562040"/>
          </a:xfrm>
        </p:grpSpPr>
        <p:sp>
          <p:nvSpPr>
            <p:cNvPr id="252" name="Rectangle 27"/>
            <p:cNvSpPr/>
            <p:nvPr/>
          </p:nvSpPr>
          <p:spPr>
            <a:xfrm>
              <a:off x="4572000" y="5008680"/>
              <a:ext cx="4032360" cy="120636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Constructeur béton armé bâtiment)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Constructeur de routes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Constructeur en canalisations des TP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Constructeur en ouvrages d’art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Conduite d’engins de travaux publics</a:t>
              </a:r>
              <a:r>
                <a:rPr b="0" lang="fr-FR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Construction et entretien lignes caténaires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" name="Text Box 28"/>
            <p:cNvSpPr/>
            <p:nvPr/>
          </p:nvSpPr>
          <p:spPr>
            <a:xfrm>
              <a:off x="4565520" y="4653000"/>
              <a:ext cx="4038840" cy="28584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AP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Rectangle 26"/>
            <p:cNvSpPr/>
            <p:nvPr/>
          </p:nvSpPr>
          <p:spPr>
            <a:xfrm>
              <a:off x="1835280" y="5013360"/>
              <a:ext cx="2305080" cy="8650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Travaux publics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Text Box 29"/>
            <p:cNvSpPr/>
            <p:nvPr/>
          </p:nvSpPr>
          <p:spPr>
            <a:xfrm>
              <a:off x="1835280" y="4653000"/>
              <a:ext cx="2305080" cy="2887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BEP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Rectangle 25"/>
            <p:cNvSpPr/>
            <p:nvPr/>
          </p:nvSpPr>
          <p:spPr>
            <a:xfrm>
              <a:off x="539640" y="5013360"/>
              <a:ext cx="1175040" cy="86364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Générale et Technologique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" name="Text Box 30"/>
            <p:cNvSpPr/>
            <p:nvPr/>
          </p:nvSpPr>
          <p:spPr>
            <a:xfrm>
              <a:off x="539640" y="4653000"/>
              <a:ext cx="1175040" cy="2887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Seconde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8" name="Group 51"/>
          <p:cNvGrpSpPr/>
          <p:nvPr/>
        </p:nvGrpSpPr>
        <p:grpSpPr>
          <a:xfrm>
            <a:off x="539640" y="2852640"/>
            <a:ext cx="7632720" cy="1800360"/>
            <a:chOff x="539640" y="2852640"/>
            <a:chExt cx="7632720" cy="1800360"/>
          </a:xfrm>
        </p:grpSpPr>
        <p:grpSp>
          <p:nvGrpSpPr>
            <p:cNvPr id="259" name="Group 44"/>
            <p:cNvGrpSpPr/>
            <p:nvPr/>
          </p:nvGrpSpPr>
          <p:grpSpPr>
            <a:xfrm>
              <a:off x="539640" y="2852640"/>
              <a:ext cx="2737080" cy="1800000"/>
              <a:chOff x="539640" y="2852640"/>
              <a:chExt cx="2737080" cy="1800000"/>
            </a:xfrm>
          </p:grpSpPr>
          <p:sp>
            <p:nvSpPr>
              <p:cNvPr id="260" name="Line 7"/>
              <p:cNvSpPr/>
              <p:nvPr/>
            </p:nvSpPr>
            <p:spPr>
              <a:xfrm flipV="1">
                <a:off x="1042920" y="3789000"/>
                <a:ext cx="0" cy="863640"/>
              </a:xfrm>
              <a:prstGeom prst="line">
                <a:avLst/>
              </a:prstGeom>
              <a:ln w="7632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1" name="Line 8"/>
              <p:cNvSpPr/>
              <p:nvPr/>
            </p:nvSpPr>
            <p:spPr>
              <a:xfrm flipV="1">
                <a:off x="2484360" y="3789000"/>
                <a:ext cx="0" cy="86364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2" name="Rectangle 16"/>
              <p:cNvSpPr/>
              <p:nvPr/>
            </p:nvSpPr>
            <p:spPr>
              <a:xfrm>
                <a:off x="539640" y="3357720"/>
                <a:ext cx="1025640" cy="428400"/>
              </a:xfrm>
              <a:prstGeom prst="rect">
                <a:avLst/>
              </a:prstGeom>
              <a:solidFill>
                <a:srgbClr val="ffcc99">
                  <a:alpha val="50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Génie Civil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Scientifique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3" name="Rectangle 17"/>
              <p:cNvSpPr/>
              <p:nvPr/>
            </p:nvSpPr>
            <p:spPr>
              <a:xfrm>
                <a:off x="1679400" y="3357720"/>
                <a:ext cx="1597320" cy="428400"/>
              </a:xfrm>
              <a:prstGeom prst="rect">
                <a:avLst/>
              </a:prstGeom>
              <a:solidFill>
                <a:srgbClr val="ffcc99">
                  <a:alpha val="50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Première d’adaptation.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Génie Civil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4" name="Text Box 19"/>
              <p:cNvSpPr/>
              <p:nvPr/>
            </p:nvSpPr>
            <p:spPr>
              <a:xfrm>
                <a:off x="542880" y="2852640"/>
                <a:ext cx="2733840" cy="43344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ffffff"/>
                    </a:solidFill>
                    <a:latin typeface="Arial"/>
                  </a:rPr>
                  <a:t>Baccalauréat général et Technologique</a:t>
                </a: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65" name="Group 43"/>
            <p:cNvGrpSpPr/>
            <p:nvPr/>
          </p:nvGrpSpPr>
          <p:grpSpPr>
            <a:xfrm>
              <a:off x="3436920" y="2852640"/>
              <a:ext cx="4735440" cy="1800360"/>
              <a:chOff x="3436920" y="2852640"/>
              <a:chExt cx="4735440" cy="1800360"/>
            </a:xfrm>
          </p:grpSpPr>
          <p:sp>
            <p:nvSpPr>
              <p:cNvPr id="266" name="Line 9"/>
              <p:cNvSpPr/>
              <p:nvPr/>
            </p:nvSpPr>
            <p:spPr>
              <a:xfrm flipV="1">
                <a:off x="3643200" y="3786120"/>
                <a:ext cx="0" cy="866880"/>
              </a:xfrm>
              <a:prstGeom prst="line">
                <a:avLst/>
              </a:prstGeom>
              <a:ln w="7632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7" name="Rectangle 15"/>
              <p:cNvSpPr/>
              <p:nvPr/>
            </p:nvSpPr>
            <p:spPr>
              <a:xfrm>
                <a:off x="3446640" y="3357720"/>
                <a:ext cx="2205000" cy="4284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Travaux publics 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8" name="Text Box 18"/>
              <p:cNvSpPr/>
              <p:nvPr/>
            </p:nvSpPr>
            <p:spPr>
              <a:xfrm>
                <a:off x="3436920" y="2852640"/>
                <a:ext cx="2219400" cy="43344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Baccalauréat Professionnel</a:t>
                </a: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2 ans</a:t>
                </a: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9" name="Rectangle 20"/>
              <p:cNvSpPr/>
              <p:nvPr/>
            </p:nvSpPr>
            <p:spPr>
              <a:xfrm>
                <a:off x="5796000" y="3357720"/>
                <a:ext cx="2376360" cy="428400"/>
              </a:xfrm>
              <a:prstGeom prst="rec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Conducteur engins TP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0" name="Text Box 21"/>
              <p:cNvSpPr/>
              <p:nvPr/>
            </p:nvSpPr>
            <p:spPr>
              <a:xfrm>
                <a:off x="5796000" y="2852640"/>
                <a:ext cx="2376360" cy="43344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ffffff"/>
                    </a:solidFill>
                    <a:latin typeface="Arial"/>
                  </a:rPr>
                  <a:t>Brevet Professionnel</a:t>
                </a: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1" name="Line 23"/>
              <p:cNvSpPr/>
              <p:nvPr/>
            </p:nvSpPr>
            <p:spPr>
              <a:xfrm flipV="1">
                <a:off x="7334280" y="3786120"/>
                <a:ext cx="0" cy="8668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2" name="Line 31"/>
              <p:cNvSpPr/>
              <p:nvPr/>
            </p:nvSpPr>
            <p:spPr>
              <a:xfrm flipV="1">
                <a:off x="5102280" y="3786120"/>
                <a:ext cx="0" cy="8668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273" name="Group 56"/>
          <p:cNvGrpSpPr/>
          <p:nvPr/>
        </p:nvGrpSpPr>
        <p:grpSpPr>
          <a:xfrm>
            <a:off x="539640" y="1557360"/>
            <a:ext cx="3456000" cy="1295280"/>
            <a:chOff x="539640" y="1557360"/>
            <a:chExt cx="3456000" cy="1295280"/>
          </a:xfrm>
        </p:grpSpPr>
        <p:sp>
          <p:nvSpPr>
            <p:cNvPr id="274" name="Text Box 5"/>
            <p:cNvSpPr/>
            <p:nvPr/>
          </p:nvSpPr>
          <p:spPr>
            <a:xfrm>
              <a:off x="539640" y="1557360"/>
              <a:ext cx="3456000" cy="2998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Brevet de Technicien Supérieur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5" name="Rectangle 4"/>
            <p:cNvSpPr/>
            <p:nvPr/>
          </p:nvSpPr>
          <p:spPr>
            <a:xfrm>
              <a:off x="539640" y="1916280"/>
              <a:ext cx="3456000" cy="44100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r>
                <a:rPr b="1" lang="fr-FR" sz="1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Travaux publics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r>
                <a:rPr b="1" lang="fr-FR" sz="1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Géologie appliquée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" name="Line 11"/>
            <p:cNvSpPr/>
            <p:nvPr/>
          </p:nvSpPr>
          <p:spPr>
            <a:xfrm flipV="1">
              <a:off x="1692360" y="2357280"/>
              <a:ext cx="0" cy="49536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" name="Line 24"/>
            <p:cNvSpPr/>
            <p:nvPr/>
          </p:nvSpPr>
          <p:spPr>
            <a:xfrm flipV="1">
              <a:off x="3635280" y="2357280"/>
              <a:ext cx="0" cy="495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8" name="Group 57"/>
          <p:cNvGrpSpPr/>
          <p:nvPr/>
        </p:nvGrpSpPr>
        <p:grpSpPr>
          <a:xfrm>
            <a:off x="573120" y="907920"/>
            <a:ext cx="7959600" cy="3745080"/>
            <a:chOff x="573120" y="907920"/>
            <a:chExt cx="7959600" cy="3745080"/>
          </a:xfrm>
        </p:grpSpPr>
        <p:sp>
          <p:nvSpPr>
            <p:cNvPr id="279" name="Text Box 13"/>
            <p:cNvSpPr/>
            <p:nvPr/>
          </p:nvSpPr>
          <p:spPr>
            <a:xfrm>
              <a:off x="573120" y="907920"/>
              <a:ext cx="1766880" cy="3603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Poursuite d’études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" name="Line 14"/>
            <p:cNvSpPr/>
            <p:nvPr/>
          </p:nvSpPr>
          <p:spPr>
            <a:xfrm flipV="1">
              <a:off x="1403280" y="1267920"/>
              <a:ext cx="1800" cy="2876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1" name="Line 12"/>
            <p:cNvSpPr/>
            <p:nvPr/>
          </p:nvSpPr>
          <p:spPr>
            <a:xfrm flipV="1">
              <a:off x="3132000" y="1267920"/>
              <a:ext cx="0" cy="28764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82" name="Group 48"/>
            <p:cNvGrpSpPr/>
            <p:nvPr/>
          </p:nvGrpSpPr>
          <p:grpSpPr>
            <a:xfrm>
              <a:off x="2514600" y="907920"/>
              <a:ext cx="6018120" cy="3745080"/>
              <a:chOff x="2514600" y="907920"/>
              <a:chExt cx="6018120" cy="3745080"/>
            </a:xfrm>
          </p:grpSpPr>
          <p:sp>
            <p:nvSpPr>
              <p:cNvPr id="283" name="Text Box 6"/>
              <p:cNvSpPr/>
              <p:nvPr/>
            </p:nvSpPr>
            <p:spPr>
              <a:xfrm>
                <a:off x="2514600" y="907920"/>
                <a:ext cx="6018120" cy="36036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ffffff"/>
                    </a:solidFill>
                    <a:latin typeface="Arial"/>
                  </a:rPr>
                  <a:t>Emploi</a:t>
                </a: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4" name="Line 10"/>
              <p:cNvSpPr/>
              <p:nvPr/>
            </p:nvSpPr>
            <p:spPr>
              <a:xfrm flipV="1">
                <a:off x="8317080" y="1268280"/>
                <a:ext cx="0" cy="3384720"/>
              </a:xfrm>
              <a:prstGeom prst="line">
                <a:avLst/>
              </a:prstGeom>
              <a:ln w="7632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5" name="Line 22"/>
              <p:cNvSpPr/>
              <p:nvPr/>
            </p:nvSpPr>
            <p:spPr>
              <a:xfrm flipV="1">
                <a:off x="6588000" y="1267920"/>
                <a:ext cx="0" cy="1584360"/>
              </a:xfrm>
              <a:prstGeom prst="line">
                <a:avLst/>
              </a:prstGeom>
              <a:ln w="7632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6" name="Line 32"/>
              <p:cNvSpPr/>
              <p:nvPr/>
            </p:nvSpPr>
            <p:spPr>
              <a:xfrm flipV="1">
                <a:off x="4788000" y="1267920"/>
                <a:ext cx="0" cy="1584360"/>
              </a:xfrm>
              <a:prstGeom prst="line">
                <a:avLst/>
              </a:prstGeom>
              <a:ln w="7632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287" name="Groupe 41"/>
          <p:cNvGrpSpPr/>
          <p:nvPr/>
        </p:nvGrpSpPr>
        <p:grpSpPr>
          <a:xfrm>
            <a:off x="1071720" y="5857920"/>
            <a:ext cx="3500280" cy="642960"/>
            <a:chOff x="1071720" y="5857920"/>
            <a:chExt cx="3500280" cy="642960"/>
          </a:xfrm>
        </p:grpSpPr>
        <p:sp>
          <p:nvSpPr>
            <p:cNvPr id="288" name="Line 11"/>
            <p:cNvSpPr/>
            <p:nvPr/>
          </p:nvSpPr>
          <p:spPr>
            <a:xfrm flipV="1">
              <a:off x="1071720" y="5857920"/>
              <a:ext cx="0" cy="64296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" name="Line 11"/>
            <p:cNvSpPr/>
            <p:nvPr/>
          </p:nvSpPr>
          <p:spPr>
            <a:xfrm flipV="1">
              <a:off x="2786040" y="5857920"/>
              <a:ext cx="0" cy="64296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3929040" y="6098040"/>
              <a:ext cx="64296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 spd="med"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99"/>
                </a:solidFill>
                <a:latin typeface="Arial"/>
              </a:rPr>
              <a:t>Travaux publics : canalisations, routes, ouvrages d’art, conduite d’engins</a:t>
            </a:r>
            <a:r>
              <a:rPr b="0" lang="fr-FR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539640" y="1557360"/>
            <a:ext cx="3456000" cy="1303200"/>
            <a:chOff x="539640" y="1557360"/>
            <a:chExt cx="3456000" cy="1303200"/>
          </a:xfrm>
        </p:grpSpPr>
        <p:sp>
          <p:nvSpPr>
            <p:cNvPr id="293" name="Text Box 5"/>
            <p:cNvSpPr/>
            <p:nvPr/>
          </p:nvSpPr>
          <p:spPr>
            <a:xfrm>
              <a:off x="539640" y="1557360"/>
              <a:ext cx="3456000" cy="2998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Brevet de Technicien Supérieur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4" name="Rectangle 4"/>
            <p:cNvSpPr/>
            <p:nvPr/>
          </p:nvSpPr>
          <p:spPr>
            <a:xfrm>
              <a:off x="539640" y="1916280"/>
              <a:ext cx="3456000" cy="36972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fr-FR" sz="1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Travaux publics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             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fr-FR" sz="1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Géologie appliquée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Line 11"/>
            <p:cNvSpPr/>
            <p:nvPr/>
          </p:nvSpPr>
          <p:spPr>
            <a:xfrm flipV="1">
              <a:off x="1857240" y="2286000"/>
              <a:ext cx="0" cy="57456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" name="Line 24"/>
            <p:cNvSpPr/>
            <p:nvPr/>
          </p:nvSpPr>
          <p:spPr>
            <a:xfrm flipV="1">
              <a:off x="3635280" y="2286000"/>
              <a:ext cx="0" cy="5666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7" name="Group 57"/>
          <p:cNvGrpSpPr/>
          <p:nvPr/>
        </p:nvGrpSpPr>
        <p:grpSpPr>
          <a:xfrm>
            <a:off x="573120" y="907920"/>
            <a:ext cx="7959600" cy="3745080"/>
            <a:chOff x="573120" y="907920"/>
            <a:chExt cx="7959600" cy="3745080"/>
          </a:xfrm>
        </p:grpSpPr>
        <p:sp>
          <p:nvSpPr>
            <p:cNvPr id="298" name="Text Box 13"/>
            <p:cNvSpPr/>
            <p:nvPr/>
          </p:nvSpPr>
          <p:spPr>
            <a:xfrm>
              <a:off x="573120" y="907920"/>
              <a:ext cx="1766880" cy="3603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Poursuite d’études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" name="Line 14"/>
            <p:cNvSpPr/>
            <p:nvPr/>
          </p:nvSpPr>
          <p:spPr>
            <a:xfrm flipV="1">
              <a:off x="1403280" y="1267920"/>
              <a:ext cx="1800" cy="2876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0" name="Line 12"/>
            <p:cNvSpPr/>
            <p:nvPr/>
          </p:nvSpPr>
          <p:spPr>
            <a:xfrm flipV="1">
              <a:off x="3132000" y="1267920"/>
              <a:ext cx="0" cy="28764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01" name="Group 48"/>
            <p:cNvGrpSpPr/>
            <p:nvPr/>
          </p:nvGrpSpPr>
          <p:grpSpPr>
            <a:xfrm>
              <a:off x="2514600" y="907920"/>
              <a:ext cx="6018120" cy="3745080"/>
              <a:chOff x="2514600" y="907920"/>
              <a:chExt cx="6018120" cy="3745080"/>
            </a:xfrm>
          </p:grpSpPr>
          <p:sp>
            <p:nvSpPr>
              <p:cNvPr id="302" name="Text Box 6"/>
              <p:cNvSpPr/>
              <p:nvPr/>
            </p:nvSpPr>
            <p:spPr>
              <a:xfrm>
                <a:off x="2514600" y="907920"/>
                <a:ext cx="6018120" cy="36036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ffffff"/>
                    </a:solidFill>
                    <a:latin typeface="Arial"/>
                  </a:rPr>
                  <a:t>Emploi</a:t>
                </a: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3" name="Line 10"/>
              <p:cNvSpPr/>
              <p:nvPr/>
            </p:nvSpPr>
            <p:spPr>
              <a:xfrm flipV="1">
                <a:off x="8317080" y="1268280"/>
                <a:ext cx="0" cy="3384720"/>
              </a:xfrm>
              <a:prstGeom prst="line">
                <a:avLst/>
              </a:prstGeom>
              <a:ln w="7632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4" name="Line 22"/>
              <p:cNvSpPr/>
              <p:nvPr/>
            </p:nvSpPr>
            <p:spPr>
              <a:xfrm flipV="1">
                <a:off x="6588000" y="1267920"/>
                <a:ext cx="0" cy="1584360"/>
              </a:xfrm>
              <a:prstGeom prst="line">
                <a:avLst/>
              </a:prstGeom>
              <a:ln w="7632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5" name="Line 32"/>
              <p:cNvSpPr/>
              <p:nvPr/>
            </p:nvSpPr>
            <p:spPr>
              <a:xfrm flipV="1">
                <a:off x="4788000" y="1267920"/>
                <a:ext cx="0" cy="1584360"/>
              </a:xfrm>
              <a:prstGeom prst="line">
                <a:avLst/>
              </a:prstGeom>
              <a:ln w="76320">
                <a:solidFill>
                  <a:srgbClr val="9696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306" name="Groupe 32"/>
          <p:cNvGrpSpPr/>
          <p:nvPr/>
        </p:nvGrpSpPr>
        <p:grpSpPr>
          <a:xfrm>
            <a:off x="571680" y="2852640"/>
            <a:ext cx="7600680" cy="1800000"/>
            <a:chOff x="571680" y="2852640"/>
            <a:chExt cx="7600680" cy="1800000"/>
          </a:xfrm>
        </p:grpSpPr>
        <p:grpSp>
          <p:nvGrpSpPr>
            <p:cNvPr id="307" name="Group 51"/>
            <p:cNvGrpSpPr/>
            <p:nvPr/>
          </p:nvGrpSpPr>
          <p:grpSpPr>
            <a:xfrm>
              <a:off x="571680" y="2852640"/>
              <a:ext cx="7600680" cy="1800000"/>
              <a:chOff x="571680" y="2852640"/>
              <a:chExt cx="7600680" cy="1800000"/>
            </a:xfrm>
          </p:grpSpPr>
          <p:sp>
            <p:nvSpPr>
              <p:cNvPr id="308" name="Text Box 19"/>
              <p:cNvSpPr/>
              <p:nvPr/>
            </p:nvSpPr>
            <p:spPr>
              <a:xfrm>
                <a:off x="571680" y="2852640"/>
                <a:ext cx="2714400" cy="43344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ffffff"/>
                    </a:solidFill>
                    <a:latin typeface="Arial"/>
                  </a:rPr>
                  <a:t>Baccalauréat  général et Technologique</a:t>
                </a: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09" name="Group 43"/>
              <p:cNvGrpSpPr/>
              <p:nvPr/>
            </p:nvGrpSpPr>
            <p:grpSpPr>
              <a:xfrm>
                <a:off x="3429000" y="2852640"/>
                <a:ext cx="4743360" cy="1800000"/>
                <a:chOff x="3429000" y="2852640"/>
                <a:chExt cx="4743360" cy="1800000"/>
              </a:xfrm>
            </p:grpSpPr>
            <p:sp>
              <p:nvSpPr>
                <p:cNvPr id="310" name="Rectangle 15"/>
                <p:cNvSpPr/>
                <p:nvPr/>
              </p:nvSpPr>
              <p:spPr>
                <a:xfrm>
                  <a:off x="3429000" y="3357720"/>
                  <a:ext cx="2214720" cy="214200"/>
                </a:xfrm>
                <a:prstGeom prst="rect">
                  <a:avLst/>
                </a:prstGeom>
                <a:solidFill>
                  <a:srgbClr val="ccffcc">
                    <a:alpha val="50000"/>
                  </a:srgbClr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ffffff"/>
                      </a:solidFill>
                      <a:latin typeface="Wingdings"/>
                      <a:ea typeface="Wingdings"/>
                    </a:rPr>
                    <a:t></a:t>
                  </a:r>
                  <a:r>
                    <a:rPr b="1" lang="fr-FR" sz="1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fr-FR" sz="1000" spc="-1" strike="noStrike">
                      <a:solidFill>
                        <a:srgbClr val="ffffff"/>
                      </a:solidFill>
                      <a:latin typeface="Arial"/>
                    </a:rPr>
                    <a:t>Travaux publics</a:t>
                  </a:r>
                  <a:endParaRPr b="0" lang="en-US" sz="1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11" name="Text Box 18"/>
                <p:cNvSpPr/>
                <p:nvPr/>
              </p:nvSpPr>
              <p:spPr>
                <a:xfrm>
                  <a:off x="3436920" y="2852640"/>
                  <a:ext cx="2219400" cy="433440"/>
                </a:xfrm>
                <a:prstGeom prst="rect">
                  <a:avLst/>
                </a:prstGeom>
                <a:noFill/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</a:rPr>
                    <a:t>Baccalauréat Professionnel</a:t>
                  </a: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</a:rPr>
                    <a:t>3 ans </a:t>
                  </a: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12" name="Rectangle 20"/>
                <p:cNvSpPr/>
                <p:nvPr/>
              </p:nvSpPr>
              <p:spPr>
                <a:xfrm>
                  <a:off x="5786280" y="3357720"/>
                  <a:ext cx="2376720" cy="214200"/>
                </a:xfrm>
                <a:prstGeom prst="rect">
                  <a:avLst/>
                </a:prstGeom>
                <a:solidFill>
                  <a:srgbClr val="99ccff">
                    <a:alpha val="50000"/>
                  </a:srgbClr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ffffff"/>
                      </a:solidFill>
                      <a:latin typeface="Wingdings"/>
                      <a:ea typeface="Wingdings"/>
                    </a:rPr>
                    <a:t></a:t>
                  </a:r>
                  <a:r>
                    <a:rPr b="1" lang="fr-FR" sz="1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fr-FR" sz="1000" spc="-1" strike="noStrike">
                      <a:solidFill>
                        <a:srgbClr val="ffffff"/>
                      </a:solidFill>
                      <a:latin typeface="Arial"/>
                    </a:rPr>
                    <a:t>Conducteur engins</a:t>
                  </a:r>
                  <a:endParaRPr b="0" lang="en-US" sz="1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13" name="Text Box 21"/>
                <p:cNvSpPr/>
                <p:nvPr/>
              </p:nvSpPr>
              <p:spPr>
                <a:xfrm>
                  <a:off x="5796000" y="2852640"/>
                  <a:ext cx="2376360" cy="433440"/>
                </a:xfrm>
                <a:prstGeom prst="rect">
                  <a:avLst/>
                </a:prstGeom>
                <a:noFill/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ffffff"/>
                      </a:solidFill>
                      <a:latin typeface="Arial"/>
                    </a:rPr>
                    <a:t>Brevet Professionnel </a:t>
                  </a: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14" name="Line 23"/>
                <p:cNvSpPr/>
                <p:nvPr/>
              </p:nvSpPr>
              <p:spPr>
                <a:xfrm flipV="1">
                  <a:off x="6572160" y="3571920"/>
                  <a:ext cx="0" cy="1076400"/>
                </a:xfrm>
                <a:prstGeom prst="line">
                  <a:avLst/>
                </a:prstGeom>
                <a:ln w="38160">
                  <a:solidFill>
                    <a:srgbClr val="96969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15" name="Line 31"/>
                <p:cNvSpPr/>
                <p:nvPr/>
              </p:nvSpPr>
              <p:spPr>
                <a:xfrm flipV="1">
                  <a:off x="4786200" y="3571560"/>
                  <a:ext cx="0" cy="1081080"/>
                </a:xfrm>
                <a:prstGeom prst="line">
                  <a:avLst/>
                </a:prstGeom>
                <a:ln w="38160">
                  <a:solidFill>
                    <a:srgbClr val="96969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16" name="Line 11"/>
            <p:cNvSpPr/>
            <p:nvPr/>
          </p:nvSpPr>
          <p:spPr>
            <a:xfrm flipV="1">
              <a:off x="1857240" y="3286080"/>
              <a:ext cx="0" cy="64296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17" name="Groupe 31"/>
          <p:cNvGrpSpPr/>
          <p:nvPr/>
        </p:nvGrpSpPr>
        <p:grpSpPr>
          <a:xfrm>
            <a:off x="571680" y="3929040"/>
            <a:ext cx="8032680" cy="2143080"/>
            <a:chOff x="571680" y="3929040"/>
            <a:chExt cx="8032680" cy="2143080"/>
          </a:xfrm>
        </p:grpSpPr>
        <p:grpSp>
          <p:nvGrpSpPr>
            <p:cNvPr id="318" name="Group 54"/>
            <p:cNvGrpSpPr/>
            <p:nvPr/>
          </p:nvGrpSpPr>
          <p:grpSpPr>
            <a:xfrm>
              <a:off x="4565880" y="4653000"/>
              <a:ext cx="4038480" cy="1419120"/>
              <a:chOff x="4565880" y="4653000"/>
              <a:chExt cx="4038480" cy="1419120"/>
            </a:xfrm>
          </p:grpSpPr>
          <p:sp>
            <p:nvSpPr>
              <p:cNvPr id="319" name="Rectangle 27"/>
              <p:cNvSpPr/>
              <p:nvPr/>
            </p:nvSpPr>
            <p:spPr>
              <a:xfrm>
                <a:off x="4572000" y="5008680"/>
                <a:ext cx="4032000" cy="1063440"/>
              </a:xfrm>
              <a:prstGeom prst="rec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Wingdings" charset="2"/>
                  <a:buChar char="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Constructeur béton armé bâtiment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Constructeur de routes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Constructeur en canalisations des TP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Constructeur en ouvrages d’art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Conduite d’engins de travaux publics</a:t>
                </a:r>
                <a:r>
                  <a:rPr b="0" lang="fr-FR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Construction et entretien lignes caténaires</a:t>
                </a:r>
                <a:endParaRPr b="0" lang="en-US" sz="1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0" name="Text Box 28"/>
              <p:cNvSpPr/>
              <p:nvPr/>
            </p:nvSpPr>
            <p:spPr>
              <a:xfrm>
                <a:off x="4565880" y="4653000"/>
                <a:ext cx="4038480" cy="28584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ffffff"/>
                    </a:solidFill>
                    <a:latin typeface="Arial"/>
                  </a:rPr>
                  <a:t>CAP</a:t>
                </a: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21" name="Text Box 30"/>
            <p:cNvSpPr/>
            <p:nvPr/>
          </p:nvSpPr>
          <p:spPr>
            <a:xfrm>
              <a:off x="571680" y="3929040"/>
              <a:ext cx="2714400" cy="2854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Seconde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" name="Rectangle 25"/>
            <p:cNvSpPr/>
            <p:nvPr/>
          </p:nvSpPr>
          <p:spPr>
            <a:xfrm>
              <a:off x="571680" y="4286160"/>
              <a:ext cx="2714400" cy="28548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Générale et Technologique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23" name="ZoneTexte 33"/>
          <p:cNvSpPr/>
          <p:nvPr/>
        </p:nvSpPr>
        <p:spPr>
          <a:xfrm>
            <a:off x="500040" y="5929200"/>
            <a:ext cx="2714760" cy="368280"/>
          </a:xfrm>
          <a:prstGeom prst="rect">
            <a:avLst/>
          </a:prstGeom>
          <a:solidFill>
            <a:srgbClr val="fb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A partir de 200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4" name="Groupe 37"/>
          <p:cNvGrpSpPr/>
          <p:nvPr/>
        </p:nvGrpSpPr>
        <p:grpSpPr>
          <a:xfrm>
            <a:off x="1857240" y="3571560"/>
            <a:ext cx="2714760" cy="2143440"/>
            <a:chOff x="1857240" y="3571560"/>
            <a:chExt cx="2714760" cy="2143440"/>
          </a:xfrm>
        </p:grpSpPr>
        <p:sp>
          <p:nvSpPr>
            <p:cNvPr id="325" name="Line 11"/>
            <p:cNvSpPr/>
            <p:nvPr/>
          </p:nvSpPr>
          <p:spPr>
            <a:xfrm flipV="1">
              <a:off x="1857240" y="4572000"/>
              <a:ext cx="0" cy="64296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 flipV="1">
              <a:off x="3909240" y="3571560"/>
              <a:ext cx="0" cy="171468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7" name="Line 11"/>
            <p:cNvSpPr/>
            <p:nvPr/>
          </p:nvSpPr>
          <p:spPr>
            <a:xfrm>
              <a:off x="3857760" y="5715000"/>
              <a:ext cx="71424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 spd="med">
    <p:cover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numéro de diapositive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E37B-4BE5-4E62-9F83-A8F421274C33}" type="slidenum">
              <a:rPr b="0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1499760"/>
            <a:ext cx="903600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90033"/>
                </a:solidFill>
                <a:latin typeface="Arial"/>
              </a:rPr>
              <a:t>PERSPECTIVES </a:t>
            </a:r>
            <a:br>
              <a:rPr sz="4000"/>
            </a:br>
            <a:r>
              <a:rPr b="1" lang="fr-FR" sz="4000" spc="-1" strike="noStrike">
                <a:solidFill>
                  <a:srgbClr val="990033"/>
                </a:solidFill>
                <a:latin typeface="Arial"/>
              </a:rPr>
              <a:t>D’EMPLOI DES JEUNES DANS LES SECTEURS DU BTP</a:t>
            </a:r>
            <a:br>
              <a:rPr sz="4000"/>
            </a:br>
            <a:r>
              <a:rPr b="0" lang="fr-FR" sz="4000" spc="-1" strike="noStrike">
                <a:solidFill>
                  <a:srgbClr val="cc3300"/>
                </a:solidFill>
                <a:latin typeface="Arial"/>
              </a:rPr>
              <a:t> Pour la période 2007-2020 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Espace réservé du numéro de diapositive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EB90-3EF0-4567-83BE-790D8DAA4770}" type="slidenum">
              <a:rPr b="0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-762120" algn="ctr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90033"/>
                </a:solidFill>
                <a:latin typeface="Arial"/>
              </a:rPr>
              <a:t>LES EFFECTIFS DES SECTEURS DE LA CONSTRUCTIO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c3300"/>
                </a:solidFill>
                <a:uFillTx/>
                <a:latin typeface="Verdana"/>
              </a:rPr>
              <a:t>A – LES EMPLOIS « DIRECTS </a:t>
            </a:r>
            <a:r>
              <a:rPr b="0" lang="fr-FR" sz="3200" spc="-1" strike="noStrike">
                <a:solidFill>
                  <a:srgbClr val="cc3300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"/>
              <a:tabLst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rchitecture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60 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"/>
              <a:tabLst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âtiment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1 300 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"/>
              <a:tabLst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Travaux Publics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250 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3300"/>
                </a:solidFill>
                <a:latin typeface="Verdana"/>
              </a:rPr>
              <a:t>TOTAL </a:t>
            </a:r>
            <a:r>
              <a:rPr b="1" lang="fr-FR" sz="3200" spc="-1" strike="noStrike">
                <a:solidFill>
                  <a:srgbClr val="cc33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cc3300"/>
                </a:solidFill>
                <a:latin typeface="Verdana"/>
              </a:rPr>
              <a:t>1 610 000</a:t>
            </a: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285840" y="4500720"/>
            <a:ext cx="6192720" cy="79200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u numéro de diapositive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B619-9E4F-4D6D-9C77-B38195794419}" type="slidenum">
              <a:rPr b="0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c3300"/>
                </a:solidFill>
                <a:uFillTx/>
                <a:latin typeface="Arial"/>
              </a:rPr>
              <a:t>B. LES EMPLOIS </a:t>
            </a:r>
            <a:br>
              <a:rPr sz="3200"/>
            </a:br>
            <a:r>
              <a:rPr b="1" lang="fr-FR" sz="3200" spc="-1" strike="noStrike" u="sng">
                <a:solidFill>
                  <a:srgbClr val="cc3300"/>
                </a:solidFill>
                <a:uFillTx/>
                <a:latin typeface="Arial"/>
              </a:rPr>
              <a:t>« DIRECTEMENT INDUITS »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9144000" cy="30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r" pos="861696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Matériaux et composants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200 000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r" pos="861696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Matériels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55 000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r" pos="861696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Ingénieries « externes »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175 000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r" pos="861696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Gestion du Bâti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110 000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numéro de diapositive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D8D0-3978-49FA-8E72-2A72F97D5969}" type="slidenum">
              <a:rPr b="0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r" pos="788976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mmercialisation 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130 000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r" pos="788976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35 000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r" pos="788976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Rech. et développement 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8 000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r" pos="788976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Formation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5 000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901"/>
              </a:spcBef>
              <a:buNone/>
              <a:tabLst>
                <a:tab algn="r" pos="788976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r" pos="788976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3300"/>
                </a:solidFill>
                <a:latin typeface="Verdana"/>
              </a:rPr>
              <a:t>TOTAL </a:t>
            </a:r>
            <a:r>
              <a:rPr b="1" lang="fr-FR" sz="3200" spc="-1" strike="noStrike">
                <a:solidFill>
                  <a:srgbClr val="cc33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cc3300"/>
                </a:solidFill>
                <a:latin typeface="Verdana"/>
              </a:rPr>
              <a:t>env. 700 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r" pos="78897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r" pos="78897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304920" y="4267080"/>
            <a:ext cx="8280360" cy="72072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Espace réservé du numéro de diapositive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66E3-21E5-4139-A2EA-4A37C06EF951}" type="slidenum">
              <a:rPr b="0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2120" indent="-76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90033"/>
                </a:solidFill>
                <a:latin typeface="Verdana"/>
              </a:rPr>
              <a:t>2. dE/dt … DERIVEES ET PROSPECTIV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395280" y="2332080"/>
            <a:ext cx="821520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c3300"/>
                </a:solidFill>
                <a:uFillTx/>
                <a:latin typeface="Verdana"/>
              </a:rPr>
              <a:t>A – CREATIONS ANNUELL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2005           200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irects             39 000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         54 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ir</a:t>
            </a:r>
            <a:r>
              <a:rPr b="0" lang="fr-FR" sz="3200" spc="-1" strike="noStrike" baseline="30000">
                <a:solidFill>
                  <a:srgbClr val="ffffff"/>
                </a:solidFill>
                <a:latin typeface="Verdana"/>
              </a:rPr>
              <a:t>t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. Induits        8 000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          9 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r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4000680" y="3992400"/>
            <a:ext cx="435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5:33:01Z</dcterms:created>
  <dc:creator>IG</dc:creator>
  <dc:description/>
  <dc:language>en-US</dc:language>
  <cp:lastModifiedBy>VANACKERE</cp:lastModifiedBy>
  <dcterms:modified xsi:type="dcterms:W3CDTF">2008-12-08T13:46:52Z</dcterms:modified>
  <cp:revision>42</cp:revision>
  <dc:subject/>
  <dc:title>Dialogue                                                                                                                                                                          pour la formation et l’emploi dans le secteur de la construction</dc:title>
</cp:coreProperties>
</file>