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22C41-C70C-4DE3-8B53-5A8942574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69C92-38EC-47A7-95D9-F06ABF156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380EF-0E1B-49F1-A8A6-0145078AE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3B31F-FAD9-4172-B516-1F683FDE0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4BD19-F29B-4695-A817-B7450201F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0671C-BDA2-4731-944C-C46A0AA69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D5E28-855B-4A49-9795-D32939844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D1645-D80B-4523-8D05-1E728E193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97FDB-C055-48B2-B770-F5362569E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1082C-C416-4950-A579-1FBBFE629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75FF1-AA0D-4DDD-96F5-4C20E91AD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DB5E8-EC14-4BA8-A8DB-C561E33A4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17D98-03C5-4B2C-B39C-4C5ED532A6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.A.P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éférentiel des activités professionnelle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3276360"/>
            <a:ext cx="777240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oupe de travail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.P.C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4F435-89EA-4804-B145-65BB108FEC9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éalis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853416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l établit et/ou exploite les rapports de chant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l assure le suivi et actualise le calendrier de réalis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l assure la bonne réalisation des travaux jusqu’à leur réception et leur règl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l assure le suivi du chantier dans la cadre du budget prévisionnel init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l assure les relations avec le maître d’ouvrage et le maître d’œuvre, les organismes extérieurs du chantier. Il assure le rôle de conseil auprès de ses interlocuteu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l réalise les attachements et documents de fin de chantier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l établit les situations de travaux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7CA2F-0D01-4CA3-95F4-DAAC73DCD24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ns le cadre de ses fonc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l cherche à développer les relations et les démarches commerciales avec la clientè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l participe à des actions de formation et d’information 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des personnels de l’entreprise dans son secteur d’activités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des élèves, apprentis et stagiaires en formation initiale et continue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des enseigna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7D553-3A88-4782-9024-F891055C4D3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250920" y="181080"/>
          <a:ext cx="8664480" cy="6572160"/>
        </p:xfrm>
        <a:graphic>
          <a:graphicData uri="http://schemas.openxmlformats.org/drawingml/2006/table">
            <a:tbl>
              <a:tblPr/>
              <a:tblGrid>
                <a:gridCol w="2187360"/>
                <a:gridCol w="1185840"/>
                <a:gridCol w="5291280"/>
              </a:tblGrid>
              <a:tr h="474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3333cc"/>
                          </a:solidFill>
                          <a:latin typeface="Verdana"/>
                          <a:ea typeface="Times New Roman"/>
                        </a:rPr>
                        <a:t>Fon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Verdana"/>
                          <a:ea typeface="Times New Roman"/>
                        </a:rPr>
                        <a:t>EXPLOITATIO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Verdana"/>
                          <a:ea typeface="Times New Roman"/>
                        </a:rPr>
                        <a:t>REALISATION DE CHANTI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</a:tr>
              <a:tr h="131076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46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3333cc"/>
                          </a:solidFill>
                          <a:latin typeface="Verdana"/>
                          <a:ea typeface="Times New Roman"/>
                        </a:rPr>
                        <a:t>Tâche 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46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Verdana"/>
                          <a:ea typeface="Times New Roman"/>
                        </a:rPr>
                        <a:t>Techniq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1046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staller et implanter son chanti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1046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émarrer le chantier et assurer son bon déroule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1046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ssurer la réception du chanti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aca899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3333cc"/>
                          </a:solidFill>
                          <a:latin typeface="Verdana"/>
                          <a:ea typeface="Times New Roman"/>
                        </a:rPr>
                        <a:t>Conditions d'exerci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3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Moyens et ressourc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gula"/>
                          <a:ea typeface="Times New Roman"/>
                        </a:rPr>
                        <a:t>-Pièces du marché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gula"/>
                          <a:ea typeface="Times New Roman"/>
                        </a:rPr>
                        <a:t>-Dossier de préparation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gula"/>
                          <a:ea typeface="Times New Roman"/>
                        </a:rPr>
                        <a:t>-Règles de l'art (fascicules, ...), code de la route et des transports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gula"/>
                          <a:ea typeface="Times New Roman"/>
                        </a:rPr>
                        <a:t>-Prescriptions techniques du client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gula"/>
                          <a:ea typeface="Times New Roman"/>
                        </a:rPr>
                        <a:t>-P.A.Q (Plan d'Assurance Qualité)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gula"/>
                          <a:ea typeface="Times New Roman"/>
                        </a:rPr>
                        <a:t>-P.P.S.P.S (Plan Particulier de Sécurité et de la Protection de la Santé)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gula"/>
                          <a:ea typeface="Times New Roman"/>
                        </a:rPr>
                        <a:t>-Données sur l’environnement, données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gula"/>
                          <a:ea typeface="Times New Roman"/>
                        </a:rPr>
                        <a:t>topographiques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gula"/>
                          <a:ea typeface="Times New Roman"/>
                        </a:rPr>
                        <a:t>-Moyens en personnel, en matériel, en matériaux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gula"/>
                          <a:ea typeface="Times New Roman"/>
                        </a:rPr>
                        <a:t>-Sous-traitants et co-traitants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gula"/>
                          <a:ea typeface="Times New Roman"/>
                        </a:rPr>
                        <a:t>-Laboratoire, bureau de contrôle, moyen d’autocontrô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gula"/>
                          <a:ea typeface="Times New Roman"/>
                        </a:rPr>
                        <a:t>-Compte rendus d'essais (analyse de matériaux, ...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Autonomie et responsabilit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gula"/>
                          <a:ea typeface="Times New Roman"/>
                        </a:rPr>
                        <a:t>-Responsabilité totale et autonomie complète dans le cadre des objectifs acceptés conjointement entre sa hiérarchie et lui-même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gula"/>
                          <a:ea typeface="Times New Roman"/>
                        </a:rPr>
                        <a:t>-Responsabilités engagées suite à des malfaçons, ou non-respect de prescriptions, ..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59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Résultats attendu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gula"/>
                          <a:ea typeface="Times New Roman"/>
                        </a:rPr>
                        <a:t>-Réalisation du chantier en conformité avec les prescriptions techniques particulières permettant sa réception dans les délais prévus, son règlement rapide, le renforcement de l'image de l’entreprise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gula"/>
                          <a:ea typeface="Times New Roman"/>
                        </a:rPr>
                        <a:t>-Réalisation des plans de recollement et des pièces nécessaires à l'utilisation de l’ouvrage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E8BD7-B71C-4009-91FE-BE3997ABDF7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72608-FDDA-47AA-A962-F9C1A7A1FE2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 contexte professionnel 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P : CA ; interactivité ; import ex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truction : Aléas ; taille ; prototy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 secteurs d’activités des TP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B0BBD-7630-4321-B4A4-C6EABAAEF64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ités du technicien supérieur en Travaux Public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ous l’autorité de sa hiérarchie le TS T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 amené à participer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à tout ou partie d’une o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plusieurs des fonction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uivante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collaboration avec les spécialistes des services de l’entreprise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ns l’environnement technique, économique, et réglementai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B792A-32E2-41FE-A59C-9E35A92DDBB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Étude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ns le cadre d’objectifs préalablement définis 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l participe aux études de prix d’un ouvrage</a:t>
            </a:r>
            <a:br>
              <a:rPr sz="3200"/>
            </a:br>
            <a:r>
              <a:rPr b="0" lang="fr-FR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Métrés ; sous détails ; BPU ; DE ; conditions de règl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l participe aux études techniques d’un ouvrage</a:t>
            </a:r>
            <a:br>
              <a:rPr sz="3200"/>
            </a:br>
            <a:r>
              <a:rPr b="0" lang="fr-FR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Dessins d’exécution ; Ndc ; varian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791CC-B1C3-4772-908B-FA13D65F9EC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Exploitatio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1 Dans le cadre de la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épara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u chantier, selon l’importance de celui-ci, il réalise ou participe à l’étude d’exécution avec le budget prévisionnel de chantier 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C472D-CF0D-48AF-9E87-CB6E5998188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épar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l visite le site et effectue les sondages éventu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Il prend en compte l’état des ouvrages exista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l prend en compte les variations éventuelles des conditions techniques et économiques du chant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l choisit les moyens humains, matériels et matériaux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l ordonnance les tâch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l établit le calendrier de réalis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E2FBA-E9E3-4B10-A126-69A7DF5E0C4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épar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Il chiffre les variantes d’exéc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l installe le chantier (hygiène, sécurité et environnemen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l élabore le plan d’assurance qualit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l exécute les démarches administratives et recherche les renseignements nécessaires à l’ouverture du chant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Il élabore l’information complète de tous les intervenants y compris des riverains et des usag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l fait des mises au point avec le maître d’ouvrage et le maître d’œuv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B0DEB-65AB-4F0F-B174-C47972053E7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loi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2 Dans le cadre de la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éalisa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u chantier, selon l’importance des travaux et les différences des secteurs d’activités, il assure ou participe à la conduite des travaux et il en rend compte 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BD2DC-C218-44A9-A9A2-D9DB49E11F1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éalis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560" y="10663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l présente le chantier au personnel d’exécution (consignes, objectifs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l fait appliquer les consignes d’hygiène, de sécurité et environnementales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Il effectue les implant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Il prévoit et commande le matéri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l réceptionne et contrôle les matériau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l fait réaliser les travaux suivant le cahier des charges précis qui lui est propos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l contrôle et réceptionne les travaux sous-traités</a:t>
            </a:r>
            <a:br>
              <a:rPr sz="2800"/>
            </a:b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….</a:t>
            </a:r>
            <a:br>
              <a:rPr sz="3200"/>
            </a:b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89F2C-4DDD-4788-B049-FEC8DAA3DE1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7T17:03:26Z</dcterms:created>
  <dc:creator>grenouillat</dc:creator>
  <dc:description/>
  <dc:language>en-US</dc:language>
  <cp:lastModifiedBy>grenouillat</cp:lastModifiedBy>
  <dcterms:modified xsi:type="dcterms:W3CDTF">2008-12-08T20:48:51Z</dcterms:modified>
  <cp:revision>9</cp:revision>
  <dc:subject/>
  <dc:title>RAP Référentiel des activités professionnelles </dc:title>
</cp:coreProperties>
</file>