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792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766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5C2C3-F861-45B1-9902-592C34E093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58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06120" y="4714560"/>
            <a:ext cx="4978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1FA-540F-44A3-9850-78FB6C46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0399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482-6ECA-4B98-862D-5CADB4C7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6944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831-6C84-4989-836B-8EC8B858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584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132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584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132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39E-D621-4651-AA84-877C3A0F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782F-394B-4E4B-B0A2-E11FE445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CD8F-3A5B-4EA8-B3A7-6A29F09C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288F-C099-4EF3-9AC9-B6C34D05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4D9B-59B0-42BE-827F-F62B5882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4700-33A0-4877-AEA4-90C3F6C0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31104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76E6-9811-492C-9677-3CD50AED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1B36-D9CB-4CEE-995D-E7FEC25C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BF3-E43E-44BF-B7CC-88432EE8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6944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E8CF-527A-48E1-8234-8C12EDE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B61A-B6E6-4AFE-9751-FDED9C44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40399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023F-C7F3-41C1-8BDA-E52728E2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6944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56B9-1526-4425-879F-5AACE8CD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584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1320" y="182844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584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1320" y="40399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8C4A-2589-4483-B561-8B7CD2EF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CF5-C6D4-4694-BFC5-5575857C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D4B-C776-4FD5-A64D-EC8E15D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450-EAF5-4262-98D1-A039F400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31104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CB5-BAA5-4A90-9EA1-9D8F7C9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3D3-2D67-466B-8DE8-D8651AEB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69440" y="40399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609-728F-4099-929F-4971BF51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9440" y="182844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0399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C6E-4083-4814-A71A-946628A7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1104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44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120" indent="-27792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8968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2C9F6-39D2-4B74-9211-7A12E44C63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7794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8968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9002A4-9C91-4414-8208-95477C6E5D80}" type="slidenum">
              <a:rPr b="0" lang="en-GB" sz="1400" spc="-1" strike="noStrike">
                <a:solidFill>
                  <a:srgbClr val="a08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120" indent="-27792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040" y="40384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e9964"/>
                </a:solidFill>
                <a:latin typeface="Times New Roman"/>
                <a:ea typeface="MS Gothic"/>
              </a:rPr>
              <a:t>L</a:t>
            </a:r>
            <a:r>
              <a:rPr b="0" lang="en-GB" sz="2000" spc="-1" strike="noStrike">
                <a:solidFill>
                  <a:srgbClr val="ce9964"/>
                </a:solidFill>
                <a:latin typeface="Times New Roman"/>
                <a:ea typeface="MS Gothic"/>
              </a:rPr>
              <a:t>ycé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n-GB" sz="4000" spc="-1" strike="noStrike">
                <a:solidFill>
                  <a:srgbClr val="ce9964"/>
                </a:solidFill>
                <a:latin typeface="Times New Roman"/>
                <a:ea typeface="MS Gothic"/>
              </a:rPr>
              <a:t>J</a:t>
            </a:r>
            <a:r>
              <a:rPr b="0" lang="en-GB" sz="2000" spc="-1" strike="noStrike">
                <a:solidFill>
                  <a:srgbClr val="ce9964"/>
                </a:solidFill>
                <a:latin typeface="Times New Roman"/>
                <a:ea typeface="MS Gothic"/>
              </a:rPr>
              <a:t>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n-GB" sz="4000" spc="-1" strike="noStrike">
                <a:solidFill>
                  <a:srgbClr val="ce9964"/>
                </a:solidFill>
                <a:latin typeface="Times New Roman"/>
                <a:ea typeface="MS Gothic"/>
              </a:rPr>
              <a:t>P</a:t>
            </a:r>
            <a:r>
              <a:rPr b="0" lang="en-GB" sz="2000" spc="-1" strike="noStrike">
                <a:solidFill>
                  <a:srgbClr val="ce9964"/>
                </a:solidFill>
                <a:latin typeface="Times New Roman"/>
                <a:ea typeface="MS Gothic"/>
              </a:rPr>
              <a:t>rou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2, rue de LOMP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59463 LO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8288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ardi 09 décembre 200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2286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e9964"/>
                </a:solidFill>
                <a:latin typeface="Arial Black"/>
              </a:rPr>
              <a:t>B.T.S. TRAVAUX PUBLIC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380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5083200" cy="203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143000" y="1676520"/>
            <a:ext cx="7521480" cy="841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7521480" cy="26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7521480" cy="1003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143000" y="3962520"/>
            <a:ext cx="7521480" cy="2044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143000" y="6019920"/>
            <a:ext cx="75214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3808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 Black"/>
              </a:rPr>
              <a:t>EVALUATION AU NIVEAU DES EPREUV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103880" cy="520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772400" cy="296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7924680" cy="115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219320" y="3200400"/>
            <a:ext cx="7226280" cy="579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952560" y="3962520"/>
            <a:ext cx="3619440" cy="2489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840200" y="4392720"/>
            <a:ext cx="3619440" cy="172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83808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600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0000" y="720720"/>
            <a:ext cx="4149720" cy="58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40000" y="2392200"/>
            <a:ext cx="2725560" cy="308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042920" y="3419640"/>
            <a:ext cx="3457800" cy="1112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042920" y="5127480"/>
            <a:ext cx="345780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76212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270320" cy="203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65160" y="2673360"/>
            <a:ext cx="5083200" cy="203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938160" y="3419640"/>
            <a:ext cx="7521480" cy="109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38160" y="4995720"/>
            <a:ext cx="7521480" cy="5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990720" y="1676520"/>
            <a:ext cx="2725560" cy="30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76212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5638680"/>
            <a:ext cx="4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4560" y="1676520"/>
            <a:ext cx="3457440" cy="30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75320" y="762120"/>
            <a:ext cx="4095720" cy="579096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079640" y="2179800"/>
            <a:ext cx="3457440" cy="520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079640" y="2857680"/>
            <a:ext cx="3457440" cy="203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160720" y="3060720"/>
            <a:ext cx="2340000" cy="39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042920" y="3757680"/>
            <a:ext cx="345780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2160720" y="3959280"/>
            <a:ext cx="234000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2160720" y="4319640"/>
            <a:ext cx="2340000" cy="584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2160720" y="4859280"/>
            <a:ext cx="2395440" cy="115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1079640" y="6086520"/>
            <a:ext cx="3457440" cy="39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76212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247840" cy="308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85920" y="4684680"/>
            <a:ext cx="7521480" cy="203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340000" y="5219640"/>
            <a:ext cx="6404040" cy="766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14400" y="1676520"/>
            <a:ext cx="3457440" cy="30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60360" y="2125800"/>
            <a:ext cx="7521840" cy="393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2340000" y="2665440"/>
            <a:ext cx="6404040" cy="393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2340000" y="3095640"/>
            <a:ext cx="6404040" cy="203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2340000" y="3419640"/>
            <a:ext cx="6404040" cy="39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838080"/>
            <a:ext cx="4419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219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</a:t>
            </a:r>
            <a:r>
              <a:rPr b="1" lang="en-GB" sz="2000" spc="-1" strike="noStrike">
                <a:solidFill>
                  <a:srgbClr val="402000"/>
                </a:solidFill>
                <a:latin typeface="Arial"/>
              </a:rPr>
              <a:t>LABORATOIR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457440" cy="308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4094280" cy="5791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2247840" cy="241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143000" y="2438280"/>
            <a:ext cx="3152880" cy="77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143000" y="3276720"/>
            <a:ext cx="3152880" cy="583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143000" y="3962520"/>
            <a:ext cx="3152880" cy="555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166760" y="4680000"/>
            <a:ext cx="3152880" cy="58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166760" y="5524560"/>
            <a:ext cx="315288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76212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6404040" cy="784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86000" y="2438280"/>
            <a:ext cx="6404040" cy="584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286000" y="3022560"/>
            <a:ext cx="6404040" cy="203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143000" y="3225960"/>
            <a:ext cx="7521480" cy="203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286000" y="3429000"/>
            <a:ext cx="6404040" cy="77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143000" y="4267080"/>
            <a:ext cx="7521480" cy="203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2286000" y="4495680"/>
            <a:ext cx="6404040" cy="816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2209680" y="5410080"/>
            <a:ext cx="4778640" cy="220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1143000" y="5715000"/>
            <a:ext cx="7521480" cy="203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1143000" y="6019920"/>
            <a:ext cx="752148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1144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e9964"/>
                </a:solidFill>
                <a:latin typeface="Times New Roman"/>
              </a:rPr>
              <a:t>B.T.S. TRAVAUX PUBL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7621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</a:rPr>
              <a:t>Organisation des exame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791320"/>
            <a:ext cx="4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143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Arial"/>
              </a:rPr>
              <a:t>E5.2 LABORATO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2247840" cy="307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726080" y="762120"/>
            <a:ext cx="4093920" cy="5790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4560" y="2209680"/>
            <a:ext cx="3457440" cy="393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232000" y="2743200"/>
            <a:ext cx="2340000" cy="393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32000" y="3276720"/>
            <a:ext cx="2340000" cy="583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114560" y="4114800"/>
            <a:ext cx="3457440" cy="393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2239920" y="4648320"/>
            <a:ext cx="2340000" cy="203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2232000" y="5029200"/>
            <a:ext cx="2340000" cy="393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2232000" y="5562720"/>
            <a:ext cx="2340000" cy="39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ef de travaux</dc:creator>
  <dc:description/>
  <dc:language>en-US</dc:language>
  <cp:lastModifiedBy>Chef de travaux</cp:lastModifiedBy>
  <cp:revision>0</cp:revision>
  <dc:subject/>
  <dc:title>B.T.S. TRAVAUX PUBLICS</dc:title>
</cp:coreProperties>
</file>