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BF3-B62F-48BA-9177-86D1C8EB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FA2-D727-4598-89B1-67F7DFC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FEB-BFEE-466B-84E7-CAE11F50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8F3-B8D1-47AC-AA67-5DEB3B58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83F-7FAF-4653-B0A7-62631E8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ABC-1446-4689-B61F-ABB73351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6CB-C54C-47B3-AEC7-3DEDF32B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7AF-15EB-4020-AA96-43DE743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617-0177-4927-BB9B-A4EE8D9E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4BE-77EA-466C-8FC0-240492F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17C-3E4C-4713-8B8F-AE078E8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B4D-94C3-4CFE-9D8E-9B5D6C4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04A-F3B3-4BA9-884E-B05CC282C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écanique des structure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ont mixte à 3 travées (4 D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uj001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8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563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de gravité de la cor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346-9932-44BD-A5CA-76C6F31D1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ux de charge 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 au point 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uj002" descr=""/>
          <p:cNvPicPr/>
          <p:nvPr/>
        </p:nvPicPr>
        <p:blipFill>
          <a:blip r:embed="rId2"/>
          <a:stretch/>
        </p:blipFill>
        <p:spPr>
          <a:xfrm>
            <a:off x="762120" y="1449360"/>
            <a:ext cx="761976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C10-A612-41D0-9F41-350C64C64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mensionnement section BA aux ELS (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éma d’armatures sur DR (+ donnée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inte tangenti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uj002" descr=""/>
          <p:cNvPicPr/>
          <p:nvPr/>
        </p:nvPicPr>
        <p:blipFill>
          <a:blip r:embed="rId2"/>
          <a:stretch/>
        </p:blipFill>
        <p:spPr>
          <a:xfrm>
            <a:off x="762120" y="1954080"/>
            <a:ext cx="7238880" cy="443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768-0241-4E81-8F4A-4CB4165DAD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éma d’armatures sur DR (+ donné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rhourdis001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307280" cy="31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A0D-9574-47CC-8D70-8844675545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ème hyperstatique (degré 2 ? ; 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es V, M,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uj003" descr=""/>
          <p:cNvPicPr/>
          <p:nvPr/>
        </p:nvPicPr>
        <p:blipFill>
          <a:blip r:embed="rId2"/>
          <a:stretch/>
        </p:blipFill>
        <p:spPr>
          <a:xfrm>
            <a:off x="0" y="2550960"/>
            <a:ext cx="9144000" cy="35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886-759C-48F0-9CD6-160ACCE82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que ; N, V, M ; B.A Vérifi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295280"/>
            <a:ext cx="6858000" cy="3537000"/>
            <a:chOff x="0" y="1295280"/>
            <a:chExt cx="6858000" cy="3537000"/>
          </a:xfrm>
        </p:grpSpPr>
        <p:pic>
          <p:nvPicPr>
            <p:cNvPr id="54" name="suj004" descr=""/>
            <p:cNvPicPr/>
            <p:nvPr/>
          </p:nvPicPr>
          <p:blipFill>
            <a:blip r:embed="rId2"/>
            <a:stretch/>
          </p:blipFill>
          <p:spPr>
            <a:xfrm>
              <a:off x="0" y="1295280"/>
              <a:ext cx="4572000" cy="35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419720" y="2209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Éling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352680" y="3962520"/>
            <a:ext cx="5791320" cy="2895480"/>
            <a:chOff x="3352680" y="3962520"/>
            <a:chExt cx="5791320" cy="2895480"/>
          </a:xfrm>
        </p:grpSpPr>
        <p:pic>
          <p:nvPicPr>
            <p:cNvPr id="57" name="suj007" descr=""/>
            <p:cNvPicPr/>
            <p:nvPr/>
          </p:nvPicPr>
          <p:blipFill>
            <a:blip r:embed="rId3"/>
            <a:stretch/>
          </p:blipFill>
          <p:spPr>
            <a:xfrm>
              <a:off x="3352680" y="4668840"/>
              <a:ext cx="579132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02920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urd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33520" y="5334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 b.a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633-7E71-4B5F-A2A9-3D48682346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ussée sur écran ;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j005" descr=""/>
          <p:cNvPicPr/>
          <p:nvPr/>
        </p:nvPicPr>
        <p:blipFill>
          <a:blip r:embed="rId2"/>
          <a:stretch/>
        </p:blipFill>
        <p:spPr>
          <a:xfrm>
            <a:off x="228600" y="1157400"/>
            <a:ext cx="5091120" cy="57006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952880" y="2843280"/>
            <a:ext cx="3886200" cy="3072240"/>
            <a:chOff x="4952880" y="2843280"/>
            <a:chExt cx="3886200" cy="3072240"/>
          </a:xfrm>
        </p:grpSpPr>
        <p:pic>
          <p:nvPicPr>
            <p:cNvPr id="63" name="suj006" descr=""/>
            <p:cNvPicPr/>
            <p:nvPr/>
          </p:nvPicPr>
          <p:blipFill>
            <a:blip r:embed="rId3"/>
            <a:stretch/>
          </p:blipFill>
          <p:spPr>
            <a:xfrm>
              <a:off x="4952880" y="2843280"/>
              <a:ext cx="38862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7800" y="4724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bilité 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 poinçonnem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 gliss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D57-01A5-4917-A41D-C2784F9C82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ilan mécanique des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è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yenne sur 206 candidats : 9,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 Euro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res thèmes : modélisation, flèche, poussée avec nappe, hydraulique, vérification, B.P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0C2-2849-4F13-A1E8-AF29C9C5E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1:21:48Z</dcterms:created>
  <dc:creator>grenouillat</dc:creator>
  <dc:description/>
  <dc:language>en-US</dc:language>
  <cp:lastModifiedBy>grenouillat</cp:lastModifiedBy>
  <dcterms:modified xsi:type="dcterms:W3CDTF">2008-12-07T21:30:04Z</dcterms:modified>
  <cp:revision>5</cp:revision>
  <dc:subject/>
  <dc:title>Présentation PowerPoint</dc:title>
</cp:coreProperties>
</file>