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59E-7003-43D9-8384-FF469E3D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D70-272C-4E59-B0E9-673D7604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398-F851-4363-A175-9D73AB7D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799-E6C4-4E74-A630-CB8CC85E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0370-1F47-48AE-A4D1-6A919B90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C309-BE19-4DAD-BF60-2BD63E86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D70F-4A7C-41D3-98EC-68E41B5D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979-0AF4-4142-8EBD-9E7A8410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DB91-ADB3-4FB9-B248-B8A568E3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7438-FF5F-4491-932D-33718B69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4658-92E2-466A-BF6A-13C2C75B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A13-99E9-48DE-95FF-CB956E79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179C-2AAB-49B1-AB5D-8ECC8DB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0B22-80DF-4269-A568-E873F4A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5117-5585-4FBD-8B9A-615E6A63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F296-A482-4AF5-9BF6-5348522A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018F-11EF-4AB0-889A-1438AE53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5FEE-5A4E-4C0F-ACBE-B050C014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3747-8BD2-4A43-9151-67111951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9859D-4CEE-4CA9-8149-F4ADA75B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F51F-3CB0-4DFF-B0D1-FE95CEF1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87D1-A7AC-4880-8F07-8DF26150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04A-2294-4B63-8666-5ACE8D7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CC9B-06D3-43C5-8905-12903E86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286E-C5A5-40B0-A760-AFD1DDF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45AB-52C0-4D70-954E-B8F57BB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B2B7-6058-4914-8FB1-F595E892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2C3D-46C3-4940-8CD6-62785703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43ED-E5A5-4DAA-A6B0-DD1995F4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912E-5CF6-41E5-B17B-601C5C0C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C518-BFA6-42D0-AF96-578733F9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F503-C674-4830-952F-D474756B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E974-D3CC-4549-9B5F-760A480D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4B1-8FEB-4DEC-AAD4-7C368624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894B-7D99-42A5-8B05-01AF7A3F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B7E3-84CD-40C3-B480-F62ABE24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2F787-1E9D-434B-B26C-00C3CEE2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321A1-7ED1-4E2E-9298-5660157B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5EB8-0266-45A6-8DDE-EDD952F0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7E60-2F70-4014-994A-97F7704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BE99-8039-4210-B091-ACB3FC58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EEE0B-1897-462C-918D-27820825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AC457-2BAD-4659-8DD1-76D27EC2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E11-7C6F-40B6-B55B-E3EBABAD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8EA-36D9-4D44-847F-82A2EBFA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A42-6BA7-4380-80C2-7218116A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22B-2BCB-4177-A564-741FED8E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159-DC0A-432C-B915-C9A4205B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E11E-CDEA-48F6-A351-3CD48D22A99F}" type="slidenum"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0BB5-F4D0-4BED-8D8C-E3476FAEB555}" type="slidenum"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FAEF-3397-4AAA-972A-846E80287129}" type="slidenum"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A1CD-C443-4839-B744-CB01D2E71073}" type="slidenum"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re 1" descr=""/>
          <p:cNvPicPr/>
          <p:nvPr/>
        </p:nvPicPr>
        <p:blipFill>
          <a:blip r:embed="rId1"/>
          <a:stretch/>
        </p:blipFill>
        <p:spPr>
          <a:xfrm>
            <a:off x="774720" y="487440"/>
            <a:ext cx="7796160" cy="1549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9360">
            <a:solidFill>
              <a:srgbClr val="03495c"/>
            </a:solidFill>
            <a:miter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Baskerville Old Face"/>
              </a:rPr>
              <a:t>Epreuve E5   :  coefficient : 4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askerville Old Face"/>
              </a:rPr>
              <a:t>Topographie : coef : 2.5     </a:t>
            </a:r>
            <a:r>
              <a:rPr b="0" lang="fr-FR" sz="2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askerville Old Face"/>
              </a:rPr>
              <a:t>Laboratoire : coef : 1,5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Le suppor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Espace réservé du contenu 3" descr="2008080.jpg"/>
          <p:cNvPicPr/>
          <p:nvPr/>
        </p:nvPicPr>
        <p:blipFill>
          <a:blip r:embed="rId1"/>
          <a:stretch/>
        </p:blipFill>
        <p:spPr>
          <a:xfrm>
            <a:off x="565200" y="642960"/>
            <a:ext cx="78184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Sujets pratiqu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Espace réservé du contenu 3" descr="P3.jpg"/>
          <p:cNvPicPr/>
          <p:nvPr/>
        </p:nvPicPr>
        <p:blipFill>
          <a:blip r:embed="rId1"/>
          <a:stretch/>
        </p:blipFill>
        <p:spPr>
          <a:xfrm>
            <a:off x="1168560" y="85716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Espace réservé du contenu 3" descr="P4.jpg"/>
          <p:cNvPicPr/>
          <p:nvPr/>
        </p:nvPicPr>
        <p:blipFill>
          <a:blip r:embed="rId1"/>
          <a:stretch/>
        </p:blipFill>
        <p:spPr>
          <a:xfrm>
            <a:off x="123840" y="1285920"/>
            <a:ext cx="9018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Sujets BTS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http://www.crdp-montpellier.fr/ressources/examens/consultation/index.as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Epreuves de topographie</a:t>
            </a:r>
            <a:br>
              <a:rPr sz="4500"/>
            </a:b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2 parti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4617b"/>
                </a:solidFill>
                <a:latin typeface="Constantia"/>
              </a:rPr>
              <a:t>Théori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4617b"/>
                </a:solidFill>
                <a:latin typeface="Constantia"/>
              </a:rPr>
              <a:t>Prati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Durée : 1h3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oefficient : 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Sujets nationau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Par promotion complèt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Durée : 2h30 + 30 min or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oefficient : 1,5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Sujets nationau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4 étudiants par ½ journée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 (</a:t>
            </a: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les 4 étudiants ont le même T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L’assesseur reçoit les préparations quelques semaines avant les épreuv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Corre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4617b"/>
                </a:solidFill>
                <a:latin typeface="Constantia"/>
              </a:rPr>
              <a:t>Théori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4617b"/>
                </a:solidFill>
                <a:latin typeface="Constantia"/>
              </a:rPr>
              <a:t>Prati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Corrections Nationales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début jui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Lieux : Par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Evaluation des candidats par un jury extérieu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Notation immédiatement après l’épreuve pratiq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r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Thèmes épreuve théoriq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857240"/>
            <a:ext cx="4039920" cy="292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Les relations dans les triangles quelconqu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Les relations trigonométriqu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alcul des gisements et distanc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alcul des coordonné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1640" y="1857240"/>
            <a:ext cx="4429080" cy="292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Raccordements circulair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Points de tangence, rayon, centre, points sur la courb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Nivellement indirect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Altitude  stations , poi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Vérification d’angles verticaux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alcul des pen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Thèmes épreuve pratiq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Nivellement direct 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heminement, rayonnem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Ecart de fermeture, compens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ontrôle des niveaux : collim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Report d’altitud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Lever de terrai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Polygonale fermée et compensé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lvl="1" marL="261720" indent="-2617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Implantation : polaire et par intersec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Nivellement indirec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Points inaccessibles (altitudes, largeurs, coordonnée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Raccordements circulaires 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askerville Old Face"/>
              </a:rPr>
              <a:t>Par abscisses et ordonnées sur la tangente ou sur la cor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askerville Old Face"/>
              </a:rPr>
              <a:t>Par coordonnées polaires sur la tangen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askerville Old Face"/>
              </a:rPr>
              <a:t>Par tangentes successi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re 4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Giratoire Actipo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Sujet théoriqu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Espace réservé du contenu 3" descr="P1.jpg"/>
          <p:cNvPicPr/>
          <p:nvPr/>
        </p:nvPicPr>
        <p:blipFill>
          <a:blip r:embed="rId1"/>
          <a:stretch/>
        </p:blipFill>
        <p:spPr>
          <a:xfrm>
            <a:off x="285840" y="941400"/>
            <a:ext cx="84294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Espace réservé du contenu 3" descr="P2.jpg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58:56Z</dcterms:created>
  <dc:creator>Christophe D</dc:creator>
  <dc:description/>
  <dc:language>en-US</dc:language>
  <cp:lastModifiedBy>Christophe D</cp:lastModifiedBy>
  <dcterms:modified xsi:type="dcterms:W3CDTF">2008-12-08T18:57:08Z</dcterms:modified>
  <cp:revision>15</cp:revision>
  <dc:subject/>
  <dc:title>U51 : Topographie</dc:title>
</cp:coreProperties>
</file>