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290-F0A8-4FFD-9F34-1DDAA096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F14-2F3F-4486-B068-0948FB84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FF0-3177-4DFB-9EAB-2704DF6E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43A-07B8-4E63-B98F-0B745EB5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03EE-FACC-41B3-A993-0468CCDB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C9C0-F4BD-4A18-A99B-3B0F2843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5F12-6FAA-4942-99BF-F9938AA0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5A54-E0A6-446D-BBA7-4CBF47F0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5BD1-DAC6-4807-9684-7ECD2B9F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1940-0F08-421B-8B63-C2CF249C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55F2-1CA5-4DAB-96FC-EF7A09CD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87D-4D03-4F02-9DA2-5EF1BBB7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C32F-4281-494B-9DC6-A275286E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5351-07D8-4362-BB8C-C0540613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AC5A-D80E-4A41-A60A-8E4A5797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EE70-39E9-4840-89A6-67726370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8C4B-82AB-423E-92D5-8E32DCAE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65E-74FA-4537-98E8-093EB967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5C6-4F9A-4FE1-95B3-BDDDA79F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9A8-320E-419A-858E-4BB230BC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C8E-D93C-415D-A25F-09F071A9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0E9-04C2-47E4-882F-7FE31EE3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2BA-8DD2-4A2B-9C20-2B56F342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AE8-6D2E-46B0-93B0-FD339339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57A8-9049-43BB-A364-B63CD75DE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EE11-781E-4227-B6BC-44DCE8CE4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848720" cy="15238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 projet techniqu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9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demande de projet</a:t>
            </a:r>
            <a:br>
              <a:rPr sz="32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de la part de l’industrie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487692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285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’est donc la conclusion d’une discussion entre l’étudiant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aidé par l’équipe pédagogique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et l’entreprise d’accueil du stage de première anné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133720"/>
            <a:ext cx="76197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iant a intégré dans sa demande de stage de première année la possibilité de développement d’un projet de réalisation en deuxième anné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iant avec l’aide de l’équipe pédagogique discute avec son tuteur des possibilités de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209680"/>
            <a:ext cx="72392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équipe pédagogique vérifie  la compatibilité du projet avec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objectifs du référent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contraintes tempore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données technico-économ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Étude de faisabilité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5345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2514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est recommandé de n’affecter qu’un étudiant par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3581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plusieurs  candidats réalisent un même projet, une attention particulière sera portée à l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épartition des tâches dans le contrat individuel de travail de chaque étudi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 projet est retenu et confié à un étud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345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La note de cadrag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 permet de clarifier le projet, elle préc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2860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contexte du projet techn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971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’environnement du proj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36576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services à réali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434340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 livrables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5943600" y="22860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5257800" y="3048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3657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4343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868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952880"/>
            <a:ext cx="8153280" cy="16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a note de cadrage est un élément de l’é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L’étudiant rédige l’avant projet (à joindre au dossi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L’équipe pédagogique corrige et présente cette note de cadrage à la commission de vali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 permet de clarifier le projet, elle préc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438280"/>
            <a:ext cx="7086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 contexte du projet techniqu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expression du beso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but cibl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secteur concern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équipements, moyens, personnels concern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acteurs du proj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partenaires inter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La note de cadrag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4582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d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ote de cad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 permet de clarifier le projet, elle préc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2438280"/>
            <a:ext cx="7086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’environnement du proje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lai (date de début et de f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yens mis à dis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tudes antérie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intes techniques particuliè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que d’ent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d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ote de cad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 permet de clarifier le projet, elle préc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98108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services à réaliser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514600"/>
            <a:ext cx="8915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Étude préalable si nécessai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cette étude a pu être réalisée précédemment par l’entreprise. Le projet consiste alors à la mise en oeuvre d’une solution décidée par l’ent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d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114800"/>
            <a:ext cx="8382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Étude de réalis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cette étude ne doit pas dépasser la première période de stage de 3 semaines, le dossier de réalisation est effectu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864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 mise en œuv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ntage,câblage, programmation, tests…) dans la deuxième période de stage de 3 semai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ote de cad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981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 permet de clarifier le projet, elle préc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895480"/>
            <a:ext cx="6933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 livrables du proje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sier relatif à l’étude préa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sier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système install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ésultats des tests à la mise en oeuv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d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validation des proje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 coordonnées de l’entreprise, la description de l’activ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définition du projet comprenant les éléments de la note de cadr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 contrat individuel de chaque étudiant sur un même proj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 moyens mis à disposition des étudi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idation des cahiers des charges des projets qui comprenne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5105520"/>
            <a:ext cx="7696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validation est sous la responsabilité de l’IA IPR chargé de la coordination du BTS MI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avant la fin du premier trimestre de l’année scolai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Le MACROPLANNING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981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équipes pédagogiques fixent le positionnement des périodes de stage avec les contraintes suiv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3276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e ne peut pas commencer avant la validation par la commission (inter)académ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343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intervalle entre l’étude de réalisation et la réalisation doit pouvoir absorber les délais de livraison du matériel commandé suite à cette é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57913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609480"/>
            <a:ext cx="62485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éfinition du proje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(annexe IIIc du référentie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057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projet technique de seconde année a une double finalit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30481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éter les acquis dans des situations particulières qui ont intérêt à s’appuyer sur un projet technique en milieu industr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876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ter les connaissances acqui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5486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rque: Le projet technique doit relever d’une situation industrielle authent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Le MACROPLANNING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905120"/>
            <a:ext cx="815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iant définit, ordonne et planifie les tâches nécessaires à la réalisation du proje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2666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3352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âches de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’étude technique préal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 beso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3962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âches de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’étude de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44956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âches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se en  œuv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345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5410080"/>
            <a:ext cx="8382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Le Macroplanning est un élément  de l’é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écution des tâches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343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mise en œuv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ait appel a des connaissances acquises principalement en «Activités pratiques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e temps consacré à la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se en œuvr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du projet ne doit pas être inférieur à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5909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52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’étude préalable et l’élaboration du dossier de réalis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nt des activités permettant de  synthétiser les savoirs des différents domaines de la formatio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écution des tâches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5670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endant le déroulement du projet, un suivi est mis en place et permet à l’étudiant d’animer des réunions techniques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523880"/>
            <a:ext cx="8229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première période de st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 réservé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’étude préal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 demandée dans la note de cad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’étude de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3480" indent="-206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ventuellement à l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se en œuvre partiel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6483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deuxième période de st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 exclusivement réservée à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réalisation ( mise en  œuvre de la solu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écution des tâches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iant vers la fin de la première période de 3 semaines (après l’étude de réalisation) organise une revue de projet avec le tuteur et au moins un enseignant chargé de l’enseignement des activités pratiq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anime cette revue de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quipe pédagogique et le tuteur évaluent la qualité de l’animation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(une grille d’évaluation nationale est en cours de réalisa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projet est support de la validation de la compétence CP5.3 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nimer une réunion techni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lan du proje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981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tudiant réunit pour la présentation de son proje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281952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note de cad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macro 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documents du dossier de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éléments justifiant la réalisation (photos,vidéo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bilan technique de la solution mise en œuvre  et la justification des écarts (temporel, technique…) entre la solution réalisée et la solution prév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3480" indent="-285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345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 proj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nthès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565200"/>
            <a:ext cx="914400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équen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286000"/>
            <a:ext cx="8458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 niveau de l’entrepris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1280" indent="-326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présentation du BTS rénové, du contenu des stages en entreprise et plus particulièrement du projet techniqu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1280" indent="-326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forcement des partenariats avec les entrep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1280" indent="-326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équen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371600"/>
            <a:ext cx="8001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 niveau de la form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te implication de l’ensemble de l’équipe pédag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à la Démarche de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à la Communication  et à l’Animation de réunions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976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 proj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équen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295280"/>
            <a:ext cx="883908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Apports en « Activités pratiques »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65000" indent="-98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xplicitation de la démarche de proje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0360" indent="-101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étapes d’un projet (Note de cadrage, Macroplanning, …, Revue de projet, Bilan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0360" indent="-101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outils de gestion associ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0360" indent="-101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ise en œuvre de la réalis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65000" indent="-98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formation à l’animation de réunions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5029200"/>
            <a:ext cx="87631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orts dans les autres discip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tude préa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tude de réalisatio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23880" y="24382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RCI de votre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étences visées par le projet 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P1.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éali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 projet technique en milieu professionn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276720"/>
            <a:ext cx="731520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P5.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im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e réunion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378400"/>
            <a:ext cx="73152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e projet est un des supports de l’épreuve E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« Activités en milieu professionnel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8229600" y="1981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Less" w="21600" h="24688">
                <a:moveTo>
                  <a:pt x="5273" y="5529"/>
                </a:moveTo>
                <a:lnTo>
                  <a:pt x="12271" y="5529"/>
                </a:lnTo>
                <a:lnTo>
                  <a:pt x="16327" y="9028"/>
                </a:lnTo>
                <a:lnTo>
                  <a:pt x="16327" y="19159"/>
                </a:lnTo>
                <a:lnTo>
                  <a:pt x="5273" y="19159"/>
                </a:lnTo>
                <a:close/>
              </a:path>
              <a:path fill="darken" w="21600" h="24688">
                <a:moveTo>
                  <a:pt x="12271" y="5529"/>
                </a:moveTo>
                <a:lnTo>
                  <a:pt x="16327" y="9028"/>
                </a:lnTo>
                <a:lnTo>
                  <a:pt x="12271" y="902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P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7238880" y="3276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Less" w="21600" h="24673">
                <a:moveTo>
                  <a:pt x="5273" y="5522"/>
                </a:moveTo>
                <a:lnTo>
                  <a:pt x="12271" y="5522"/>
                </a:lnTo>
                <a:lnTo>
                  <a:pt x="16327" y="9021"/>
                </a:lnTo>
                <a:lnTo>
                  <a:pt x="16327" y="19152"/>
                </a:lnTo>
                <a:lnTo>
                  <a:pt x="5273" y="19152"/>
                </a:lnTo>
                <a:close/>
              </a:path>
              <a:path fill="darken" w="21600" h="24673">
                <a:moveTo>
                  <a:pt x="12271" y="5522"/>
                </a:moveTo>
                <a:lnTo>
                  <a:pt x="16327" y="9021"/>
                </a:lnTo>
                <a:lnTo>
                  <a:pt x="12271" y="9021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P5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7924680" y="4114800"/>
            <a:ext cx="990720" cy="106668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23256">
                <a:moveTo>
                  <a:pt x="0" y="0"/>
                </a:moveTo>
                <a:lnTo>
                  <a:pt x="21600" y="0"/>
                </a:lnTo>
                <a:lnTo>
                  <a:pt x="21600" y="23256"/>
                </a:lnTo>
                <a:lnTo>
                  <a:pt x="0" y="23256"/>
                </a:lnTo>
                <a:close/>
              </a:path>
              <a:path fill="lightenLess" w="21600" h="23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6">
                <a:moveTo>
                  <a:pt x="21600" y="0"/>
                </a:moveTo>
                <a:lnTo>
                  <a:pt x="21600" y="23256"/>
                </a:lnTo>
                <a:lnTo>
                  <a:pt x="20200" y="21856"/>
                </a:lnTo>
                <a:lnTo>
                  <a:pt x="20200" y="1400"/>
                </a:lnTo>
                <a:close/>
              </a:path>
              <a:path fill="darkenLess" w="21600" h="23256">
                <a:moveTo>
                  <a:pt x="21600" y="23256"/>
                </a:moveTo>
                <a:lnTo>
                  <a:pt x="0" y="23256"/>
                </a:lnTo>
                <a:lnTo>
                  <a:pt x="1400" y="21856"/>
                </a:lnTo>
                <a:lnTo>
                  <a:pt x="20200" y="21856"/>
                </a:lnTo>
                <a:close/>
              </a:path>
              <a:path fill="lighten" w="21600" h="23256">
                <a:moveTo>
                  <a:pt x="0" y="23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6"/>
                </a:lnTo>
                <a:close/>
              </a:path>
              <a:path fill="darkenLess" w="21600" h="23256">
                <a:moveTo>
                  <a:pt x="5273" y="4813"/>
                </a:moveTo>
                <a:lnTo>
                  <a:pt x="12271" y="4813"/>
                </a:lnTo>
                <a:lnTo>
                  <a:pt x="16327" y="8312"/>
                </a:lnTo>
                <a:lnTo>
                  <a:pt x="16327" y="18443"/>
                </a:lnTo>
                <a:lnTo>
                  <a:pt x="5273" y="18443"/>
                </a:lnTo>
                <a:close/>
              </a:path>
              <a:path fill="darken" w="21600" h="23256">
                <a:moveTo>
                  <a:pt x="12271" y="4813"/>
                </a:moveTo>
                <a:lnTo>
                  <a:pt x="16327" y="8312"/>
                </a:lnTo>
                <a:lnTo>
                  <a:pt x="12271" y="8312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es savoi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ssoci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777240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Less" w="21600" h="24303">
                <a:moveTo>
                  <a:pt x="5273" y="5337"/>
                </a:moveTo>
                <a:lnTo>
                  <a:pt x="12271" y="5337"/>
                </a:lnTo>
                <a:lnTo>
                  <a:pt x="16327" y="8835"/>
                </a:lnTo>
                <a:lnTo>
                  <a:pt x="16327" y="18967"/>
                </a:lnTo>
                <a:lnTo>
                  <a:pt x="5273" y="18967"/>
                </a:lnTo>
                <a:close/>
              </a:path>
              <a:path fill="darken" w="21600" h="24303">
                <a:moveTo>
                  <a:pt x="12271" y="5337"/>
                </a:moveTo>
                <a:lnTo>
                  <a:pt x="16327" y="8835"/>
                </a:lnTo>
                <a:lnTo>
                  <a:pt x="12271" y="8835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E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705720" cy="59137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66"/>
                </a:solidFill>
                <a:latin typeface="Arial"/>
              </a:rPr>
              <a:t>CP1.5 : Réaliser un projet technique en milieu industri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22960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 C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295280" y="882720"/>
            <a:ext cx="6172200" cy="5975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Arial"/>
              </a:rPr>
              <a:t>CP5.3 : Animer une réunion techniqu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6" name="">
            <a:hlinkClick r:id="rId2" action="ppaction://hlinksldjump"/>
          </p:cNvPr>
          <p:cNvSpPr/>
          <p:nvPr/>
        </p:nvSpPr>
        <p:spPr>
          <a:xfrm>
            <a:off x="822960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 C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Arial"/>
              </a:rPr>
              <a:t>S9 Associés au proje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315200" cy="5892840"/>
          </a:xfrm>
          <a:prstGeom prst="rect">
            <a:avLst/>
          </a:prstGeom>
          <a:ln w="0">
            <a:noFill/>
          </a:ln>
        </p:spPr>
      </p:pic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86104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 C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8380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31240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479920" cy="65530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66"/>
                </a:solidFill>
                <a:latin typeface="Arial"/>
              </a:rPr>
              <a:t>U63 : activités en milieu industriel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981080" y="243000"/>
            <a:ext cx="4767480" cy="661500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22960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 C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2133720"/>
            <a:ext cx="350496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4419720"/>
            <a:ext cx="4496040" cy="1904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Évolution du projet en BTS MI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0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Contrainte imposée par l’ancien référentiel : validation de la compétence CP3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: méthode de maintenance associée à des compétences de réalisati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962520"/>
            <a:ext cx="75438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uveau référentiel :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validation des compétences liées à la stratégie de maintenance par une épreuve spécifique CC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3657600"/>
            <a:ext cx="75438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65000" indent="-3078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g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 d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ctivités d’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Étud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t d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éalisatio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 solutions techniques en milieu industri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80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actéristique générale des proj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149800"/>
            <a:ext cx="64008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écessité d’une période Entreprise de 6 semaines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447920"/>
            <a:ext cx="784872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00"/>
                </a:solidFill>
                <a:latin typeface="Arial"/>
              </a:rPr>
              <a:t>Conséquences</a:t>
            </a:r>
            <a:r>
              <a:rPr b="0" i="1" lang="fr-FR" sz="24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5000" indent="-3078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Élargissement du champ des activités pouvant être développées par le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mp des activités liées au projet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annexe III b du référentie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19980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Étudi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nstaller et mettre au 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un moyen de surveillanc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12408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Étudi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nstaller et mettre au 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un système d’aide au diagnostic sur une ou plusieurs machines 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5100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oncevoi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t </a:t>
            </a:r>
            <a:r>
              <a:rPr b="1" i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éalise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s solutions d’amélioration d’un système de production en vue d’améliorer sa fiabilité et/ou sa maintenabilité et/ou sa sécurité 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19980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oncevo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t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éali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n outillage spécifique d’aide à la maintenance 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mp des activités liées au projet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annexe III b du référentie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257800"/>
            <a:ext cx="80773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Définir</a:t>
            </a:r>
            <a:r>
              <a:rPr b="0" lang="en-US" sz="2400" spc="-1" strike="noStrike">
                <a:solidFill>
                  <a:srgbClr val="ccff99"/>
                </a:solidFill>
                <a:latin typeface="Arial"/>
                <a:ea typeface="Times New Roman"/>
              </a:rPr>
              <a:t> ou optimis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un plan de maintenance préventive et le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alider par sa mise en œuv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581280"/>
            <a:ext cx="80769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Prépar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’installation et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articip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à la réception et la mise en service de nouveaux biens 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mp des activités liées au projet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annexe III b du référentie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114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Prépar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t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articip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à une intervention lourde de maintenance corrective ou préventiv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ystémat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133720"/>
            <a:ext cx="79246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Optimis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 gestion quotidienne de la fonction maintenance et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alider les solutions par leur mise en œuvr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démarche de proje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Projet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914400" y="838080"/>
            <a:ext cx="701028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emande de Réalisation d’un projet issue de l’entrepri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914400" y="1600200"/>
            <a:ext cx="701028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Étude de faisabilit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914400" y="2286000"/>
            <a:ext cx="701028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e projet est retenu et confié à un étudi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971800"/>
            <a:ext cx="70102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édaction de la note de cad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914400" y="3581280"/>
            <a:ext cx="7010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alidation du projet par une commission (inter)académ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rId5" action="ppaction://hlinksldjump"/>
          </p:cNvPr>
          <p:cNvSpPr/>
          <p:nvPr/>
        </p:nvSpPr>
        <p:spPr>
          <a:xfrm>
            <a:off x="914400" y="3886200"/>
            <a:ext cx="701028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6" action="ppaction://hlinksldjump"/>
          </p:cNvPr>
          <p:cNvSpPr/>
          <p:nvPr/>
        </p:nvSpPr>
        <p:spPr>
          <a:xfrm>
            <a:off x="914400" y="4724280"/>
            <a:ext cx="38862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ECUTION DES TA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7" action="ppaction://hlinksldjump"/>
          </p:cNvPr>
          <p:cNvSpPr/>
          <p:nvPr/>
        </p:nvSpPr>
        <p:spPr>
          <a:xfrm>
            <a:off x="914400" y="5867280"/>
            <a:ext cx="70102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LA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724280"/>
            <a:ext cx="304776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É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257800"/>
            <a:ext cx="304776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Réalis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52280" y="533520"/>
            <a:ext cx="762120" cy="914400"/>
            <a:chOff x="152280" y="533520"/>
            <a:chExt cx="762120" cy="914400"/>
          </a:xfrm>
        </p:grpSpPr>
        <p:sp>
          <p:nvSpPr>
            <p:cNvPr id="142" name=""/>
            <p:cNvSpPr/>
            <p:nvPr/>
          </p:nvSpPr>
          <p:spPr>
            <a:xfrm rot="10800000">
              <a:off x="152280" y="533520"/>
              <a:ext cx="609840" cy="914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Étudi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9907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52280" y="2666880"/>
            <a:ext cx="762120" cy="914400"/>
            <a:chOff x="152280" y="2666880"/>
            <a:chExt cx="762120" cy="914400"/>
          </a:xfrm>
        </p:grpSpPr>
        <p:sp>
          <p:nvSpPr>
            <p:cNvPr id="145" name=""/>
            <p:cNvSpPr/>
            <p:nvPr/>
          </p:nvSpPr>
          <p:spPr>
            <a:xfrm rot="10800000">
              <a:off x="152280" y="2666880"/>
              <a:ext cx="609840" cy="914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Étudi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20" y="3200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924680" y="1371600"/>
            <a:ext cx="532800" cy="2286000"/>
            <a:chOff x="7924680" y="1371600"/>
            <a:chExt cx="532800" cy="2286000"/>
          </a:xfrm>
        </p:grpSpPr>
        <p:sp>
          <p:nvSpPr>
            <p:cNvPr id="148" name=""/>
            <p:cNvSpPr/>
            <p:nvPr/>
          </p:nvSpPr>
          <p:spPr>
            <a:xfrm rot="10800000">
              <a:off x="8084160" y="1371600"/>
              <a:ext cx="373320" cy="228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Équipe pédagogique ST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924680" y="1905120"/>
              <a:ext cx="15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924680" y="2514600"/>
              <a:ext cx="15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924680" y="3200400"/>
              <a:ext cx="15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924680" y="3581280"/>
              <a:ext cx="15984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52280" y="3885840"/>
            <a:ext cx="762120" cy="2818440"/>
            <a:chOff x="152280" y="3885840"/>
            <a:chExt cx="762120" cy="2818440"/>
          </a:xfrm>
        </p:grpSpPr>
        <p:grpSp>
          <p:nvGrpSpPr>
            <p:cNvPr id="154" name=""/>
            <p:cNvGrpSpPr/>
            <p:nvPr/>
          </p:nvGrpSpPr>
          <p:grpSpPr>
            <a:xfrm>
              <a:off x="152280" y="3885840"/>
              <a:ext cx="762120" cy="2818440"/>
              <a:chOff x="152280" y="3885840"/>
              <a:chExt cx="762120" cy="2818440"/>
            </a:xfrm>
          </p:grpSpPr>
          <p:sp>
            <p:nvSpPr>
              <p:cNvPr id="155" name=""/>
              <p:cNvSpPr/>
              <p:nvPr/>
            </p:nvSpPr>
            <p:spPr>
              <a:xfrm rot="10800000">
                <a:off x="152280" y="3885840"/>
                <a:ext cx="609840" cy="2818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Étudia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2120" y="5530680"/>
                <a:ext cx="152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762120" y="4191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120" y="60958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924320" y="380880"/>
            <a:ext cx="1219680" cy="1067040"/>
            <a:chOff x="7924320" y="380880"/>
            <a:chExt cx="1219680" cy="1067040"/>
          </a:xfrm>
        </p:grpSpPr>
        <p:sp>
          <p:nvSpPr>
            <p:cNvPr id="160" name=""/>
            <p:cNvSpPr/>
            <p:nvPr/>
          </p:nvSpPr>
          <p:spPr>
            <a:xfrm rot="10800000">
              <a:off x="8686800" y="380880"/>
              <a:ext cx="457200" cy="1067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L’entrepri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924320" y="990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rot="10800000">
            <a:off x="8686800" y="3962520"/>
            <a:ext cx="457200" cy="228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’entrepr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rId8" action="ppaction://hlinksldjump"/>
          </p:cNvPr>
          <p:cNvSpPr/>
          <p:nvPr/>
        </p:nvSpPr>
        <p:spPr>
          <a:xfrm>
            <a:off x="129528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2375" h="21600">
                <a:moveTo>
                  <a:pt x="10660" y="3985"/>
                </a:moveTo>
                <a:lnTo>
                  <a:pt x="17658" y="3985"/>
                </a:lnTo>
                <a:lnTo>
                  <a:pt x="21714" y="7484"/>
                </a:lnTo>
                <a:lnTo>
                  <a:pt x="21714" y="17615"/>
                </a:lnTo>
                <a:lnTo>
                  <a:pt x="10660" y="17615"/>
                </a:lnTo>
                <a:close/>
              </a:path>
              <a:path fill="darken" w="32375" h="21600">
                <a:moveTo>
                  <a:pt x="17658" y="3985"/>
                </a:moveTo>
                <a:lnTo>
                  <a:pt x="21714" y="7484"/>
                </a:lnTo>
                <a:lnTo>
                  <a:pt x="17658" y="748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thè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07:41:13Z</dcterms:created>
  <dc:creator>DURIEZ DOMINIQUE</dc:creator>
  <dc:description/>
  <dc:language>en-US</dc:language>
  <cp:lastModifiedBy>DURIEZ DOMINIQUE</cp:lastModifiedBy>
  <dcterms:modified xsi:type="dcterms:W3CDTF">2005-12-01T19:21:24Z</dcterms:modified>
  <cp:revision>39</cp:revision>
  <dc:subject/>
  <dc:title>Le projet technique S9</dc:title>
</cp:coreProperties>
</file>