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9F0-713A-4D3D-9A42-884C1CA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301-1164-40D9-827C-EA29312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19E-CD08-4260-878C-9CD6D271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B60-C250-47A0-8109-45712D15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BF7-46AB-4597-A4AF-88444FF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6E1-B85D-40ED-B19B-445C246E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2D8E-DB25-46D0-8E61-3925567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32B-90E2-4EF2-82B5-2D978D5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FED-4032-4611-A1D9-95BECA5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2A6-EAE3-4A1C-8D53-0443B82B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248A-F4B2-475A-A7BC-888060F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EA0-E45A-4B14-A523-CF8BF65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BEC-C170-43DB-A812-00E2409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110F-B357-43A0-A58F-AC8E030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4B93-35DD-4BBC-B918-1919E48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0F2-0654-4E50-B9CB-71A3D5C4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0B1-3871-4A33-8272-626533C4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EF2-C924-4361-AD43-3C51B21C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484-8A6B-4D38-BFFB-5866464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07F-28AE-4791-A9C8-A8485D8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649-6550-4752-89E7-B5865F20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CF7-532F-487D-B0F4-FA3E89B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82F-6645-41A3-9C8E-8C346ED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78B-23A5-4003-93CB-6E6EA26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44D4-4DC6-485B-BBBA-60A06C62A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C9E-8526-4877-93FC-33CE5AF22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8428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65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 en place d’une démarche inducti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éfinition de séquences pédagogiques autour d’un voir 2 i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découverte » suivi d’une synthè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 approfondissement » permettant l’ancrage des savoir-fa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072040"/>
            <a:ext cx="7632720" cy="15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es contraintes liées aux équipements et aux volumes horaires ne sont pas toujours compatibles avec cette démar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8428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place d’une démarche inducti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éfinition de séquences pédagogiques autour d’un voir 2 ite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découverte » suivi d’une synthè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P «  approfondissement » permettant l’ancrage des savoir-fa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8464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se en compt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Gradation des difficult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pport des savoirs disciplinai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640" indent="-25056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-"/>
              <a:tabLst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Niveau d’autonomie des étudi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64960"/>
                <a:tab algn="l" pos="8082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068640"/>
            <a:ext cx="76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 premières activités pratiques doivent pouvoir être réalisées sans qu’aucun cours préalable ne soit nécessai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et an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944720"/>
          <a:ext cx="8675280" cy="5661000"/>
        </p:xfrm>
        <a:graphic>
          <a:graphicData uri="http://schemas.openxmlformats.org/drawingml/2006/table">
            <a:tbl>
              <a:tblPr/>
              <a:tblGrid>
                <a:gridCol w="5932440"/>
                <a:gridCol w="2491200"/>
                <a:gridCol w="25164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’activité / domaine de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33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lotage des systè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liorations et adapt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préven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évention des ris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et an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ion du projet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SATION DES ENSEIGN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26828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e de répartition du temps d’enseig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23623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 PRATIQUES</a:t>
            </a:r>
            <a:br>
              <a:rPr sz="4800"/>
            </a:b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9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85264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l’arrêt en cours de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45132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une intervention de l’opérateur de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12416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au déclenchement d’une fonction de sécu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108160"/>
            <a:ext cx="3066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477216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un fonctionnement dégra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419800"/>
            <a:ext cx="7991280" cy="459720"/>
          </a:xfrm>
          <a:prstGeom prst="rect">
            <a:avLst/>
          </a:prstGeom>
          <a:gradFill rotWithShape="0">
            <a:gsLst>
              <a:gs pos="0">
                <a:srgbClr val="fefcfb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e à la modification de paramè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1844640"/>
            <a:ext cx="30668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35772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nge standard d’un réducteur, d’une pom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88296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placement d’un couple conique, de joints d’étanchéité, de rou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476424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’un actionneur et 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5289480"/>
            <a:ext cx="7632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e capteurs et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80536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ment d’un pré actionneur, d’un organe de protection, et réglages associ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462040"/>
            <a:ext cx="7632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placement d’un organe de guidage ou d’un adapt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4360" y="1973160"/>
            <a:ext cx="43192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enance préven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5661000"/>
            <a:ext cx="7632720" cy="82548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trôles non destructifs (ultra-son, ressuage, magnétoscopie, courants de Foucaul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71628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fluides hydraul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436572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installations par thermograp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5013360"/>
            <a:ext cx="7632720" cy="45972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par analyseur de rés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2708280"/>
            <a:ext cx="7632720" cy="825480"/>
          </a:xfrm>
          <a:prstGeom prst="rect">
            <a:avLst/>
          </a:prstGeom>
          <a:gradFill rotWithShape="0">
            <a:gsLst>
              <a:gs pos="0">
                <a:srgbClr val="fef5fe"/>
              </a:gs>
              <a:gs pos="100000">
                <a:srgbClr val="ff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illance des machines tournantes par analyse vib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5640" y="1773360"/>
            <a:ext cx="3067200" cy="520560"/>
          </a:xfrm>
          <a:prstGeom prst="rect">
            <a:avLst/>
          </a:prstGeom>
          <a:gradFill rotWithShape="0">
            <a:gsLst>
              <a:gs pos="0">
                <a:srgbClr val="f8e1e1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élio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6893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mission de message sur console de dialog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99412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illance par temps d’enveloppe ou retour d’ét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35640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ôle automatique d’isolement par module dédi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41292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eillance par réseau Ethernet ou câbl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4210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lation de capteur, réglages et paramét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24340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de au diagnostic intégré sur automate (pag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63309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e en place d’une carte de commande d’axe asserv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EXEMPLES                           D’ACTIVI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780160"/>
            <a:ext cx="7848720" cy="429120"/>
          </a:xfrm>
          <a:prstGeom prst="rect">
            <a:avLst/>
          </a:prstGeom>
          <a:gradFill rotWithShape="0">
            <a:gsLst>
              <a:gs pos="0">
                <a:srgbClr val="f5fef5"/>
              </a:gs>
              <a:gs pos="100000">
                <a:srgbClr val="6dff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Mise en place d’un régulateur PID sur un circuit hy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92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MATION AU PROJET TECHNIQUE EN MILIEU PROFESSIONN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48428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76320" indent="-7632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étapes de la démarche de proj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outils de la démar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cro-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9200" indent="-1040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76320" indent="-763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4076640"/>
            <a:ext cx="8424720" cy="266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à l’étude préalable et à l’étude de réalisation est effectué dans les différentes disciplines professionn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a terminologie liée au projet doit être comm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aux étapes du projet et à la note de cadrage doit être réalisé avant le stage de 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è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1341360"/>
            <a:ext cx="84582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92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MATION À LA        COMMUNICATION TECHNI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a réd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rapport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argumentaire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1920" indent="-60840">
              <a:lnSpc>
                <a:spcPct val="100000"/>
              </a:lnSpc>
              <a:spcAft>
                <a:spcPts val="1199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un compte rendu d’activ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a présentation o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ntissage à l’organisation et à l’animation d’une réunion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640" indent="-4464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621400"/>
            <a:ext cx="8424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’apprentissage lié à la rédaction et à la présentation orale doit être abordé dès la 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è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nnée de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IPEMENTS N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ESSAI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70172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tèm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us systè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ériel de surveill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5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ils informatiqu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éda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itement des donné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ésentation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Aft>
                <a:spcPts val="1301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268280"/>
          <a:ext cx="8640720" cy="4622760"/>
        </p:xfrm>
        <a:graphic>
          <a:graphicData uri="http://schemas.openxmlformats.org/drawingml/2006/table">
            <a:tbl>
              <a:tblPr/>
              <a:tblGrid>
                <a:gridCol w="1439640"/>
                <a:gridCol w="410364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standard d’un réduc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standard d’une pom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joints d’étanchéit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ouple co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roul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apteu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s actionneu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placement convertisseur de fréqu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640720" cy="4351320"/>
        </p:xfrm>
        <a:graphic>
          <a:graphicData uri="http://schemas.openxmlformats.org/drawingml/2006/table">
            <a:tbl>
              <a:tblPr/>
              <a:tblGrid>
                <a:gridCol w="1439640"/>
                <a:gridCol w="410364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te à un arrêt en cours de cyc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te à une intervention de l’opéra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 déclenchement d’une fonction de sécurit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 fonctionnement dégrad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ite à une modification de paramèt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573408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4000" y="1268280"/>
          <a:ext cx="8640720" cy="4927680"/>
        </p:xfrm>
        <a:graphic>
          <a:graphicData uri="http://schemas.openxmlformats.org/drawingml/2006/table">
            <a:tbl>
              <a:tblPr/>
              <a:tblGrid>
                <a:gridCol w="1622160"/>
                <a:gridCol w="392112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élio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tallation d’un nouveau capt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e en place d’une surveill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dition de message sur cons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ment de techn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d’un syst de surv. des paramètres de fonc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d’un module de contrôle d’isol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de au diag sur API (carte we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e en place régulateur P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324000" y="580536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FINAL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DES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3573360"/>
            <a:ext cx="84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épannage ou ré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veillance et insp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méli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46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quisition des savoirs et des savoir-faire nécessaires à la mise en œuvre des activités professionnell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434988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En sécur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286240"/>
            <a:ext cx="7632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a professionnalisation des activités pratiques interdit tout développement de TP discipli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260280"/>
            <a:ext cx="84200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DENTIFICATION DES BESOI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4000" y="1268280"/>
          <a:ext cx="8640720" cy="3346560"/>
        </p:xfrm>
        <a:graphic>
          <a:graphicData uri="http://schemas.openxmlformats.org/drawingml/2006/table">
            <a:tbl>
              <a:tblPr/>
              <a:tblGrid>
                <a:gridCol w="1511280"/>
                <a:gridCol w="4032000"/>
                <a:gridCol w="720720"/>
                <a:gridCol w="720720"/>
                <a:gridCol w="719280"/>
                <a:gridCol w="936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és pratiq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n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tenan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ven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eillance machine tournante par analyse vibratoi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eillance d’une armoire élect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illance des hu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ôles non destructif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24000" y="5726160"/>
            <a:ext cx="8569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our chaque activité, les équipes pédagogiques prendront soin de déterminer les critères qui permettront d’effectuer une analyse plus fine de la mise en œuvre de l’activ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41400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CIDENCE SUR LA STRUCTURE ET L’ORGANIS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7002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lnSpc>
                <a:spcPct val="100000"/>
              </a:lnSpc>
              <a:spcAft>
                <a:spcPts val="7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e en place des z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ne systèmes / sous systè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buClr>
                <a:srgbClr val="ffff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ne 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93880" indent="-35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r et acquérir les équipements complémentaires nécessaires à la mise en œuvre des épreuves d’exa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née, prévoir une journée complète pour les  activités pratiques (en prévision des CC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20720" y="278136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erci de votre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FINAL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DES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640" y="2781360"/>
            <a:ext cx="84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Aft>
                <a:spcPts val="1400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jet en milieu professi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imation d’une réunion techni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844640"/>
            <a:ext cx="84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quisition de compétences spécifiqu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4046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ACTIONS AVEC                                       LES AUTRES ENSEIGN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3503520"/>
            <a:ext cx="3311280" cy="136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és pra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2062080"/>
            <a:ext cx="3187800" cy="1621080"/>
            <a:chOff x="250920" y="2062080"/>
            <a:chExt cx="3187800" cy="1621080"/>
          </a:xfrm>
        </p:grpSpPr>
        <p:sp>
          <p:nvSpPr>
            <p:cNvPr id="100" name=""/>
            <p:cNvSpPr/>
            <p:nvPr/>
          </p:nvSpPr>
          <p:spPr>
            <a:xfrm>
              <a:off x="250920" y="2062080"/>
              <a:ext cx="295092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5                    A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756200">
              <a:off x="2846520" y="3339720"/>
              <a:ext cx="576000" cy="216000"/>
            </a:xfrm>
            <a:custGeom>
              <a:avLst/>
              <a:gdLst>
                <a:gd name="textAreaLeft" fmla="*/ 90000 w 576000"/>
                <a:gd name="textAreaRight" fmla="*/ 504000 w 5760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79800" y="2062080"/>
            <a:ext cx="3111840" cy="1638720"/>
            <a:chOff x="5779800" y="2062080"/>
            <a:chExt cx="3111840" cy="1638720"/>
          </a:xfrm>
        </p:grpSpPr>
        <p:sp>
          <p:nvSpPr>
            <p:cNvPr id="103" name=""/>
            <p:cNvSpPr/>
            <p:nvPr/>
          </p:nvSpPr>
          <p:spPr>
            <a:xfrm>
              <a:off x="5940360" y="206208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tomat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9843800">
              <a:off x="5794920" y="3357720"/>
              <a:ext cx="576360" cy="21564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08520" y="4670280"/>
            <a:ext cx="3183120" cy="1638360"/>
            <a:chOff x="5708520" y="4670280"/>
            <a:chExt cx="3183120" cy="1638360"/>
          </a:xfrm>
        </p:grpSpPr>
        <p:sp>
          <p:nvSpPr>
            <p:cNvPr id="106" name=""/>
            <p:cNvSpPr/>
            <p:nvPr/>
          </p:nvSpPr>
          <p:spPr>
            <a:xfrm>
              <a:off x="5940360" y="49417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tégie de mainten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 rot="1756200">
              <a:off x="5724360" y="4797360"/>
              <a:ext cx="576360" cy="21600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79280" y="4670280"/>
            <a:ext cx="3184920" cy="1638360"/>
            <a:chOff x="179280" y="4670280"/>
            <a:chExt cx="3184920" cy="1638360"/>
          </a:xfrm>
        </p:grpSpPr>
        <p:sp>
          <p:nvSpPr>
            <p:cNvPr id="109" name=""/>
            <p:cNvSpPr/>
            <p:nvPr/>
          </p:nvSpPr>
          <p:spPr>
            <a:xfrm>
              <a:off x="179280" y="4941720"/>
              <a:ext cx="2951280" cy="136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énie électr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843800">
              <a:off x="2771640" y="4797360"/>
              <a:ext cx="576360" cy="21600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92360" y="1844640"/>
            <a:ext cx="424836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écomposition fonctionnelle et structur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ntage / démon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ractérisation des compos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844640"/>
            <a:ext cx="4248000" cy="22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ructure des systèmes automatis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posants des chaînes fonct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gramme API, Consoles de dialo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060880"/>
            <a:ext cx="424800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rminolog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utils de surveil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M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5060880"/>
            <a:ext cx="4248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tection des person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naissances des compos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4046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ACTIONS AVEC                                       LES AUTRES ENSEIGN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565360"/>
            <a:ext cx="518508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écessité de planifier les TP réalisés en activités pratiques afin que chaque enseignement disciplinaire puisse en tenir compte dans sa propre plan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APPORTS SP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CIFIQUES                                        AUX ACTIVIT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  <a:ea typeface="Arial"/>
              </a:rPr>
              <a:t>S PRAT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640" y="1916280"/>
            <a:ext cx="8461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agno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t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é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ptation et améli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églage, mise au point, essais et remise en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érations de surveillance et d’insp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ganisation et logistique de 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évention des risques professio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t technique en milieu professi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Aft>
                <a:spcPts val="1199"/>
              </a:spcAft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 techniq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844640"/>
            <a:ext cx="84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STRA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GIE P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DAGOG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484280"/>
            <a:ext cx="86756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’organisation des activités pratiques se fait autour d’items géné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81000"/>
                <a:tab algn="l" pos="1616040"/>
                <a:tab algn="l" pos="259704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EXEMPLES D’ITEMS 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É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R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32360" y="2349360"/>
            <a:ext cx="3146400" cy="1177200"/>
            <a:chOff x="4932360" y="2349360"/>
            <a:chExt cx="3146400" cy="1177200"/>
          </a:xfrm>
        </p:grpSpPr>
        <p:sp>
          <p:nvSpPr>
            <p:cNvPr id="124" name=""/>
            <p:cNvSpPr/>
            <p:nvPr/>
          </p:nvSpPr>
          <p:spPr>
            <a:xfrm>
              <a:off x="4932360" y="234936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effecteu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32360" y="278100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chaînes d’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2360" y="318924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 chaînes d’acquisi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19320" y="3911760"/>
            <a:ext cx="313668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73720"/>
            <a:ext cx="32004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ations et amélio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799240"/>
            <a:ext cx="32004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lages, mise en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1268280"/>
            <a:ext cx="308772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lotage des systè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2520" y="1752480"/>
            <a:ext cx="30672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276640"/>
            <a:ext cx="30668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pa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932360" y="3933720"/>
            <a:ext cx="3146400" cy="1177200"/>
            <a:chOff x="4932360" y="3933720"/>
            <a:chExt cx="3146400" cy="1177200"/>
          </a:xfrm>
        </p:grpSpPr>
        <p:sp>
          <p:nvSpPr>
            <p:cNvPr id="134" name=""/>
            <p:cNvSpPr/>
            <p:nvPr/>
          </p:nvSpPr>
          <p:spPr>
            <a:xfrm>
              <a:off x="4932360" y="393372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analyse vibratoi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32360" y="436536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thermograph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2360" y="4773600"/>
              <a:ext cx="3146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 analyseur de résea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6920" y="2206800"/>
            <a:ext cx="7632720" cy="287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a logistique de maintenance et la prévention des risques professionnels ne constituent pas des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e sont des savoirs et des savoir-faire à mettre en œuvre tout au long de la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repmi</dc:creator>
  <dc:description/>
  <dc:language>en-US</dc:language>
  <cp:lastModifiedBy>Giezek François</cp:lastModifiedBy>
  <dcterms:modified xsi:type="dcterms:W3CDTF">2005-12-01T20:34:43Z</dcterms:modified>
  <cp:revision>149</cp:revision>
  <dc:subject/>
  <dc:title>activités et tâches professionnelles </dc:title>
</cp:coreProperties>
</file>