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AB0-85FF-42D4-AB88-B1BE831E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1F2-0340-4DE0-A5C0-9C748FC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B39-989B-4777-B82E-394E3D5E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DA4-0C08-49FA-9FF6-4013BF9F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DEBF-7709-40DF-92F0-7AEF86CF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B5AB-5818-4A15-A1B2-AEE168D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C759-1D9E-4FF2-B1DA-D862116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D909-3BFF-48B3-8EA5-9172A316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82FE-CD7D-4B47-B960-A0D8063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6CB8-216D-407B-857C-1D152A5D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E7C3-9E67-42FB-91F3-92D760B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C11-1E12-4C96-8557-B74DEBA4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A7A1-5127-48DD-8774-7A78CE2D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BDCC-EA66-4AA3-A1ED-AA8D745E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B8F8-15A0-4F0E-A383-1EC4AED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E78B-7FAC-4210-9C6E-37A4EF71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9449-E26C-4D7C-B262-75D147C4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2A8-52A1-423F-8670-45570246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41A-7E95-4B39-A06B-70FF6286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496-6E82-4C24-804C-ADA0D508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549-D5DB-42F2-B394-3B557405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71F-F1ED-40A7-88B2-54AA043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EE5-B1E2-42FF-9304-36A9BCC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42E-0BEE-4001-A1D1-32FAB5A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5382-939B-4699-AE79-A31EF818F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EFD1-CF6C-46AB-B1E9-5F2121951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" Target="slide2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2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29.xml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077320" cy="18288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utomatique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6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20844000">
            <a:off x="2595600" y="1773000"/>
            <a:ext cx="6548400" cy="2693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940360" y="2924280"/>
            <a:ext cx="50472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700280"/>
            <a:ext cx="295092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5 Analyse Fonctionnelle et Structurel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ours-TD-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1700280"/>
            <a:ext cx="295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6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matiqu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(Cours-TD-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31417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és pratiq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579920"/>
            <a:ext cx="295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7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énie électriqu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ours-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579920"/>
            <a:ext cx="295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8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atégie de maintenanc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Cours-T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292428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Quelle stratégie pédagogique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836640"/>
            <a:ext cx="7772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 horaires de 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6237360"/>
            <a:ext cx="756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quisition des savoirs en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1757520"/>
          <a:ext cx="7777440" cy="3400200"/>
        </p:xfrm>
        <a:graphic>
          <a:graphicData uri="http://schemas.openxmlformats.org/drawingml/2006/table">
            <a:tbl>
              <a:tblPr/>
              <a:tblGrid>
                <a:gridCol w="1555920"/>
                <a:gridCol w="1555560"/>
                <a:gridCol w="1554120"/>
                <a:gridCol w="1555920"/>
                <a:gridCol w="1555920"/>
              </a:tblGrid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r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né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èm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né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5219640" y="1773360"/>
            <a:ext cx="1513080" cy="3384360"/>
          </a:xfrm>
          <a:prstGeom prst="ellipse">
            <a:avLst/>
          </a:pr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5300640"/>
            <a:ext cx="1513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4 /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565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ment organiser, structurer, planifier l’enseignement de l’automatiqu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920" y="1844640"/>
            <a:ext cx="84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s sont définis à partir des contenus du référentie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xemp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chitecture d’une chaîne fonctionnelle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présentation et schématisation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ortement (dysfonctionnement et défaill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ilotage et dia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écurité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ande des SA (proportionnelle et asserv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I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I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040" y="1844640"/>
            <a:ext cx="85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332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 définition des Items ne couvre pas obligatoirement l’ensemble des savo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rtains contenus de formation peuvent être abordés de manière transversa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xempl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 la technologie pneumatique » peut être abordée par 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item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rchitecture d’une chaîne fonctionnel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présentation et schématisa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étude du comportement et des défailla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520" y="62064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séquences pédagogiques / Items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057400"/>
            <a:ext cx="843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équence pédagogique ( TP, TD, Cours) est définie autour d’un ou deux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organisation temporelle des Items abordés est fonction des « besoins » de l’enseignement des activités pr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4200" y="4797360"/>
            <a:ext cx="7634160" cy="1739160"/>
            <a:chOff x="754200" y="4797360"/>
            <a:chExt cx="7634160" cy="1739160"/>
          </a:xfrm>
        </p:grpSpPr>
        <p:sp>
          <p:nvSpPr>
            <p:cNvPr id="163" name=""/>
            <p:cNvSpPr/>
            <p:nvPr/>
          </p:nvSpPr>
          <p:spPr>
            <a:xfrm>
              <a:off x="754200" y="5589360"/>
              <a:ext cx="763416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Narrow"/>
                </a:rPr>
                <a:t>Définir les étapes de formation de l’Automatique (S6) en fonction des Activités pratiques (S9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5840" y="4797360"/>
              <a:ext cx="287640" cy="576360"/>
            </a:xfrm>
            <a:prstGeom prst="downArrow">
              <a:avLst>
                <a:gd name="adj1" fmla="val 50000"/>
                <a:gd name="adj2" fmla="val 50094"/>
              </a:avLst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781360"/>
            <a:ext cx="9144000" cy="367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278136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484280"/>
            <a:ext cx="91440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ES PRATIQUES (S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907920"/>
            <a:ext cx="4572000" cy="33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9000"/>
            <a:ext cx="298764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’Apprenti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907920"/>
            <a:ext cx="4572000" cy="337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1989000"/>
            <a:ext cx="262728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de Préparation à la certification (E61-E6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781360"/>
            <a:ext cx="18352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QUE (S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3211560"/>
            <a:ext cx="44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pprofondissement des acquis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3000"/>
            <a:ext cx="18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Vérification et harmonisation des acquis de Termi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294080"/>
            <a:ext cx="1908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cquisitions des pré requis nécessaires aux premières séquences d’Activités prati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42940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Apport de nouvelles connaissa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32130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Consolidation des acquis de l’étap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89000"/>
            <a:ext cx="338436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Renfor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781360"/>
            <a:ext cx="25210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2781360"/>
            <a:ext cx="45007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522936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éparation à la sous-épreuve E61 (Interven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81360" y="278136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4292640"/>
            <a:ext cx="44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éparation à la sous-épreuve E51 (Automatiqu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054840"/>
            <a:ext cx="914400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021280"/>
            <a:ext cx="9144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ES PRATIQUES (S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589640"/>
            <a:ext cx="4572000" cy="33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452920"/>
            <a:ext cx="298764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’Apprenti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589640"/>
            <a:ext cx="4572000" cy="337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5452920"/>
            <a:ext cx="262728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de Préparation à la certification (E61-E6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054840"/>
            <a:ext cx="18352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461280"/>
            <a:ext cx="91440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QUE (S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5452920"/>
            <a:ext cx="3384360" cy="52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Renfor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6054840"/>
            <a:ext cx="252108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6054840"/>
            <a:ext cx="45007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e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268280"/>
          <a:ext cx="8642160" cy="316872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1439640"/>
                <a:gridCol w="144144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e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chitecture d’une chaîne fonctionnel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ésentation et schématis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age et dialo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rt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écurité des Systèmes Automatis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eill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ande des Systèmes Automatis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685800" y="620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mple de répartition des Items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76280"/>
            <a:ext cx="7772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émarches pédagog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84200"/>
            <a:ext cx="9144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16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émarche déductive : Cours suivis de TD et/ou  de TP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16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émarche indu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TD et/ou TP suivis d’une synthèse en Cou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4221000"/>
            <a:ext cx="9036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/>
          </a:bodyPr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érie de TP sur 1 ou 2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ée moyenne de 4 sema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 d’obligation de réaliser tous les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èses permettant de formaliser ce qu’il faut reten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3213000"/>
            <a:ext cx="8642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elques règles de mise en place des Travaux Pratique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077320" cy="18288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’automatique du point de vue maintenance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62064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idence de la démarche pédagogique sur les équipements et les zone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00" y="162864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enseignement de l’Automatique s’appuie sur des problématiques réelles de maintenance à parti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3149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s systèmes d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ate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322272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3941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 dossiers indust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920" y="5734080"/>
            <a:ext cx="84247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Incidence sur les emplois du temp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(Accès à la Zone Système lors des séances d’Automatiqu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2997360"/>
            <a:ext cx="2808360" cy="86328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ZONE SY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8000" y="62064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idence de la démarche pédagogique sur les équipements et les zone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6165720"/>
            <a:ext cx="8424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tructurer un laboratoire d’Automatique/Génie Electr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3185280" y="3339360"/>
            <a:ext cx="648000" cy="179280"/>
          </a:xfrm>
          <a:prstGeom prst="rightArrow">
            <a:avLst>
              <a:gd name="adj1" fmla="val 50000"/>
              <a:gd name="adj2" fmla="val 90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2205000"/>
            <a:ext cx="2880000" cy="720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393372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3933720"/>
            <a:ext cx="3598920" cy="86364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tes de travail dédiés au 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5417280" y="3339360"/>
            <a:ext cx="648000" cy="179280"/>
          </a:xfrm>
          <a:prstGeom prst="rightArrow">
            <a:avLst>
              <a:gd name="adj1" fmla="val 50000"/>
              <a:gd name="adj2" fmla="val 90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5000" y="1511280"/>
            <a:ext cx="1650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08" y="22669"/>
                </a:moveTo>
                <a:lnTo>
                  <a:pt x="-997" y="4000"/>
                </a:lnTo>
              </a:path>
              <a:path w="21600" h="21600">
                <a:moveTo>
                  <a:pt x="-997" y="0"/>
                </a:moveTo>
                <a:lnTo>
                  <a:pt x="-997" y="21600"/>
                </a:lnTo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oi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oir f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349360"/>
            <a:ext cx="2484360" cy="12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457" y="25491"/>
                </a:moveTo>
                <a:lnTo>
                  <a:pt x="22262" y="1906"/>
                </a:lnTo>
              </a:path>
              <a:path w="21600" h="21600">
                <a:moveTo>
                  <a:pt x="22262" y="0"/>
                </a:moveTo>
                <a:lnTo>
                  <a:pt x="22262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réhender la problématique dans son contex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analyse de l’existant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herche de solu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47640" y="4786200"/>
            <a:ext cx="2718000" cy="8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858" y="-7043"/>
                </a:moveTo>
                <a:lnTo>
                  <a:pt x="22206" y="3074"/>
                </a:lnTo>
              </a:path>
              <a:path w="21600" h="21600">
                <a:moveTo>
                  <a:pt x="22206" y="0"/>
                </a:moveTo>
                <a:lnTo>
                  <a:pt x="22206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traire la partie concernée par les apprentissages souhait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4149720"/>
            <a:ext cx="719280" cy="287280"/>
          </a:xfrm>
          <a:prstGeom prst="rightArrow">
            <a:avLst>
              <a:gd name="adj1" fmla="val 50000"/>
              <a:gd name="adj2" fmla="val 625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2631960"/>
            <a:ext cx="2654280" cy="104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9" y="26032"/>
                </a:moveTo>
                <a:lnTo>
                  <a:pt x="-620" y="2364"/>
                </a:lnTo>
              </a:path>
              <a:path w="21600" h="21600">
                <a:moveTo>
                  <a:pt x="-620" y="0"/>
                </a:moveTo>
                <a:lnTo>
                  <a:pt x="-620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pprentissage des fondament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Validation d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6372720" y="530136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évolutions technologiques et l’automatique en 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3280" y="1916280"/>
            <a:ext cx="813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 surveilla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ôler et infor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ôl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se en compte des moyens  inclus à l’autom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uto diagnostic intégré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 PO par PC : développement de mé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évolutions technologiques et l’automatique en 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La surveillance :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rôler et infor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forme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transférer et visuali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férer : mise en œuvre des réseaux de communication (Ethernet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Visualiser : utiliser et ou développer les sites WEB intégrés aux automates et aux préactionneur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aides aux diagnostics et aux interven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s évolutions technologiques et l’automatique en 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133720"/>
            <a:ext cx="86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 simulation virtuelle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rifier la faisabilité d’une solution d’amélioration avant sa mise en œuvr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énération automatique des programmes auto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-181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évolution virtuelle dynamique en 3D de la PO à partir de l’exécution du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87280" y="5084640"/>
            <a:ext cx="8569080" cy="1561680"/>
            <a:chOff x="287280" y="5084640"/>
            <a:chExt cx="8569080" cy="1561680"/>
          </a:xfrm>
        </p:grpSpPr>
        <p:sp>
          <p:nvSpPr>
            <p:cNvPr id="237" name=""/>
            <p:cNvSpPr/>
            <p:nvPr/>
          </p:nvSpPr>
          <p:spPr>
            <a:xfrm>
              <a:off x="287280" y="5820840"/>
              <a:ext cx="85690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0" lang="fr-FR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volution prochaine des méthodes et moyens mis en œuvre pour l’enseignement de l’automatique en BTS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8560" y="5084640"/>
              <a:ext cx="322560" cy="535680"/>
            </a:xfrm>
            <a:prstGeom prst="downArrow">
              <a:avLst>
                <a:gd name="adj1" fmla="val 50000"/>
                <a:gd name="adj2" fmla="val 41518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33360" y="3800520"/>
            <a:ext cx="1255680" cy="974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2360" y="146196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28680" y="4672080"/>
            <a:ext cx="377640" cy="303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807080" y="394956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trôleur Virtu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6160" y="5043600"/>
            <a:ext cx="101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IHM Virtue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76600" y="2997360"/>
            <a:ext cx="447840" cy="215640"/>
          </a:xfrm>
          <a:prstGeom prst="downArrow">
            <a:avLst>
              <a:gd name="adj1" fmla="val 49648"/>
              <a:gd name="adj2" fmla="val 186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3552840" y="1433520"/>
            <a:ext cx="2071800" cy="146700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rId5" action="ppaction://hlinksldjump"/>
          </p:cNvPr>
          <p:cNvSpPr/>
          <p:nvPr/>
        </p:nvSpPr>
        <p:spPr>
          <a:xfrm rot="5400000">
            <a:off x="2940120" y="2393640"/>
            <a:ext cx="457200" cy="3137040"/>
          </a:xfrm>
          <a:prstGeom prst="upDownArrow">
            <a:avLst>
              <a:gd name="adj1" fmla="val 45139"/>
              <a:gd name="adj2" fmla="val 858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1446120"/>
            <a:ext cx="1922400" cy="149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5440" y="1438200"/>
            <a:ext cx="2055960" cy="1471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9800000">
            <a:off x="0" y="1516680"/>
            <a:ext cx="995400" cy="3261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6600"/>
              </a:gs>
            </a:gsLst>
            <a:lin ang="126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MS PGothic"/>
              </a:rPr>
              <a:t>Multi-CA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025720" y="2054160"/>
            <a:ext cx="1566720" cy="405000"/>
          </a:xfrm>
          <a:custGeom>
            <a:avLst/>
            <a:gdLst>
              <a:gd name="textAreaLeft" fmla="*/ 273960 w 1566720"/>
              <a:gd name="textAreaRight" fmla="*/ 1135800 w 156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4998960" y="4554360"/>
            <a:ext cx="690480" cy="555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991040" y="3435480"/>
            <a:ext cx="669960" cy="5713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08000" y="620640"/>
            <a:ext cx="2519280" cy="73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Définition des Équipements Virtuels munis de leurs Entrées/Sor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84640" y="765000"/>
            <a:ext cx="2643120" cy="50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Programmation de la cellu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à partir des mécanism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4869000"/>
            <a:ext cx="38289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nection des équipements virtuels a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ôleur virtue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imulation de la cellul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2997360"/>
            <a:ext cx="447480" cy="215640"/>
          </a:xfrm>
          <a:prstGeom prst="downArrow">
            <a:avLst>
              <a:gd name="adj1" fmla="val 49648"/>
              <a:gd name="adj2" fmla="val 186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284640"/>
            <a:ext cx="5616720" cy="24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280" y="5902200"/>
            <a:ext cx="85694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Validation de solutions dans le cadre d’amélioration.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e système existant est déjà modélis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74800" y="3005280"/>
            <a:ext cx="447480" cy="691920"/>
          </a:xfrm>
          <a:prstGeom prst="downArrow">
            <a:avLst>
              <a:gd name="adj1" fmla="val 49648"/>
              <a:gd name="adj2" fmla="val 288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33360" y="3800520"/>
            <a:ext cx="1255680" cy="974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2360" y="146196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28680" y="4672080"/>
            <a:ext cx="377640" cy="303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343400" y="3949560"/>
            <a:ext cx="130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trôleur Virtu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522936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IHM Virtu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rId4" action="ppaction://hlinksldjump"/>
          </p:cNvPr>
          <p:cNvSpPr/>
          <p:nvPr/>
        </p:nvSpPr>
        <p:spPr>
          <a:xfrm rot="5400000">
            <a:off x="2724120" y="2971800"/>
            <a:ext cx="457200" cy="2666880"/>
          </a:xfrm>
          <a:prstGeom prst="upDownArrow">
            <a:avLst>
              <a:gd name="adj1" fmla="val 45139"/>
              <a:gd name="adj2" fmla="val 729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446120"/>
            <a:ext cx="1922400" cy="149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4572000" y="4653000"/>
            <a:ext cx="690480" cy="555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4572000" y="3359160"/>
            <a:ext cx="669960" cy="571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3284640"/>
            <a:ext cx="5616720" cy="24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74800" y="3005280"/>
            <a:ext cx="447480" cy="691920"/>
          </a:xfrm>
          <a:prstGeom prst="downArrow">
            <a:avLst>
              <a:gd name="adj1" fmla="val 49648"/>
              <a:gd name="adj2" fmla="val 288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33360" y="3800520"/>
            <a:ext cx="1255680" cy="974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2360" y="146196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28680" y="4672080"/>
            <a:ext cx="377640" cy="303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067280" y="47242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HM Virtu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566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rId4" action="ppaction://hlinksldjump"/>
          </p:cNvPr>
          <p:cNvSpPr/>
          <p:nvPr/>
        </p:nvSpPr>
        <p:spPr>
          <a:xfrm rot="5400000">
            <a:off x="2781360" y="2552400"/>
            <a:ext cx="457200" cy="2819520"/>
          </a:xfrm>
          <a:prstGeom prst="upDownArrow">
            <a:avLst>
              <a:gd name="adj1" fmla="val 45139"/>
              <a:gd name="adj2" fmla="val 7717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160" y="3389400"/>
            <a:ext cx="5616360" cy="244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446120"/>
            <a:ext cx="1922400" cy="149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4419720" y="3809880"/>
            <a:ext cx="1071360" cy="863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57400" y="6019560"/>
            <a:ext cx="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553080"/>
            <a:ext cx="7086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858000" y="617220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6172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6324480" y="4560840"/>
            <a:ext cx="15242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057400" y="6019560"/>
            <a:ext cx="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6553080"/>
            <a:ext cx="7086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858000" y="617220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013600" y="5016600"/>
            <a:ext cx="1130400" cy="1039320"/>
            <a:chOff x="8013600" y="5016600"/>
            <a:chExt cx="1130400" cy="1039320"/>
          </a:xfrm>
        </p:grpSpPr>
        <p:graphicFrame>
          <p:nvGraphicFramePr>
            <p:cNvPr id="313" name=""/>
            <p:cNvGraphicFramePr/>
            <p:nvPr/>
          </p:nvGraphicFramePr>
          <p:xfrm>
            <a:off x="8013600" y="5020200"/>
            <a:ext cx="1130400" cy="1033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13600" y="5020200"/>
                      <a:ext cx="113040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8015040" y="5016600"/>
              <a:ext cx="1119240" cy="10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324480" y="4776840"/>
            <a:ext cx="1524240" cy="946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H="1">
            <a:off x="7848360" y="524520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5732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0108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IHM Ré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25002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8013600" y="4800600"/>
            <a:ext cx="1130400" cy="1039320"/>
            <a:chOff x="8013600" y="4800600"/>
            <a:chExt cx="1130400" cy="1039320"/>
          </a:xfrm>
        </p:grpSpPr>
        <p:graphicFrame>
          <p:nvGraphicFramePr>
            <p:cNvPr id="322" name=""/>
            <p:cNvGraphicFramePr/>
            <p:nvPr/>
          </p:nvGraphicFramePr>
          <p:xfrm>
            <a:off x="8013600" y="4804200"/>
            <a:ext cx="1130400" cy="1033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13600" y="4804200"/>
                      <a:ext cx="113040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4" name=""/>
            <p:cNvSpPr/>
            <p:nvPr/>
          </p:nvSpPr>
          <p:spPr>
            <a:xfrm>
              <a:off x="8015040" y="4800600"/>
              <a:ext cx="1119240" cy="10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6324480" y="4560840"/>
            <a:ext cx="1524240" cy="946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 flipV="1">
            <a:off x="2057400" y="6019560"/>
            <a:ext cx="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6553080"/>
            <a:ext cx="7086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858000" y="617220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086600" y="297144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848360" y="502920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320" y="347760"/>
            <a:ext cx="6202440" cy="9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75280" y="-3240"/>
            <a:ext cx="12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IRTU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443640" y="98100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37236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 rée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27640" y="5516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01080" y="4076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IHM Ré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342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agno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393372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mélioration, intégration de moyens d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8013600" y="4800600"/>
            <a:ext cx="1130400" cy="1039320"/>
            <a:chOff x="8013600" y="4800600"/>
            <a:chExt cx="1130400" cy="1039320"/>
          </a:xfrm>
        </p:grpSpPr>
        <p:graphicFrame>
          <p:nvGraphicFramePr>
            <p:cNvPr id="344" name=""/>
            <p:cNvGraphicFramePr/>
            <p:nvPr/>
          </p:nvGraphicFramePr>
          <p:xfrm>
            <a:off x="8013600" y="4804200"/>
            <a:ext cx="1130400" cy="103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13600" y="4804200"/>
                      <a:ext cx="1130400" cy="10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8015040" y="4800600"/>
              <a:ext cx="1119240" cy="10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227640" y="0"/>
            <a:ext cx="23760" cy="59659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324480" y="4560840"/>
            <a:ext cx="1524240" cy="946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V="1">
            <a:off x="7086600" y="297144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848360" y="502920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30880" y="351000"/>
            <a:ext cx="2935440" cy="79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-32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MS PGothic"/>
              </a:rPr>
              <a:t>RÉ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6443640" y="98100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37236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 rée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27640" y="5516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Automate Ré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01080" y="4076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MS PGothic"/>
              </a:rPr>
              <a:t>IHM Rée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4200" y="476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 solution DELMIA AUTOMATION appliquée à la cellule ERSMA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946160" y="1579680"/>
            <a:ext cx="52498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62000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28954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rci de votre 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CONCEP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solutions d’amélioration de la DISPONIBIL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/ou de la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UR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NCEP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solutions d’amélioration de la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ISPONIBILI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/ou de la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UR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fiabilité </a:t>
            </a:r>
            <a:r>
              <a:rPr b="0" lang="en-US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229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5013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illanc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maintenabilité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5805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chage de défaut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vise l’acquisition des compétences nécessaires à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56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LIS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interventions de maintenance sur des Systèmes Automat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4076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la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NCEP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solutions d’amélioration de la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SPONIBIL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/ou de la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CURI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501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ispositif de prot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Redon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623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urveil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9520" y="2924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 compétences du référenti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989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P2.3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Analyser le fonctionnement et l’organisation d’un système automatis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37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P4.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Rechercher, argumenter des solutions d’automatisme et réaliser les dossiers correspond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645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CP2.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alyser les solutions de production, de distribution et de conversion des énergies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neumatique et hydraul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437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P4.5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chercher, argumenter des solutions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neumatique et hydrauliqu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t réaliser les dossiers correspond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doit rendre l’étudiant capable d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54200" y="5013360"/>
            <a:ext cx="7634160" cy="1739160"/>
            <a:chOff x="754200" y="5013360"/>
            <a:chExt cx="7634160" cy="1739160"/>
          </a:xfrm>
        </p:grpSpPr>
        <p:sp>
          <p:nvSpPr>
            <p:cNvPr id="125" name=""/>
            <p:cNvSpPr/>
            <p:nvPr/>
          </p:nvSpPr>
          <p:spPr>
            <a:xfrm>
              <a:off x="754200" y="5805360"/>
              <a:ext cx="763416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Narrow"/>
                </a:rPr>
                <a:t>É</a:t>
              </a: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preuve ponctuelle – E51</a:t>
              </a:r>
              <a:br>
                <a:rPr sz="2800"/>
              </a:b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Durée : 4 heures – Coefficient :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25840" y="5013360"/>
              <a:ext cx="287640" cy="576360"/>
            </a:xfrm>
            <a:prstGeom prst="downArrow">
              <a:avLst>
                <a:gd name="adj1" fmla="val 50000"/>
                <a:gd name="adj2" fmla="val 50094"/>
              </a:avLst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to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9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x épreuves d’interventions (E6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2565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diagno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6094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enseignement de l’automatique permet la mise en œuvre de savoirs et de savoir-faire nécessair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31417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amélioration et/ ou intégration de moyens de surveillance (mise en œuv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149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 projet technique (E6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472608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élaborer le dossier de ré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5302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mettre en œuvre la réalisation du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érard HANNICQ</dc:creator>
  <dc:description/>
  <dc:language>en-US</dc:language>
  <cp:lastModifiedBy>Giezek François</cp:lastModifiedBy>
  <cp:lastPrinted>2005-11-05T18:31:52Z</cp:lastPrinted>
  <dcterms:modified xsi:type="dcterms:W3CDTF">2005-12-01T21:46:55Z</dcterms:modified>
  <cp:revision>103</cp:revision>
  <dc:subject/>
  <dc:title>Stratégie de maintenance</dc:title>
</cp:coreProperties>
</file>