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2A04A-BA71-4BBE-BA57-FB58EE8CE48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 certification des compétences liées à la stratégie de maintenance est réalisée par la sous-épreuve E62 appartenant à l ’épreuve professionnelle de synthèse E6. Cette sous-épreuve E62 a un coefficient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éfinir le questionnement correspondant aux actions des compétences évalué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 questions posées permettent l ’évaluation de la compétence. Il n ’est pas question de redéfinir le contenu de la compéten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mples de situations d ’évaluation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artir de problématiques industrielles différentes, des typologies de situations d ’évaluation apparaissent permettant de certifier les compétences de la sous épreuve E6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mp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ite des exe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 ’autres typologies sont envisage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l faut couvrir l ’ensemble des compétences pour une même session d ’examen, ce qui permet de s ’assurer que la formation ait été entièrement dispensé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remarque que par rapport aux 5 situations d ’évaluation présenté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l est possible de valider l ’ensemble des compétence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 dans la majorité des cas, elles mobilisent 2 compéte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 guide d ’élaboration accompagné d ’un exemple est disponible sur le site du RPMI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 ’évaluation du candidat est effectuée à partir des indicateurs de performance de la compétence. Une grille d ’évaluation nationale sera diffusée avec la circulaire d ’organisation des examens. Elle sera disponible sur le site du RPM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e de la fiche d ’é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cher les  compétences à évaluer  en fonction de la problématique de maintenance traité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retrouve les actions et les indicateurs définis dans la fiche compétence du référenti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ent organiser l ’évaluation en C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ppel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éparation écrite 1H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rogation orale : 20 minu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aison de 30 minutes par candidat (interrogation orale = 20 minutes, évaluation et changement de candidat = 10 minutes) il est possible d ’évaluer 8 candidats en 4 he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d évalu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in de mettre en place cette évaluation dans les meilleures conditions, il serait souhaitable de créer une banque de sujets au niveau nation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 groupe de travail propose que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que académie élabore un sujet sous la responsabilité de l ’IPR en charge de la maintenance industrielle pou le mois d ’avril 200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que IPR transmet au RPMI le sujet élaboré pour sa mise à disposition auprès des équipes pédagogiq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tte banque de suje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ilitera le travail des équipes pédagogiques pour la première sessio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imentera une banque d ’études  de cas exploitables en form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tte épreuve est une interrogation orale de 20 minutes précédée d ’une préparation écrite de 1H3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 commission d ’interrogation est composée de 2 enseignants de maintenance et d ’un représentant de la profes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 réglementation prévoit 2 modes d ’évaluation : un contrôle en cours de formation et une forme ponctue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 majorité des candidats passeront en CC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lque soit le mode d ’évaluation, le support de l ’épreuve est une problématique de maintenance industrie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l est impossible d ’évaluer toutes les compétences car elles s ’appuient sur des  problématiques différentes. On évaluera donc un certain nombre de compétences parmi les 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e seule action d ’une compétence unique ne peut être retenue comme situation d ’évaluation. Par exemple, un simple calcul de coût ne permet d ’évaluer correctement le candid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 problème posé doit permettre d ’évaluer le candidat à partir d ’un champ d ’actions suffisamment lar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mple : plusieurs actions de deux compétences permettent d ’évaluer correctement le candid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our créer une situation d ’évaluation, il faut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Identifier une problématique de maintenance industrie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xemple : Fiabiliser un bien en mettant en place un suivi vibrato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ier les compétences évaluables par la résolution du problème pos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éfinir les données nécessaires à la résolution du problèm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ntexte de la problémat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bjectifs de l ’entrep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onnées technico-économ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oyens mis à disposition pour résoudre le problème (logiciels, documentations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TTENTION : les données doivent être exploitables dans le temps imparti. Il faudra parfois limiter le nombre d ’informations , rappel : durée de préparation 1H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0FDA-5A9A-4EDA-9813-3F40963F1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BAE0-8148-4E8F-8466-B1D328275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1DDA-A90E-4511-B36E-F0A53DA23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B84B-0894-4992-AAA8-3EE591592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5081D-BA2B-478F-852B-499BC3DCF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49998-A8A1-4B99-9AA1-EFAA5F077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A9863-6EEB-4838-AC2D-49BE29AC7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ECEE7-2858-4E7C-A0EE-C3A8D33AD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9A673-211F-4DB6-B581-1245DC40C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C4306-3996-42F3-B430-7CF26519C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E0B5F-57D3-40C9-AE07-34F1C3677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119A-3F6F-4366-9EE3-FEF9F2AEC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7FAC9-B86B-4407-B3AF-18BCDF5AB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59F76-8F6B-4835-9505-964924127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1F1FD-EA68-4ECF-824C-7C462211F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37610-86B6-4DAC-AD61-07CDB465C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43F7E-E289-4647-ABAD-E7F8438EA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1B10-290A-4B10-806C-722266F44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BA3E-92D0-41A0-8750-902F6E258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EEC2-5A65-4D22-A1E5-407C36E89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6B09-BA47-4BA3-BDDC-12FA99555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252D-01F7-44C8-9F08-25A851AF6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0C6C-A59A-4A29-BA18-93063EA7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5204-BBCF-4C8A-B3CD-40530FC8C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5F97D-5687-4D18-8297-42B5C0FA00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ACCF5-6102-4269-959C-7F747C9CF9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50920" y="2373480"/>
            <a:ext cx="8642160" cy="186156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Arial"/>
              </a:rPr>
              <a:t>Sous-épreuve E62 – Unité U62 :</a:t>
            </a:r>
            <a:br>
              <a:rPr sz="4400"/>
            </a:br>
            <a:r>
              <a:rPr b="0" lang="fr-FR" sz="4000" spc="-1" strike="noStrike">
                <a:solidFill>
                  <a:srgbClr val="ffff00"/>
                </a:solidFill>
                <a:latin typeface="Arial"/>
              </a:rPr>
              <a:t>Stratégie de maintenance</a:t>
            </a:r>
            <a:br>
              <a:rPr sz="4400"/>
            </a:br>
            <a:r>
              <a:rPr b="0" lang="fr-FR" sz="3600" spc="-1" strike="noStrike">
                <a:solidFill>
                  <a:srgbClr val="ffff00"/>
                </a:solidFill>
                <a:latin typeface="Arial"/>
              </a:rPr>
              <a:t>(Coefficient 2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ratégie de mainten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38880" y="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a certif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50920" y="54936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réation de la situation d ’évaluation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106668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Définir le questionnement correspondant aux actions des compétences évalué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28600" y="1763640"/>
          <a:ext cx="8763120" cy="5094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763640"/>
                    <a:ext cx="8763120" cy="50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457200" y="3886200"/>
            <a:ext cx="4114800" cy="5335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029200" y="3886200"/>
            <a:ext cx="3962520" cy="5335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0" y="4114800"/>
            <a:ext cx="457200" cy="0"/>
          </a:xfrm>
          <a:prstGeom prst="line">
            <a:avLst/>
          </a:prstGeom>
          <a:ln w="5724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ratégie de mainten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238880" y="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a certif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28600" y="533520"/>
            <a:ext cx="86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es typologies des situations d ’évaluation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12952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yp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562720" y="12952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étences évalua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1752480"/>
            <a:ext cx="3962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éfinir les axes d ’améliorations de la stratégie de la maintenance (type de maintenance, méthodes, moyens…) à partir des indicateurs de disponibilité et de coû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174960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P3.1 : Définir et/ou optimiser la stratégie de mainten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62120" y="3457440"/>
            <a:ext cx="39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abiliser un bien en mettant en place un suivi vibratoi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105520" y="3200400"/>
            <a:ext cx="40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CP2.1 : Analyser la fiabilité, la maintenabilité et la sécurité d ’un bi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105520" y="4111560"/>
            <a:ext cx="40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P3.3 : Définir, préparer ordonnancer et optimiser la maintenance préventiv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8080" y="502920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Accroître la disponibilité d ’un équipement en améliorant sa maintenabilité et la logistique de mainten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5029200"/>
            <a:ext cx="40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CP2.1 : Analyser la fiabilité, la maintenabilité et la sécurité d ’un bi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105520" y="5867280"/>
            <a:ext cx="40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P3.5 : Définir et/ou optimiser l ’organisation des activités de mainten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19320" y="129528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emple de problémati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1219320"/>
            <a:ext cx="0" cy="5638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029200" y="1219320"/>
            <a:ext cx="0" cy="5638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320040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495288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52280" y="2209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228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2280" y="5334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ratégie de mainten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238880" y="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a certif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28600" y="533520"/>
            <a:ext cx="86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es typologies des situations d ’évaluation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12952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yp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62720" y="12952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étences évalua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38080" y="1752480"/>
            <a:ext cx="396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ustifier et préparer une intervention corrective importante suite à un dépannag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105520" y="174960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P3.1 : Définir et/ou optimiser la stratégie de mainten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62120" y="3765600"/>
            <a:ext cx="39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ustifier et préparer une amélior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105520" y="3657600"/>
            <a:ext cx="40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CP2.1 : Analyser la fiabilité, la maintenabilité et la sécurité d ’un bi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105520" y="4572000"/>
            <a:ext cx="403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P3.4 : Définir, préparer et ordonnancer les travaux d ’amélioration ou d ’intégration d ’un nouveau bi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219320" y="129528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emple de problémati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1219320"/>
            <a:ext cx="0" cy="46479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029200" y="1219320"/>
            <a:ext cx="0" cy="46479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350532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52280" y="2209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2280" y="3965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05520" y="2514600"/>
            <a:ext cx="40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P3.2 : Définir, préparer, ordonnancer, optimiser la maintenance correctiv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586728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ratégie de mainten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238880" y="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a certif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60958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’autres typologies sont envisagea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28600" y="533520"/>
            <a:ext cx="864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es typologies des situations d ’évaluation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" y="5791320"/>
            <a:ext cx="866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n guide d’élaboration accompagné d’un exemple est disponible sur le site du RPM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ratégie de mainten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238880" y="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a certif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0880" y="133200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Couvrir l’ensemble des compétences sur une session d ’exam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447920" y="1981080"/>
          <a:ext cx="6248160" cy="3084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981080"/>
                    <a:ext cx="6248160" cy="30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28600" y="1066680"/>
            <a:ext cx="86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2400" spc="-1" strike="noStrike">
                <a:solidFill>
                  <a:srgbClr val="ffff00"/>
                </a:solidFill>
                <a:latin typeface="Arial"/>
              </a:rPr>
              <a:t>valuation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2120" y="1828800"/>
            <a:ext cx="79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Indicateurs de performance de la compét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8240" y="2532240"/>
            <a:ext cx="792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Grille d ’évaluation nationale (Fiche E6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606680" y="306540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Diffusée avec la circulaire d ’organisation des exame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6680" y="367524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Disponible sur le site du RPM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50920" y="571500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ucune autre fiche ne devra être utilisé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ratégie de mainten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238880" y="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a certif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"/>
          <p:cNvGraphicFramePr/>
          <p:nvPr/>
        </p:nvGraphicFramePr>
        <p:xfrm>
          <a:off x="957240" y="60480"/>
          <a:ext cx="7577280" cy="670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7240" y="60480"/>
                    <a:ext cx="7577280" cy="670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58920" y="379404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Quand évaluer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04920" y="91440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rganisation de l ’évaluation en CCF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63480" y="4403880"/>
            <a:ext cx="825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ndant les horaires d ’activités pratiqu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58920" y="1508040"/>
            <a:ext cx="8305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urée de travail du candidat sur le problème posé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préparation en salle (1H30)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interrogation orale (0H2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0880" y="274320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1/2 journée de certification (4 heures d ’interrogation) </a:t>
            </a:r>
            <a:r>
              <a:rPr b="1" lang="en-US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8 candida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63480" y="4937040"/>
            <a:ext cx="825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ndant une plage horaire banalisée et programmé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63480" y="5546880"/>
            <a:ext cx="825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ndant la période de stage en milieu professionn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ratégie de mainten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238880" y="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a certif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50920" y="106668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réation d’une banque nationale de sujet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04920" y="1736640"/>
            <a:ext cx="88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Chaque académie élabore un sujet sous la responsabilité de l ’IPR en charge de la maintenance industrielle </a:t>
            </a:r>
            <a:r>
              <a:rPr b="1" lang="en-US" sz="2000" spc="-1" strike="noStrike" u="sng">
                <a:solidFill>
                  <a:srgbClr val="ffcc66"/>
                </a:solidFill>
                <a:uFillTx/>
                <a:latin typeface="Arial"/>
              </a:rPr>
              <a:t>(avril 2006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4920" y="2727360"/>
            <a:ext cx="88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Chaque IPR transmet au RPMI le sujet élaboré pour sa mise à disposition auprès des équipes pédagogique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ratégie de mainten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238880" y="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a certif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609480" y="3886200"/>
          <a:ext cx="8001000" cy="256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86200"/>
                    <a:ext cx="800100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ratégie de mainten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238880" y="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a certif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914400" y="289548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erci de votre atten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7200" y="91440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2400" spc="-1" strike="noStrike">
                <a:solidFill>
                  <a:srgbClr val="ffff00"/>
                </a:solidFill>
                <a:latin typeface="Arial"/>
              </a:rPr>
              <a:t>preuve orale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55640" y="140004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- Préparation écrite : 1H3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55640" y="1905120"/>
            <a:ext cx="503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- Interrogation orale : 20 minu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3429000"/>
            <a:ext cx="50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odes d’évaluation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3886200"/>
            <a:ext cx="64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1" lang="en-US" sz="2000" spc="-1" strike="noStrike" u="sng">
                <a:solidFill>
                  <a:srgbClr val="ffffcc"/>
                </a:solidFill>
                <a:uFillTx/>
                <a:latin typeface="Arial"/>
              </a:rPr>
              <a:t>Contrôle en cours de formation (CC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439092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- Forme ponctuel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525780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upport de l’épreuve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2120" y="571500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- Une problématique de maintenance industriel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2408400"/>
            <a:ext cx="838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- Commission d’interrogation : 2 enseignants de maintenance et un représentant de la profes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ratégie de mainten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238880" y="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a certif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600200"/>
            <a:ext cx="808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Arial"/>
              </a:rPr>
              <a:t>- CP2.1</a:t>
            </a:r>
            <a:r>
              <a:rPr b="1" lang="fr-FR" sz="1800" spc="-1" strike="noStrike">
                <a:solidFill>
                  <a:srgbClr val="ffffcc"/>
                </a:solidFill>
                <a:latin typeface="Arial"/>
              </a:rPr>
              <a:t> : Analyser la fiabilité, la maintenabilité et la sécurité d’un bi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2209680"/>
            <a:ext cx="705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P3.1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: Définir et/ou optimiser la stratégie de mainten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28195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P3.2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: Définir, préparer, ordonnancer et optimiser la maintenance correctiv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3429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P3.3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: Définir, préparer, ordonnancer et optimiser la maintenance préventiv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038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90720" indent="-99072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P3.4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: Définir, préparer et ordonnancer les travaux d’amélioration ou d’intégration d’un nouveau bi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8769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P3.5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: Définir et/ou optimiser l’organisation des activités de mainten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6858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’épreuve a pour objet de valider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tout ou partie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es compétence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ratégie de mainten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238880" y="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a certif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04920" y="5715000"/>
            <a:ext cx="8610480" cy="886320"/>
          </a:xfrm>
          <a:prstGeom prst="rect">
            <a:avLst/>
          </a:prstGeom>
          <a:solidFill>
            <a:srgbClr val="ffffcc"/>
          </a:solidFill>
          <a:ln w="284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Arial"/>
              </a:rPr>
              <a:t>Impossibilité d’évaluer toutes les compétences</a:t>
            </a:r>
            <a:br>
              <a:rPr sz="2800"/>
            </a:b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(problématiques différent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1600200"/>
            <a:ext cx="808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Arial"/>
              </a:rPr>
              <a:t>- CP2.1</a:t>
            </a:r>
            <a:r>
              <a:rPr b="1" lang="fr-FR" sz="1800" spc="-1" strike="noStrike">
                <a:solidFill>
                  <a:srgbClr val="ffffcc"/>
                </a:solidFill>
                <a:latin typeface="Arial"/>
              </a:rPr>
              <a:t> : Analyser la fiabilité, la maintenabilité et la sécurité d’un bi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2209680"/>
            <a:ext cx="705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- CP3.1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: Définir et/ou optimiser la stratégie de mainten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8195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- CP3.2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: Définir, préparer, ordonnancer et optimiser la maintenance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correctiv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3429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- CP3.3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: Définir, préparer, ordonnancer et optimiser la maintenance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préventiv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4038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90720" indent="-99072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- CP3.4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: Définir, préparer et ordonnancer les travaux d’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amélioration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ou d’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intégration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d’un nouveau bi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8769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- CP3.5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: Définir et/ou optimiser l’organisation des activités de mainten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ratégie de mainten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238880" y="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a certif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6858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’épreuve a pour objet de valider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tout ou partie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es compétence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1752480" y="0"/>
          <a:ext cx="572940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0"/>
                    <a:ext cx="57294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380880" y="4952880"/>
            <a:ext cx="8425080" cy="825480"/>
          </a:xfrm>
          <a:prstGeom prst="rect">
            <a:avLst/>
          </a:prstGeom>
          <a:solidFill>
            <a:srgbClr val="ffffcc"/>
          </a:solidFill>
          <a:ln w="284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ne seule action d’une compétence unique ne peut être retenue comme situation d’éval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00400" y="1371600"/>
            <a:ext cx="2819520" cy="8380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57200" y="20574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mpétences validées 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2666880"/>
            <a:ext cx="9144000" cy="222840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ffff"/>
              </a:gs>
              <a:gs pos="100000">
                <a:srgbClr val="ff99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6360" indent="-5763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7636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- CP2.1. Analyser la </a:t>
            </a:r>
            <a:r>
              <a:rPr b="1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fiabilité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, la maintenabilité et la sécurité d’un bien 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- déterminer les indicateurs de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fiabilité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du bien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- identifier les sous-ensembles ou les composants les plus pénalisants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     du point de vue de la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fiabilité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et/ou de la maintenabilité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- proposer des axes de solutions visant à améliorer la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fiabilité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 la maintenabilité et la sécurité du bi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4724280"/>
            <a:ext cx="9144000" cy="19234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90720" indent="-990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CP3.3. Définir, préparer, ordonnancer, optimiser la maintenance préventive 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définir le type d ’opérations préventiv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définir les opérations de maintenance conditionnelle ou prévisionnell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exploiter les informations issues de la surveill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76212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e problème posé doit permettre d’évaluer le candidat à partir d’un champ d’actions suffisamment larg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ratégie de mainten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238880" y="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a certif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533520" y="1143000"/>
            <a:ext cx="79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- Identifier une problématique de mainten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0920" y="54936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réation de la situation d ’évaluation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0" y="2220840"/>
          <a:ext cx="9144000" cy="463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20840"/>
                    <a:ext cx="9144000" cy="463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0" y="2209680"/>
            <a:ext cx="4572000" cy="7621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ratégie de mainten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38880" y="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a certif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50920" y="54936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réation de la situation d ’évaluation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0" y="2220840"/>
          <a:ext cx="9144000" cy="463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20840"/>
                    <a:ext cx="9144000" cy="463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533520" y="114300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- Identifier les compétences évaluables par la résolution du problè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3809880"/>
            <a:ext cx="4572000" cy="6858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5562720"/>
            <a:ext cx="4572000" cy="4572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ratégie de mainten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238880" y="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a certif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50920" y="54936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réation de la situation d ’évaluation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0" y="2220840"/>
          <a:ext cx="9144000" cy="463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20840"/>
                    <a:ext cx="9144000" cy="463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380880" y="990720"/>
            <a:ext cx="817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- Définir les données nécessaires (contexte, objectifs, données technico-économiques, moyens…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67652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ttention : les données  sont exploitables dans le temps impart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0" y="2133720"/>
            <a:ext cx="4572000" cy="16002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ratégie de mainten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238880" y="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a certif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5T07:45:57Z</dcterms:created>
  <dc:creator>Gérard HANNICQ</dc:creator>
  <dc:description/>
  <dc:language>en-US</dc:language>
  <cp:lastModifiedBy>Giezek François</cp:lastModifiedBy>
  <cp:lastPrinted>2005-11-05T18:31:52Z</cp:lastPrinted>
  <dcterms:modified xsi:type="dcterms:W3CDTF">2005-12-01T20:12:48Z</dcterms:modified>
  <cp:revision>80</cp:revision>
  <dc:subject/>
  <dc:title>Stratégie de maintenance</dc:title>
</cp:coreProperties>
</file>