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2AE-BA5D-4FDF-B9B8-F8A67E10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C8A-3607-493E-B2A4-CA4C700E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7B3-EA9D-4132-8DC5-8964C4A5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B5C-717A-4E32-805D-95A263ED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7D64-E990-425A-B255-0A69E518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0096-BFEB-4277-99B6-007A07C6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B589-4AF8-4322-81D9-1E6B1BDF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6268-A774-49E0-9AC1-91A94518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55F7-DCB3-474B-9ECF-107A4B1D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6181-BAF8-4904-B768-52BECEC1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48DF-09BA-45D0-B799-4C28CDB5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FE8E-0B86-423E-8640-F4FD2EE5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C438-9BE6-4EE3-BF62-BBF8D738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E42C-97D0-4103-9C06-7E5A3554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0841-6673-46DB-B085-ACD72EF1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B7AC-8CE4-4564-B30A-35462622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5742-C75C-441C-85F7-DC143BBD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B4E8-47EB-4DDE-8729-6D5A0EDE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63E-5846-44D0-B76D-068F91CF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35FD-095A-4546-A44A-CB173F25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87C-068F-457A-9765-1D33DF90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58A-83E4-4FB7-9C50-6D134B5D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4E27-EC4D-444B-91FF-67DB3C25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910A-8967-447B-95CE-EAE745F6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F505-7B33-4618-8CF9-0158E5289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9675-B012-4349-B24D-A025A51FE4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49400" y="115920"/>
          <a:ext cx="8928000" cy="631332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Établir le constat de défaillance, identifier la fonction défail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collecte des informations liées aux circonstance de la panne est correctement réalisé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fonction défaillante est repéré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ier et répertorier les composants liés à la non réalisation de la fonction et susceptibles d’être défaill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composants de la chaîne défaillante sont répertorié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liser la panne : réaliser les tests, mesures, contrôles permettant de valider ou non les hypothè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appareils de mesure et de contrôle sont correctement choisis et mis en œuv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identification de l’élément défectueux est correc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49400" y="115920"/>
          <a:ext cx="8928000" cy="672624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Établir le constat de défaillance, identifier la fonction défail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collecte des informations liées aux circonstance de la panne est correctement réalisé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fonction défaillante est repéré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ier et répertorier les composants liés à la non réalisation de la fonction et susceptibles d’être défaill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composants de la chaîne défaillante sont répertorié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liser la panne : réaliser les tests, mesures, contrôles permettant de valider ou non les hypothè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appareils de mesure et de contrôle sont correctement choisis et mis en œuv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identification de l’élément défectueux est correc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7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ier les phénomènes dangereux et les situations dangereus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terminer et appliquer les mesures de prév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phénomènes dangereux et les situations dangereuses sont identifiés, les mesures de prévention sont adaptées aux situations dangereuses identifié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mise en œuvre des mesures de prévention est correcte, les procédures de mise en œuvre des équipements de sécurité sont confor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377640"/>
            <a:ext cx="8353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E L’INTERVEN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3213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es indicateurs de performances sont ceux définis dans le référentiel de certif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49400" y="803160"/>
          <a:ext cx="8928000" cy="493236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 CP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taller, raccorder, mettre en œuvre un appareil de mesures physiques, ou spécif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installation, le raccordement et la mise en œuvre de l’appareil sont corr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49400" y="803160"/>
          <a:ext cx="8928000" cy="514656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49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 CP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taller, raccorder, mettre en œuvre un appareil de mesures physiques, ou spécif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installation, le raccordement et la mise en œuvre de l’appareil sont corr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oiter un moyen de mesure automatis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étrer les appareils ou les moyens de surveillance et d’insp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exploitation du moyen de surveillance automatisé est correc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 paramétrage est correct et respecte les procédures de surveillance et d’insp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49400" y="803160"/>
          <a:ext cx="8928000" cy="514656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49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 CP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taller, raccorder, mettre en œuvre un appareil de mesures physiques, ou spécif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installation, le raccordement et la mise en œuvre de l’appareil sont corr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oiter un moyen de mesure automatis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étrer les appareils ou les moyens de surveillance et d’insp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exploitation du moyen de surveillance automatisé est correc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 paramétrage est correct et respecte les procédures de surveillance et d’insp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ecter les informations et vérifier qu’elles soient plausib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informations recueillies sont exploitables et respectent les procédures de surveillance et d’insp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49400" y="803160"/>
          <a:ext cx="8928000" cy="514656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49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 CP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taller, raccorder, mettre en œuvre un appareil de mesures physiques, ou spécif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installation, le raccordement et la mise en œuvre de l’appareil sont corr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oiter un moyen de mesure automatis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étrer les appareils ou les moyens de surveillance et d’insp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exploitation du moyen de surveillance automatisé est correc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 paramétrage est correct et respecte les procédures de surveillance et d’insp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ecter les informations et vérifier qu’elles soient plausib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informations recueillies sont exploitables et respectent les procédures de surveillance et d’insp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tablir un rapport de surveillance ou d’insp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renseignements sont exploitables et corr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49400" y="331920"/>
          <a:ext cx="8928000" cy="576252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 CP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fectuer les déposes nécessaires à l’interv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dépose est effectuée dans les règles de l’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49400" y="331920"/>
          <a:ext cx="8928000" cy="604512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2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 CP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fectuer les déposes nécessaires à l’interv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dépose est effectuée dans les règles de l’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anter l’ensemble des composants et effectuer les raccord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uer les modifications logicielles ou les adaptations logiciel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travaux sont effectués dans les règles de l’art et respectent les procédures prédéfin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49400" y="331920"/>
          <a:ext cx="8928000" cy="612144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 CP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fectuer les déposes nécessaires à l’interv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dépose est effectuée dans les règles de l’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anter l’ensemble des composants et effectuer les raccord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uer les modifications logicielles ou les adaptations logiciel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travaux sont effectués dans les règles de l’art et respectent les procédures prédéfin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uer les tests, procéder à la mise au point et à la remise en serv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réglages et paramétrages sont corrects et respectent les procédures prédéfin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amélioration a été effectuée dans un temps prédétermin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 bien a retrouvé son état spécifi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1066680"/>
            <a:ext cx="7772400" cy="351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SOUS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PREUVE E6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INTERVEN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49400" y="331920"/>
          <a:ext cx="8928000" cy="612144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 CP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fectuer les déposes nécessaires à l’interv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dépose est effectuée dans les règles de l’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anter l’ensemble des composants et effectuer les raccord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uer les modifications logicielles ou les adaptations logiciel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travaux sont effectués dans les règles de l’art et respectent les procédures prédéfin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uer les tests, procéder à la mise au point et à la remise en serv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réglages et paramétrages sont corrects et respectent les procédures prédéfin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amélioration a été effectuée dans un temps prédétermin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 bien a retrouvé son état spécifi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nseigner l’historique du bien et mettre à jour si nécessaire la documentation techn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renseignements sont exploitables et corr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03280" y="25830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rci de votre atten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TRUCTURE DE L’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PREUV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55640" y="2192760"/>
            <a:ext cx="2808360" cy="2479320"/>
            <a:chOff x="755640" y="2192760"/>
            <a:chExt cx="2808360" cy="2479320"/>
          </a:xfrm>
        </p:grpSpPr>
        <p:sp>
          <p:nvSpPr>
            <p:cNvPr id="91" name=""/>
            <p:cNvSpPr/>
            <p:nvPr/>
          </p:nvSpPr>
          <p:spPr>
            <a:xfrm>
              <a:off x="755640" y="2851200"/>
              <a:ext cx="2808360" cy="182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agnost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6925200">
              <a:off x="2628720" y="2422080"/>
              <a:ext cx="644400" cy="216000"/>
            </a:xfrm>
            <a:custGeom>
              <a:avLst/>
              <a:gdLst>
                <a:gd name="textAreaLeft" fmla="*/ 100440 w 644400"/>
                <a:gd name="textAreaRight" fmla="*/ 564120 w 64440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95280" y="4794120"/>
            <a:ext cx="3816360" cy="93888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Durée : 4 heures, coef. 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CCF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03640" y="4794120"/>
            <a:ext cx="3816360" cy="938880"/>
          </a:xfrm>
          <a:prstGeom prst="rect">
            <a:avLst/>
          </a:prstGeom>
          <a:gradFill rotWithShape="0">
            <a:gsLst>
              <a:gs pos="0">
                <a:srgbClr val="fef8f5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Durée : 4 heures, coef. 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CCF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5805360"/>
            <a:ext cx="8424720" cy="96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Le candidat réalise son épreuve en présence de deux enseignants   assurant l’enseignement des activités pratiques                                         et d’un représentant de la profess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3640" y="1268280"/>
            <a:ext cx="2520720" cy="825480"/>
          </a:xfrm>
          <a:prstGeom prst="rect">
            <a:avLst/>
          </a:prstGeom>
          <a:gradFill rotWithShape="0">
            <a:gsLst>
              <a:gs pos="0">
                <a:srgbClr val="f7fef7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ituations d’é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219640" y="2208960"/>
            <a:ext cx="3024360" cy="2502720"/>
            <a:chOff x="5219640" y="2208960"/>
            <a:chExt cx="3024360" cy="2502720"/>
          </a:xfrm>
        </p:grpSpPr>
        <p:sp>
          <p:nvSpPr>
            <p:cNvPr id="98" name=""/>
            <p:cNvSpPr/>
            <p:nvPr/>
          </p:nvSpPr>
          <p:spPr>
            <a:xfrm>
              <a:off x="5219640" y="2851200"/>
              <a:ext cx="3024360" cy="186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se en œuvre d’une interven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14674800">
              <a:off x="5653440" y="2438280"/>
              <a:ext cx="644400" cy="215640"/>
            </a:xfrm>
            <a:custGeom>
              <a:avLst/>
              <a:gdLst>
                <a:gd name="textAreaLeft" fmla="*/ 100440 w 644400"/>
                <a:gd name="textAreaRight" fmla="*/ 564120 w 644400"/>
                <a:gd name="textAreaTop" fmla="*/ 54000 h 215640"/>
                <a:gd name="textAreaBottom" fmla="*/ 162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OBJET DE L’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PREUV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3824280"/>
            <a:ext cx="3816360" cy="1472400"/>
          </a:xfrm>
          <a:prstGeom prst="rect">
            <a:avLst/>
          </a:prstGeom>
          <a:gradFill rotWithShape="0">
            <a:gsLst>
              <a:gs pos="0">
                <a:srgbClr val="fefef7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P11 : Diagnostiquer les pannes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P16 : Identifier les risques, définir et mettre en œuvre les mesures de prévention adapté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3141720"/>
            <a:ext cx="3816360" cy="3619440"/>
          </a:xfrm>
          <a:prstGeom prst="rect">
            <a:avLst/>
          </a:prstGeom>
          <a:gradFill rotWithShape="0">
            <a:gsLst>
              <a:gs pos="0">
                <a:srgbClr val="fef8f5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out ou partie des compétences suiva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P12 : Réparer ou dépanner les biens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P13 : Mettre en œuvre des opérations de surveillance et d’inspe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P14 : Mettre en œuvre des travaux d’amélioration et intégrer des moyens de surveill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052640"/>
            <a:ext cx="2808360" cy="182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nos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19640" y="1052640"/>
            <a:ext cx="3024360" cy="1860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e en œuvre d’une inter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5986440"/>
            <a:ext cx="8424720" cy="67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eules ces compétences sont évaluées. Si d’autres compétences sont mobilisées, elle ne donnent pas lieu à évaluat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À l’issue de chaque évaluat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84464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équipe pédagogique de l’établissement de formation constitue, pour chaque candidat, un dossier comprenan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781360"/>
            <a:ext cx="7991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texte complet du sujet pos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description sommaire des moyens matériels et les documents mis à dis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documents rédigés par le candid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fiche d’évaluation du travail réalis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5589720"/>
            <a:ext cx="7632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’ensemble du dossier sera tenu à la disposition du jury et de l’autorité rectorale jusqu’à la session suiv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565360"/>
            <a:ext cx="5688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fiche d’évaluation du travail réalisé, rédigée et mise à jour                          par l’inspection générale,                  sera diffusée aux établissements par  les services rector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637920"/>
            <a:ext cx="914400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TABLISSEMENT NON HABILI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À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 PRATIQUER LE CCF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35280" y="2637000"/>
            <a:ext cx="56880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s deux situations d’évaluation s’effectuent sous la forme ponctuelle dans le même esprit que le contrôle en cours de 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77640"/>
            <a:ext cx="8424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DIAGNOSTIC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3213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es indicateurs de performances sont ceux définis dans le référentiel de certif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49400" y="115920"/>
          <a:ext cx="8928000" cy="631332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Établir le constat de défaillance, identifier la fonction défail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collecte des informations liées aux circonstance de la panne est correctement réalisé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fonction défaillante est repéré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49400" y="115920"/>
          <a:ext cx="8928000" cy="631332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Établir le constat de défaillance, identifier la fonction défail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collecte des informations liées aux circonstance de la panne est correctement réalisé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fonction défaillante est repéré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ier et répertorier les composants liés à la non réalisation de la fonction et susceptibles d’être défaill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composants de la chaîne défaillante sont répertorié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45:57Z</dcterms:created>
  <dc:creator>repmi</dc:creator>
  <dc:description/>
  <dc:language>en-US</dc:language>
  <cp:lastModifiedBy>Giezek François</cp:lastModifiedBy>
  <dcterms:modified xsi:type="dcterms:W3CDTF">2005-11-28T21:26:39Z</dcterms:modified>
  <cp:revision>79</cp:revision>
  <dc:subject/>
  <dc:title>activités et tâches professionnelles </dc:title>
</cp:coreProperties>
</file>