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DomCasual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24960" y="64897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395C-2059-4728-9D41-FD0FF40A5128}" type="slidenum"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844640"/>
            <a:ext cx="576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67080"/>
            <a:ext cx="835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liaisons complètes et guidag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Solutions constru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fonct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Lub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tanché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égl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uses et modes de défa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Opérations de maintenance associ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879720"/>
            <a:ext cx="576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tiques / ap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Désig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Traitements therm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tiques mécaniques d’un b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879720"/>
            <a:ext cx="7127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mélioration / adap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echerche d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laboration de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Intégration de la maintenance à la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44640"/>
            <a:ext cx="57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nct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mensionnement /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mélioration / adap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229360"/>
            <a:ext cx="8353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Pour chaque item : l’enseignant définit des TP permettant l’étude d’un panel représentatif des solutions existantes                                et les inscrit dans une séquenc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92428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Au cours des TP, il est constamment fait appel aux outils de représentation et de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068640"/>
            <a:ext cx="856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933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est structurée autour d’items génériques organisés en séquences pédag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86900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éances de TD répondent à une problématiqu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Analyse d’un existant à partir d’un dossier industr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Recherche de solutions d’améli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9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Élaboration d’un dossier de réa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125880"/>
            <a:ext cx="58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Les TD s’appuient sur les même items que précédemment, mais un même TD peut aborder plusieurs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1840" y="1915920"/>
            <a:ext cx="891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784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’organisation prend en compte les deux compétences visé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alyse de l’exi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et définition de solutions d’améli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889440"/>
            <a:ext cx="8569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a formation à chacune de ces compétences se décompose en deux phas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870440"/>
            <a:ext cx="856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ase d’apprenti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hase d’approfondissement et de préparation au contexte de l’exa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4437000"/>
            <a:ext cx="4680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Narrow"/>
              </a:rPr>
              <a:t>4 périodes d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933720"/>
            <a:ext cx="417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rs + TP en lien avec les matériels présents au sein des zones des sections de TS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34936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34936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84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 Narrow"/>
              </a:rPr>
              <a:t>èr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8684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 Narrow"/>
              </a:rPr>
              <a:t>èm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708280"/>
            <a:ext cx="37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nalyse de l’ex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ofondissement et prépa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u contexte de l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708280"/>
            <a:ext cx="3671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nalyse de l’ex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enti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860640"/>
            <a:ext cx="3240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echerche de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ofondissement et prépa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u contexte de l’exa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860640"/>
            <a:ext cx="3024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echerche de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Narrow"/>
              </a:rPr>
              <a:t>Apprenti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076640"/>
            <a:ext cx="417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rs + TD à partir de dossiers techniques indust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941720"/>
            <a:ext cx="48956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pprentissage lié 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À l’utilisation des outils logici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ux méthodologies de choix et de détermination des compo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4896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se en œuvre d’une démarche d’amélioration sur une problématique industrielle de maintenance   (plusieurs item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0" dur="1" fill="hold"/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ALYSE FONCTIONNELLE ET STRUCTREL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56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P 22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Permettre l’analyse de l’organisation fonctionnelle et des solutions mécaniques réalisant les fonctions opér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spcBef>
                <a:spcPts val="700"/>
              </a:spcBef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P 4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Rechercher, argumenter et réaliser les dossiers des solutions mécaniques réalisant les fonctions opér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2278080"/>
            <a:ext cx="88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de l’enseignement d’A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nement et matéria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701720"/>
            <a:ext cx="77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533680"/>
          <a:ext cx="8280360" cy="4064040"/>
        </p:xfrm>
        <a:graphic>
          <a:graphicData uri="http://schemas.openxmlformats.org/drawingml/2006/table">
            <a:tbl>
              <a:tblPr/>
              <a:tblGrid>
                <a:gridCol w="6769080"/>
                <a:gridCol w="1511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tems génér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 fonctionne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ssion de puiss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ctions techn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onnement et matériau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 d’un systè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IPEMENTS 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ESSAI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guid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transmissions de puiss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des actionneurs et récepte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es d’étude avec utilisation de l’outil informatique spécif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Modeleur volum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Logiciels de mécan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Logiciels d’aide au choix de compo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100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DomCasual BT"/>
              </a:rPr>
              <a:t>Bibliothèques de composants numérisés (3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CIDENCE SUR LA STRUCTURE ET L’ORGANIS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06064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aboratoire d’AFS organisé autour de postes de travail dédiés aux travaux pratiq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ccès aux zone système/sous système et ressources pendant les heures de travaux pratiq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2781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NTERRELATIONS ENTRE LES ENSEIGNE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2707920"/>
            <a:ext cx="856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21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savoirs et savoirs faire associés à l’AFS sont utilisés dans les autres disciplines notamment en « Activités pratiques », en « Stratégie de maintenance »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71640" y="4653000"/>
            <a:ext cx="7634160" cy="1739160"/>
            <a:chOff x="971640" y="4653000"/>
            <a:chExt cx="7634160" cy="1739160"/>
          </a:xfrm>
        </p:grpSpPr>
        <p:sp>
          <p:nvSpPr>
            <p:cNvPr id="47" name=""/>
            <p:cNvSpPr/>
            <p:nvPr/>
          </p:nvSpPr>
          <p:spPr>
            <a:xfrm>
              <a:off x="971640" y="5445000"/>
              <a:ext cx="7634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Nécessité de prendre en compte cette interdépendance dans l’organisation temporelle de l’A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4653000"/>
              <a:ext cx="287640" cy="576360"/>
            </a:xfrm>
            <a:prstGeom prst="downArrow">
              <a:avLst>
                <a:gd name="adj1" fmla="val 50000"/>
                <a:gd name="adj2" fmla="val 5009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623600"/>
            <a:ext cx="856908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716280"/>
            <a:ext cx="70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19280" y="2637000"/>
            <a:ext cx="6408720" cy="1718280"/>
            <a:chOff x="1619280" y="2637000"/>
            <a:chExt cx="6408720" cy="1718280"/>
          </a:xfrm>
        </p:grpSpPr>
        <p:sp>
          <p:nvSpPr>
            <p:cNvPr id="53" name=""/>
            <p:cNvSpPr/>
            <p:nvPr/>
          </p:nvSpPr>
          <p:spPr>
            <a:xfrm>
              <a:off x="1619280" y="3408120"/>
              <a:ext cx="640872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 Narrow"/>
                </a:rPr>
                <a:t>Tous les apprentissages sont introduits par des problématiques de maintenance réel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3280" y="2637000"/>
              <a:ext cx="360360" cy="647280"/>
            </a:xfrm>
            <a:prstGeom prst="downArrow">
              <a:avLst>
                <a:gd name="adj1" fmla="val 50000"/>
                <a:gd name="adj2" fmla="val 4490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162864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856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31840" y="1484280"/>
            <a:ext cx="871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travaux pratiques d’AFS visent à faciliter l’acquisition des savoirs et savoir-faire à travers des activités d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664000"/>
            <a:ext cx="856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composition fonctionnelle et structur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ntage et démontage (permettant de mieux appréhender l’agencement des différentes pièces, les procédures d’assemblage, de réglage et de mainten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aractérisation et détermination de compo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alcul, dimensionnement, choix de matéri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de solutions d’améli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dification de maquette numé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’AFS doit être développé d’un point de vu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068640"/>
            <a:ext cx="856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privilégie la méthode inductive par la mise en œuvre de travaux pr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933720"/>
            <a:ext cx="856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90000"/>
              </a:lnSpc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est structurée autour d’items génériques et organisée en séquences pédag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349360"/>
            <a:ext cx="849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Approche structurée des systèmes </a:t>
            </a:r>
            <a:r>
              <a:rPr b="0" lang="fr-FR" sz="2400" spc="-1" strike="noStrike">
                <a:solidFill>
                  <a:srgbClr val="ffff00"/>
                </a:solidFill>
                <a:latin typeface="DomCasual BT"/>
              </a:rPr>
              <a:t>de l’ate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Approche structurée des lignes de production industri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844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633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d’items géné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cription fonctionn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852640"/>
            <a:ext cx="6335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missions de puiss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DomCasual BT"/>
              </a:rPr>
              <a:t>Composants et chaînes cinéma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Lois entrées / so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Puissance / rend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aractérisation et déter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de montage, régl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Conditions d’util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Modes de défa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DomCasual BT"/>
              </a:rPr>
              <a:t>Opérations de maintenance associ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3:06:46Z</dcterms:created>
  <dc:creator>REPMI INRS</dc:creator>
  <dc:description/>
  <dc:language>en-US</dc:language>
  <cp:lastModifiedBy>Giezek François</cp:lastModifiedBy>
  <cp:lastPrinted>1998-01-10T16:37:20Z</cp:lastPrinted>
  <dcterms:modified xsi:type="dcterms:W3CDTF">2005-12-01T19:58:02Z</dcterms:modified>
  <cp:revision>336</cp:revision>
  <dc:subject/>
  <dc:title>Aucun titre de diapositive</dc:title>
</cp:coreProperties>
</file>