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009-78B0-44F7-9FC7-29A9484D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63E-0A8F-411B-B758-F2D14E4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C68-0F88-46CD-9F69-F21363E0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6C5-CD6A-4C53-AD16-C39B1B65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9C04-7DFB-4F4D-A6CA-FD428374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B181-1FD4-4467-A3AC-CDDCFA7F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BF8F-5CB3-4CE0-BD2B-920F0E28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DF46-C345-417E-A4C9-B3CA3434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3CB7-7EBA-4663-A8B4-D3131FB5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A72B-D6E3-4D2A-BB74-A0BE34E8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0BA4-D786-4069-8A81-7747075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DDC-6817-4A1C-80AB-ABC2A10F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3C39-62BD-4EF5-9C8A-69F599E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7EE1-80E3-4021-BD89-0749A85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98BE-5931-427B-940A-96B82EF2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AECC-B018-41EE-8703-3A87EC01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2B5C-26DF-4B6C-B91A-19711097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DD8-6908-474F-8D1A-6643BB6F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3EB-5B18-4A18-9189-615B1E50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771-EC3B-495D-BB85-4B99627F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BF9-7A12-40D7-A051-8B54BE2B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3E1-72B5-49C4-ACC4-D22ED007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A2A-EB6E-44DA-B9BC-BC2E71A2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499-98E1-4ECE-BABA-1E010775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B0B1-3267-4DD0-9357-657D496D965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5BA-7D9D-4BAD-926F-0903321A921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16000" y="2276640"/>
          <a:ext cx="8748720" cy="3420720"/>
        </p:xfrm>
        <a:graphic>
          <a:graphicData uri="http://schemas.openxmlformats.org/drawingml/2006/table">
            <a:tbl>
              <a:tblPr/>
              <a:tblGrid>
                <a:gridCol w="2879640"/>
                <a:gridCol w="5869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diger un rap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rapport est correctement rédig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présentation est soigné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ntraintes rédactionnelles sont respectées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informations sont correctement structur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éléments techniques essentiels sont  correctement mis en évid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informations sont nécessaires et suffisantes à la compréhens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49400" y="2193840"/>
          <a:ext cx="8928000" cy="445608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ésenter l’entreprise et le service maintenance 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oser le dossier en fonction du temps imparti en utilisant un vocabulaire technique adapt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présentation est correctement structuré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supports présentés sont correctement rédig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ntraintes de la présentation sont respectées Le vocabulaire technique est utilisé à bon escien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49400" y="2193840"/>
          <a:ext cx="8928000" cy="45482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ésenter l’entreprise et le service maintenance 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oser le dossier en fonction du temps imparti en utilisant un vocabulaire technique adapt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présentation est correctement structuré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supports présentés sont correctement rédig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ntraintes de la présentation sont respectées Le vocabulaire technique est utilisé à bon escien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senter les activités de maintenanc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évidence et argumenter les éléments techniques essenti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éléments techniques essentiels sont correctement mis en évid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49400" y="2430360"/>
          <a:ext cx="8928000" cy="18986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orter des réponses judicieuses et pertinentes aux questions posé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réponses apportées sont judicieuses et pertinent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84720" y="3141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tal /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16000" y="2276640"/>
          <a:ext cx="8748720" cy="2950920"/>
        </p:xfrm>
        <a:graphic>
          <a:graphicData uri="http://schemas.openxmlformats.org/drawingml/2006/table">
            <a:tbl>
              <a:tblPr/>
              <a:tblGrid>
                <a:gridCol w="2879640"/>
                <a:gridCol w="5869080"/>
              </a:tblGrid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érer le projet tech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note de cadrage du projet est correctement réalisée 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tion du beso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cation des contraintes et des informations nécessaires au proje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finition des tâches nécessaires au déroulement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49400" y="2193840"/>
          <a:ext cx="8928000" cy="31543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47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’étude préalable technique     (si la note de cadrage le précise)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laborer le dossier de réalisation du proje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propositions de solutions techniques sont pertinentes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solution est correctement décrit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49400" y="2193840"/>
          <a:ext cx="8928000" cy="314640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5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uer l’étude préalable technique     (si la note de cadrage le précise)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laborer le dossier de réalisation du proje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propositions de solutions techniques sont pertinentes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solution est correctement décrit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besoins matériels pour la réalisation du projet sont correctement définis 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planning prévisionnel pour la réalisation du projet est correctement établi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49400" y="2430360"/>
          <a:ext cx="8928000" cy="19987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la réalisation du proje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réalisation du projet est correctement mise en œuv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4" marL="1752480"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066680"/>
            <a:ext cx="7772400" cy="351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OUS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PREUVE E6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S EN MILIEU PROFESSIONN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44500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 Narrow"/>
              </a:rPr>
              <a:t>preuve ponctuelle orale : durée 1he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49400" y="2430360"/>
          <a:ext cx="8928000" cy="199872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tre en œuvre la réalisation du proje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réalisation du projet est correctement mise en œuvr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solution est opérationnel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384720" y="2997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tal /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stion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t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OSSIER TECHNIQUE L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U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16000" y="2276640"/>
          <a:ext cx="8748720" cy="3179520"/>
        </p:xfrm>
        <a:graphic>
          <a:graphicData uri="http://schemas.openxmlformats.org/drawingml/2006/table">
            <a:tbl>
              <a:tblPr/>
              <a:tblGrid>
                <a:gridCol w="2879640"/>
                <a:gridCol w="586908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parer et mettre en œuvre les moyens nécessaires pour assurer le bon déroulement de la réunion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senter l’ordre du jour de la réun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organisation de la réunion est correctement effectué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ordre du jour est correctement présenté et respecté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49400" y="2193840"/>
          <a:ext cx="8928000" cy="208116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ui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 animer la réun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que participant a pu s’exprimer, les opinions et avis exprimés sont pris en considératio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moyens de communication choisis facilitent la compréhension et le traitement du problè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49400" y="2430360"/>
          <a:ext cx="8928000" cy="1900440"/>
        </p:xfrm>
        <a:graphic>
          <a:graphicData uri="http://schemas.openxmlformats.org/drawingml/2006/table">
            <a:tbl>
              <a:tblPr/>
              <a:tblGrid>
                <a:gridCol w="3011400"/>
                <a:gridCol w="5916600"/>
              </a:tblGrid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Élaborer une synthèse par rapport aux objectifs fixés et établir le bilan de la réun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s éléments essentiels de la réunion sont mis en éviden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E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LA REVUE DE PROJ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84720" y="2997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tal /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nthè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LAN GLOBAL DE L’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            DE LA SOUS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PREUVE E63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41972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/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24360" y="41972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/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12000" y="41972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/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84720" y="54561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tal /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326088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pport de s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0" y="326088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327168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vue de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773360"/>
            <a:ext cx="2592360" cy="8254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pport de stage d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èr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0" y="1774800"/>
            <a:ext cx="5472360" cy="82548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t technique                                                en milieu professio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84720" y="59594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ef. 4 / 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03280" y="21337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rci de votre atten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TRUCTURE DE L’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55640" y="1134720"/>
            <a:ext cx="2808360" cy="2964240"/>
            <a:chOff x="755640" y="1134720"/>
            <a:chExt cx="2808360" cy="2964240"/>
          </a:xfrm>
        </p:grpSpPr>
        <p:sp>
          <p:nvSpPr>
            <p:cNvPr id="92" name=""/>
            <p:cNvSpPr/>
            <p:nvPr/>
          </p:nvSpPr>
          <p:spPr>
            <a:xfrm>
              <a:off x="755640" y="2278080"/>
              <a:ext cx="2808360" cy="182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pport de stage de 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èr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n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6925200">
              <a:off x="2086920" y="1593360"/>
              <a:ext cx="1152720" cy="21564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219640" y="1134720"/>
            <a:ext cx="3024360" cy="3003840"/>
            <a:chOff x="5219640" y="1134720"/>
            <a:chExt cx="3024360" cy="3003840"/>
          </a:xfrm>
        </p:grpSpPr>
        <p:sp>
          <p:nvSpPr>
            <p:cNvPr id="95" name=""/>
            <p:cNvSpPr/>
            <p:nvPr/>
          </p:nvSpPr>
          <p:spPr>
            <a:xfrm>
              <a:off x="5219640" y="2278080"/>
              <a:ext cx="3024360" cy="18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jet technique en milieu professionn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14674800">
              <a:off x="5688000" y="1593720"/>
              <a:ext cx="1152720" cy="21600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5280" y="4221000"/>
            <a:ext cx="3816360" cy="160920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Exposé du rapport                   15 mn max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Entretien avec la commission 10 mn max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4221000"/>
            <a:ext cx="3816360" cy="160920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Exposé du projet                     15 mn max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Entretien avec la commission 20 mn max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920" y="5986440"/>
            <a:ext cx="896472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La commission d'interrogation est composée de 2 enseignants assurant l’enseignement des activités pratiques et d’un représentant de la profess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OBJET DE L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55640" y="1277640"/>
            <a:ext cx="2808360" cy="2964240"/>
            <a:chOff x="755640" y="1277640"/>
            <a:chExt cx="2808360" cy="2964240"/>
          </a:xfrm>
        </p:grpSpPr>
        <p:sp>
          <p:nvSpPr>
            <p:cNvPr id="102" name=""/>
            <p:cNvSpPr/>
            <p:nvPr/>
          </p:nvSpPr>
          <p:spPr>
            <a:xfrm>
              <a:off x="755640" y="2421000"/>
              <a:ext cx="2808360" cy="182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pport de stage de 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èr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n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925200">
              <a:off x="2086920" y="1736280"/>
              <a:ext cx="1152720" cy="21564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19640" y="1277640"/>
            <a:ext cx="3024360" cy="3003840"/>
            <a:chOff x="5219640" y="1277640"/>
            <a:chExt cx="3024360" cy="3003840"/>
          </a:xfrm>
        </p:grpSpPr>
        <p:sp>
          <p:nvSpPr>
            <p:cNvPr id="105" name=""/>
            <p:cNvSpPr/>
            <p:nvPr/>
          </p:nvSpPr>
          <p:spPr>
            <a:xfrm>
              <a:off x="5219640" y="2421000"/>
              <a:ext cx="3024360" cy="18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jet technique en milieu professionn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14674800">
              <a:off x="5688000" y="1736640"/>
              <a:ext cx="1152720" cy="21600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5280" y="4556160"/>
            <a:ext cx="3816360" cy="2113200"/>
          </a:xfrm>
          <a:prstGeom prst="rect">
            <a:avLst/>
          </a:prstGeom>
          <a:gradFill rotWithShape="0">
            <a:gsLst>
              <a:gs pos="0">
                <a:srgbClr val="fefef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P51 : Rédiger une note, un rapport, un argumentaire technique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P52 : Exposer un dossier techn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4556160"/>
            <a:ext cx="3816360" cy="211320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P15 : Réaliser un projet technique en milieu professionnel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P53 : Animer une réunion techn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736720"/>
            <a:ext cx="813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Seules les compétences désignées ci-dessous sont évaluées. Si d’autres compétences peuvent être mobilisées, elles ne donneront pas lieu à é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UPPORTS DE L’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55640" y="1277640"/>
            <a:ext cx="2808360" cy="2964240"/>
            <a:chOff x="755640" y="1277640"/>
            <a:chExt cx="2808360" cy="2964240"/>
          </a:xfrm>
        </p:grpSpPr>
        <p:sp>
          <p:nvSpPr>
            <p:cNvPr id="112" name=""/>
            <p:cNvSpPr/>
            <p:nvPr/>
          </p:nvSpPr>
          <p:spPr>
            <a:xfrm>
              <a:off x="755640" y="2421000"/>
              <a:ext cx="2808360" cy="182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pport de stage de 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èr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n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925200">
              <a:off x="2086920" y="1736280"/>
              <a:ext cx="1152720" cy="215640"/>
            </a:xfrm>
            <a:custGeom>
              <a:avLst/>
              <a:gdLst>
                <a:gd name="textAreaLeft" fmla="*/ 180000 w 1152720"/>
                <a:gd name="textAreaRight" fmla="*/ 1008720 w 115272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003640" y="1277640"/>
            <a:ext cx="3816360" cy="4978440"/>
            <a:chOff x="5003640" y="1277640"/>
            <a:chExt cx="3816360" cy="4978440"/>
          </a:xfrm>
        </p:grpSpPr>
        <p:grpSp>
          <p:nvGrpSpPr>
            <p:cNvPr id="115" name=""/>
            <p:cNvGrpSpPr/>
            <p:nvPr/>
          </p:nvGrpSpPr>
          <p:grpSpPr>
            <a:xfrm>
              <a:off x="5219640" y="1277640"/>
              <a:ext cx="3024360" cy="3003840"/>
              <a:chOff x="5219640" y="1277640"/>
              <a:chExt cx="3024360" cy="3003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219640" y="2421000"/>
                <a:ext cx="3024360" cy="1860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jet technique en milieu professionn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4674800">
                <a:off x="5688000" y="1736640"/>
                <a:ext cx="1152720" cy="216000"/>
              </a:xfrm>
              <a:custGeom>
                <a:avLst/>
                <a:gdLst>
                  <a:gd name="textAreaLeft" fmla="*/ 180000 w 1152720"/>
                  <a:gd name="textAreaRight" fmla="*/ 1008720 w 1152720"/>
                  <a:gd name="textAreaTop" fmla="*/ 54000 h 216000"/>
                  <a:gd name="textAreaBottom" fmla="*/ 162000 h 2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003640" y="4508640"/>
              <a:ext cx="3816360" cy="1747440"/>
            </a:xfrm>
            <a:prstGeom prst="rect">
              <a:avLst/>
            </a:prstGeom>
            <a:gradFill rotWithShape="0">
              <a:gsLst>
                <a:gs pos="0">
                  <a:srgbClr val="fef8f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ossier techn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2520" indent="-182520"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Fiche d’évaluation de la revue de projet animée par le candida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CONTENU DES DOCUMENTS SUPPORTS DE L’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3571920"/>
            <a:ext cx="4032360" cy="2303640"/>
          </a:xfrm>
          <a:prstGeom prst="rect">
            <a:avLst/>
          </a:prstGeom>
          <a:gradFill rotWithShape="0">
            <a:gsLst>
              <a:gs pos="0">
                <a:srgbClr val="fefee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 de l’entrepris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 de la fonction maintenanc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 des activités de maintenan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628640"/>
            <a:ext cx="2808360" cy="182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port de stage d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447920"/>
            <a:ext cx="3024360" cy="186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ssier technique lié a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324240"/>
            <a:ext cx="3816360" cy="355356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escription du travail réali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- Note de cad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- Macro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- Étude préa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- Dossier de ré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Présentation de la mise en œuv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Bilan du proj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MISE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À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DISPOSITION DES DOCUMENTS SUPPORTS DE L’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PREUV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571920"/>
            <a:ext cx="3816360" cy="1099440"/>
          </a:xfrm>
          <a:prstGeom prst="rect">
            <a:avLst/>
          </a:prstGeom>
          <a:gradFill rotWithShape="0">
            <a:gsLst>
              <a:gs pos="0">
                <a:srgbClr val="fefee8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it être rendu impérativement à une date fixée annuellement au niveau de chaque académi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571920"/>
            <a:ext cx="3816360" cy="1434600"/>
          </a:xfrm>
          <a:prstGeom prst="rect">
            <a:avLst/>
          </a:prstGeom>
          <a:gradFill rotWithShape="0">
            <a:gsLst>
              <a:gs pos="0">
                <a:srgbClr val="fef8f5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it être mis à disposition  de la commission d’examen 15 jours avant la date de démarrage de l’épreu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1628640"/>
            <a:ext cx="2808360" cy="182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port de stage d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1628640"/>
            <a:ext cx="3024360" cy="186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ssier technique lié a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5084640"/>
            <a:ext cx="88455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d0d"/>
                </a:solidFill>
                <a:latin typeface="Arial Narrow"/>
              </a:rPr>
              <a:t>Un candidat n’ayant pas remis son rapport, ou son projet, à la date fixée se verra attribuer la notation « non validée » pour l’épreuve E6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5934240"/>
            <a:ext cx="886140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d0d"/>
                </a:solidFill>
                <a:latin typeface="Arial Narrow"/>
              </a:rPr>
              <a:t>Un candidat qui aurait remis son rapport, ou son projet, et répondu à sa convocation mais qui ne soutient pas son dossier se verra attribuer la note «0»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0000" y="321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 indicateurs de performances sont ceux définis dans le référentiel de cert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16000" y="2276640"/>
          <a:ext cx="8748720" cy="3409920"/>
        </p:xfrm>
        <a:graphic>
          <a:graphicData uri="http://schemas.openxmlformats.org/drawingml/2006/table">
            <a:tbl>
              <a:tblPr/>
              <a:tblGrid>
                <a:gridCol w="2879640"/>
                <a:gridCol w="5869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CATEURS DE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diger un rap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rapport est correctement rédig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présentation est soigné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 contraintes rédactionnelles sont respectées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820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ALUATION DU 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APPORT DE STAGE DE 1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ère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anné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effee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 Narrow"/>
              </a:rPr>
              <a:t>Réd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0" y="1628640"/>
            <a:ext cx="2592360" cy="459720"/>
          </a:xfrm>
          <a:prstGeom prst="rect">
            <a:avLst/>
          </a:prstGeom>
          <a:gradFill rotWithShape="0">
            <a:gsLst>
              <a:gs pos="0">
                <a:srgbClr val="fee9e9"/>
              </a:gs>
              <a:gs pos="100000">
                <a:srgbClr val="ff0d0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639800"/>
            <a:ext cx="2592360" cy="45972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111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re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François Giezek</dc:creator>
  <dc:description/>
  <dc:language>en-US</dc:language>
  <cp:lastModifiedBy>DURIEZ DOMINIQUE</cp:lastModifiedBy>
  <dcterms:modified xsi:type="dcterms:W3CDTF">2005-12-01T19:28:07Z</dcterms:modified>
  <cp:revision>75</cp:revision>
  <dc:subject/>
  <dc:title>activités et tâches professionnelles </dc:title>
</cp:coreProperties>
</file>