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517-F9F4-45D6-A28C-6E11AED2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C95-CCF9-4578-8E7C-4195D5D2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EA4-4F2B-4999-A724-4818C776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C73-8C79-4E18-B915-31CD546D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FE2D-BCD7-438A-A622-17D7BD51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8278-EB74-44E9-BE23-BAABD754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16ED-261E-4BC5-B351-FD931F7F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B2AE-D751-408F-94AA-68C6F499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8C4D-81A7-4B09-851B-735EE0C6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232D-8A95-4025-B0CB-B65D5474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A89F-5F92-472A-AD7A-D08C7B42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86A2-3AA6-408D-A7E2-04B4C2C0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31BA-5FAC-4AEC-956A-77BBA84C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914C-2FDF-4D29-BAD1-806AEB22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33C7-57D7-47B3-AB0F-4307710F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E04C-B234-449B-963E-321A0E10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7C08-7091-44D9-AEC1-5929C398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AA2-0B1F-463A-A5AE-E9334656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2D0-F1B9-4BD2-B60F-182AAEC7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8FF-398C-45F4-9282-8753FA5E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FBD-1416-4CF3-85F4-0CB1E9C8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582-F65D-4A83-AF97-9BCA8595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8AE-C19E-4BA7-86B0-5C83F725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7DA-D788-4216-BC7E-86BA7183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9020-0E27-4ECF-9B35-ABF82B361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405B-75D7-4C1C-84A2-9C9FE7096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2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909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RÉER DE LA COMPRÉHEN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2509920"/>
            <a:ext cx="7925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ndre conscience des différents éléments qui constituent une situation de travail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ndre leur articulation et l’incidence en terme de risqu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ndre le processus qui conduit à l’apparition d’accidents du travail ou d’atteintes à la sant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76320"/>
            <a:ext cx="1523880" cy="520200"/>
          </a:xfrm>
          <a:prstGeom prst="rect">
            <a:avLst/>
          </a:prstGeom>
          <a:gradFill rotWithShape="0">
            <a:gsLst>
              <a:gs pos="0">
                <a:srgbClr val="f5f9f7"/>
              </a:gs>
              <a:gs pos="100000">
                <a:srgbClr val="a0c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 Narrow"/>
              </a:rPr>
              <a:t>CRÉER DE LA COMPRÉHEN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7840" y="76320"/>
            <a:ext cx="1524240" cy="520200"/>
          </a:xfrm>
          <a:prstGeom prst="rect">
            <a:avLst/>
          </a:prstGeom>
          <a:gradFill rotWithShape="0">
            <a:gsLst>
              <a:gs pos="0">
                <a:srgbClr val="fefef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ORTER DE LA MÉTHOD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92840" y="76320"/>
            <a:ext cx="1600200" cy="520200"/>
          </a:xfrm>
          <a:prstGeom prst="rect">
            <a:avLst/>
          </a:prstGeom>
          <a:gradFill rotWithShape="0">
            <a:gsLst>
              <a:gs pos="0">
                <a:srgbClr val="feeff5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LIQUER EN SITUATION RÉ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7040" y="76320"/>
            <a:ext cx="1533600" cy="520200"/>
          </a:xfrm>
          <a:prstGeom prst="rect">
            <a:avLst/>
          </a:prstGeom>
          <a:gradFill rotWithShape="0">
            <a:gsLst>
              <a:gs pos="0">
                <a:srgbClr val="eff8fb"/>
              </a:gs>
              <a:gs pos="100000">
                <a:srgbClr val="00a3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AÎTRE L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9234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RÉER DE LA COMPRÉHEN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158920"/>
            <a:ext cx="792504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ettre aux élèves de prendre conscience de la diversité et de la multiplicité des risqu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ettre aux élèves de prendre conscience de la multi-causalité des accident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ettre aux élèves de prendre conscience de leur propre exposition aux risqu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ettre que la PRP ne soit perçue uniquement comme un ensemble de règles à respecter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tre en évidence la nécessité de méthodologies pour pouvoir maîtriser les risq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76320"/>
            <a:ext cx="1523880" cy="520200"/>
          </a:xfrm>
          <a:prstGeom prst="rect">
            <a:avLst/>
          </a:prstGeom>
          <a:gradFill rotWithShape="0">
            <a:gsLst>
              <a:gs pos="0">
                <a:srgbClr val="f5f9f7"/>
              </a:gs>
              <a:gs pos="100000">
                <a:srgbClr val="a0c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 Narrow"/>
              </a:rPr>
              <a:t>CRÉER DE LA COMPRÉHEN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17840" y="76320"/>
            <a:ext cx="1524240" cy="52020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ORTER DE LA MÉTHOD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92840" y="76320"/>
            <a:ext cx="1600200" cy="520200"/>
          </a:xfrm>
          <a:prstGeom prst="rect">
            <a:avLst/>
          </a:prstGeom>
          <a:gradFill rotWithShape="0">
            <a:gsLst>
              <a:gs pos="0">
                <a:srgbClr val="feeff5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LIQUER EN SITUATION RÉ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7040" y="76320"/>
            <a:ext cx="1533600" cy="520200"/>
          </a:xfrm>
          <a:prstGeom prst="rect">
            <a:avLst/>
          </a:prstGeom>
          <a:gradFill rotWithShape="0">
            <a:gsLst>
              <a:gs pos="0">
                <a:srgbClr val="eff8fb"/>
              </a:gs>
              <a:gs pos="100000">
                <a:srgbClr val="00a3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AÎTRE L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838836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7564"/>
                </a:moveTo>
                <a:lnTo>
                  <a:pt x="7301" y="7564"/>
                </a:lnTo>
                <a:lnTo>
                  <a:pt x="7301" y="12900"/>
                </a:lnTo>
                <a:cubicBezTo>
                  <a:pt x="7301" y="13822"/>
                  <a:pt x="8102" y="14554"/>
                  <a:pt x="9138" y="14554"/>
                </a:cubicBezTo>
                <a:lnTo>
                  <a:pt x="10800" y="14554"/>
                </a:lnTo>
                <a:cubicBezTo>
                  <a:pt x="11836" y="14554"/>
                  <a:pt x="12636" y="13822"/>
                  <a:pt x="12636" y="12900"/>
                </a:cubicBezTo>
                <a:lnTo>
                  <a:pt x="12636" y="7564"/>
                </a:lnTo>
                <a:lnTo>
                  <a:pt x="10800" y="7564"/>
                </a:lnTo>
                <a:lnTo>
                  <a:pt x="14308" y="4057"/>
                </a:lnTo>
                <a:lnTo>
                  <a:pt x="17981" y="7564"/>
                </a:lnTo>
                <a:lnTo>
                  <a:pt x="16144" y="7564"/>
                </a:lnTo>
                <a:lnTo>
                  <a:pt x="16144" y="12900"/>
                </a:lnTo>
                <a:cubicBezTo>
                  <a:pt x="16144" y="15668"/>
                  <a:pt x="13568" y="18227"/>
                  <a:pt x="10800" y="18227"/>
                </a:cubicBezTo>
                <a:lnTo>
                  <a:pt x="9138" y="18227"/>
                </a:lnTo>
                <a:cubicBezTo>
                  <a:pt x="6370" y="18227"/>
                  <a:pt x="3794" y="15668"/>
                  <a:pt x="3794" y="1290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969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PPORTER DE LA MÉTHODOLOGI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382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ettre l’appréhension des risques dans n’importe quelle situation de trava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2697120"/>
            <a:ext cx="25905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 Narrow"/>
              </a:rPr>
              <a:t>OBJECT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86280" y="4525920"/>
            <a:ext cx="25905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 Narrow"/>
              </a:rPr>
              <a:t>PRINCI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22936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e de la situation de travail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éfinition de mesures de préven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76320"/>
            <a:ext cx="1523880" cy="520200"/>
          </a:xfrm>
          <a:prstGeom prst="rect">
            <a:avLst/>
          </a:prstGeom>
          <a:gradFill rotWithShape="0">
            <a:gsLst>
              <a:gs pos="0">
                <a:srgbClr val="f5f9f7"/>
              </a:gs>
              <a:gs pos="100000">
                <a:srgbClr val="a0c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ÉER DE LA COMPRÉHEN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17840" y="76320"/>
            <a:ext cx="1524240" cy="520200"/>
          </a:xfrm>
          <a:prstGeom prst="rect">
            <a:avLst/>
          </a:prstGeom>
          <a:gradFill rotWithShape="0">
            <a:gsLst>
              <a:gs pos="0">
                <a:srgbClr val="fefee8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 Narrow"/>
              </a:rPr>
              <a:t>APPORTER DE LA MÉTHOD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92840" y="76320"/>
            <a:ext cx="1600200" cy="520200"/>
          </a:xfrm>
          <a:prstGeom prst="rect">
            <a:avLst/>
          </a:prstGeom>
          <a:gradFill rotWithShape="0">
            <a:gsLst>
              <a:gs pos="0">
                <a:srgbClr val="feeff5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LIQUER EN SITUATION RÉ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47040" y="76320"/>
            <a:ext cx="1533600" cy="520200"/>
          </a:xfrm>
          <a:prstGeom prst="rect">
            <a:avLst/>
          </a:prstGeom>
          <a:gradFill rotWithShape="0">
            <a:gsLst>
              <a:gs pos="0">
                <a:srgbClr val="eff8fb"/>
              </a:gs>
              <a:gs pos="100000">
                <a:srgbClr val="00a3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AÎTRE L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972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PPORTER DE LA MÉTHODOLOGI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23860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érentes démarches de prévention permettent de mettre en œuvre cette méthodologie en fonction des situations et des objectifs recherché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638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OUTES CES DÉMARCHES CONTRIBUENT DE MANIÈRES DIFFÉRENTES À LA PRÉVENTION DES RIS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76320"/>
            <a:ext cx="1523880" cy="520200"/>
          </a:xfrm>
          <a:prstGeom prst="rect">
            <a:avLst/>
          </a:prstGeom>
          <a:gradFill rotWithShape="0">
            <a:gsLst>
              <a:gs pos="0">
                <a:srgbClr val="f5f9f7"/>
              </a:gs>
              <a:gs pos="100000">
                <a:srgbClr val="a0c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ÉER DE LA COMPRÉHEN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17840" y="76320"/>
            <a:ext cx="1524240" cy="52020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 Narrow"/>
              </a:rPr>
              <a:t>APPORTER DE LA MÉTHOD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92840" y="76320"/>
            <a:ext cx="1600200" cy="520200"/>
          </a:xfrm>
          <a:prstGeom prst="rect">
            <a:avLst/>
          </a:prstGeom>
          <a:gradFill rotWithShape="0">
            <a:gsLst>
              <a:gs pos="0">
                <a:srgbClr val="feeff5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LIQUER EN SITUATION RÉ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7040" y="76320"/>
            <a:ext cx="1533600" cy="520200"/>
          </a:xfrm>
          <a:prstGeom prst="rect">
            <a:avLst/>
          </a:prstGeom>
          <a:gradFill rotWithShape="0">
            <a:gsLst>
              <a:gs pos="0">
                <a:srgbClr val="eff8fb"/>
              </a:gs>
              <a:gs pos="100000">
                <a:srgbClr val="00a3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AÎTRE L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1800" y="3838680"/>
            <a:ext cx="2514600" cy="1191240"/>
          </a:xfrm>
          <a:prstGeom prst="rect">
            <a:avLst/>
          </a:prstGeom>
          <a:gradFill rotWithShape="0">
            <a:gsLst>
              <a:gs pos="0">
                <a:srgbClr val="e1fee1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ÉMARCHE D’ANALYSE    D’UN ACCI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3848040"/>
            <a:ext cx="2514600" cy="1191240"/>
          </a:xfrm>
          <a:prstGeom prst="rect">
            <a:avLst/>
          </a:prstGeom>
          <a:gradFill rotWithShape="0">
            <a:gsLst>
              <a:gs pos="0">
                <a:srgbClr val="e8e8fe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ÉMARCHE DE MAÎTRISE DES RIS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3857760"/>
            <a:ext cx="2514600" cy="1373760"/>
          </a:xfrm>
          <a:prstGeom prst="rect">
            <a:avLst/>
          </a:prstGeom>
          <a:gradFill rotWithShape="0">
            <a:gsLst>
              <a:gs pos="0">
                <a:srgbClr val="feeff2"/>
              </a:gs>
              <a:gs pos="100000">
                <a:srgbClr val="ff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ÉMARCHE ERGONOM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ISE EN COHÉRENCE DES DIFFÉRENTES DÉMARCH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3080" y="2647800"/>
            <a:ext cx="2519280" cy="997200"/>
          </a:xfrm>
          <a:prstGeom prst="rect">
            <a:avLst/>
          </a:prstGeom>
          <a:gradFill rotWithShape="0">
            <a:gsLst>
              <a:gs pos="0">
                <a:srgbClr val="e9fee9"/>
              </a:gs>
              <a:gs pos="100000">
                <a:srgbClr val="47ff4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acc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61800" y="1886040"/>
            <a:ext cx="8477280" cy="661680"/>
            <a:chOff x="361800" y="1886040"/>
            <a:chExt cx="8477280" cy="661680"/>
          </a:xfrm>
        </p:grpSpPr>
        <p:sp>
          <p:nvSpPr>
            <p:cNvPr id="185" name=""/>
            <p:cNvSpPr/>
            <p:nvPr/>
          </p:nvSpPr>
          <p:spPr>
            <a:xfrm>
              <a:off x="361800" y="188604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e1fee1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D’ANALYSE    D’UN ACCID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2680" y="189540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e8e8fe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DE MAÎTRISE DES RISQU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4480" y="190512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feeff2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ERGONOMIQ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319800" y="2655720"/>
            <a:ext cx="2519280" cy="997200"/>
          </a:xfrm>
          <a:prstGeom prst="rect">
            <a:avLst/>
          </a:prstGeom>
          <a:gradFill rotWithShape="0">
            <a:gsLst>
              <a:gs pos="0">
                <a:srgbClr val="feefef"/>
              </a:gs>
              <a:gs pos="100000">
                <a:srgbClr val="ff0d0d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eff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48000" y="2646360"/>
            <a:ext cx="2519280" cy="99684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dom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ISE EN COHÉRENCE DES DIFFÉRENTES DÉMARCH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3080" y="2647800"/>
            <a:ext cx="2519280" cy="997200"/>
          </a:xfrm>
          <a:prstGeom prst="rect">
            <a:avLst/>
          </a:prstGeom>
          <a:gradFill rotWithShape="0">
            <a:gsLst>
              <a:gs pos="0">
                <a:srgbClr val="e9fee9"/>
              </a:gs>
              <a:gs pos="100000">
                <a:srgbClr val="47ff4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acc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61800" y="1886040"/>
            <a:ext cx="8477280" cy="661680"/>
            <a:chOff x="361800" y="1886040"/>
            <a:chExt cx="8477280" cy="661680"/>
          </a:xfrm>
        </p:grpSpPr>
        <p:sp>
          <p:nvSpPr>
            <p:cNvPr id="193" name=""/>
            <p:cNvSpPr/>
            <p:nvPr/>
          </p:nvSpPr>
          <p:spPr>
            <a:xfrm>
              <a:off x="361800" y="188604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e1fee1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D’ANALYSE    D’UN ACCID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52680" y="189540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e8e8fe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DE MAÎTRISE DES RISQU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480" y="190512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feeff2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ERGONOMIQ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33360" y="3714840"/>
            <a:ext cx="2519280" cy="2346120"/>
          </a:xfrm>
          <a:prstGeom prst="rect">
            <a:avLst/>
          </a:prstGeom>
          <a:gradFill rotWithShape="0">
            <a:gsLst>
              <a:gs pos="0">
                <a:srgbClr val="eafeea"/>
              </a:gs>
              <a:gs pos="100000">
                <a:srgbClr val="57ff5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eil des fa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ion de l’ar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e préven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19800" y="2655720"/>
            <a:ext cx="2519280" cy="997200"/>
          </a:xfrm>
          <a:prstGeom prst="rect">
            <a:avLst/>
          </a:prstGeom>
          <a:gradFill rotWithShape="0">
            <a:gsLst>
              <a:gs pos="0">
                <a:srgbClr val="feefef"/>
              </a:gs>
              <a:gs pos="100000">
                <a:srgbClr val="ff0d0d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eff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10440" y="3722760"/>
            <a:ext cx="2519280" cy="2346120"/>
          </a:xfrm>
          <a:prstGeom prst="rect">
            <a:avLst/>
          </a:prstGeom>
          <a:gradFill rotWithShape="0">
            <a:gsLst>
              <a:gs pos="0">
                <a:srgbClr val="feecec"/>
              </a:gs>
              <a:gs pos="100000">
                <a:srgbClr val="ff373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e de la situation de trav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’améli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8000" y="2646360"/>
            <a:ext cx="2519280" cy="99684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dom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38640" y="3713040"/>
            <a:ext cx="2519280" cy="23461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4b4b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éciation du risque : délimitation, identification, estimation, é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e suppression et/ou de réduction du ris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ISE EN COHÉRENCE DES DIFFÉRENTES DÉMARCH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3080" y="2647800"/>
            <a:ext cx="2519280" cy="997200"/>
          </a:xfrm>
          <a:prstGeom prst="rect">
            <a:avLst/>
          </a:prstGeom>
          <a:gradFill rotWithShape="0">
            <a:gsLst>
              <a:gs pos="0">
                <a:srgbClr val="e9fee9"/>
              </a:gs>
              <a:gs pos="100000">
                <a:srgbClr val="47ff4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acc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61800" y="1886040"/>
            <a:ext cx="8477280" cy="661680"/>
            <a:chOff x="361800" y="1886040"/>
            <a:chExt cx="8477280" cy="661680"/>
          </a:xfrm>
        </p:grpSpPr>
        <p:sp>
          <p:nvSpPr>
            <p:cNvPr id="204" name=""/>
            <p:cNvSpPr/>
            <p:nvPr/>
          </p:nvSpPr>
          <p:spPr>
            <a:xfrm>
              <a:off x="361800" y="188604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e1fee1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D’ANALYSE    D’UN ACCID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52680" y="189540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e8e8fe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DE MAÎTRISE DES RISQU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24480" y="1905120"/>
              <a:ext cx="2514600" cy="642600"/>
            </a:xfrm>
            <a:prstGeom prst="rect">
              <a:avLst/>
            </a:prstGeom>
            <a:gradFill rotWithShape="0">
              <a:gsLst>
                <a:gs pos="0">
                  <a:srgbClr val="feeff2"/>
                </a:gs>
                <a:gs pos="100000">
                  <a:srgbClr val="ff00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ÉMARCHE ERGONOMIQ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33360" y="3714840"/>
            <a:ext cx="2519280" cy="2346120"/>
          </a:xfrm>
          <a:prstGeom prst="rect">
            <a:avLst/>
          </a:prstGeom>
          <a:gradFill rotWithShape="0">
            <a:gsLst>
              <a:gs pos="0">
                <a:srgbClr val="eafeea"/>
              </a:gs>
              <a:gs pos="100000">
                <a:srgbClr val="57ff5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eil des fa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ion de l’ar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e préven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6149880"/>
            <a:ext cx="2519280" cy="642600"/>
          </a:xfrm>
          <a:prstGeom prst="rect">
            <a:avLst/>
          </a:prstGeom>
          <a:gradFill rotWithShape="0">
            <a:gsLst>
              <a:gs pos="0">
                <a:srgbClr val="eafeea"/>
              </a:gs>
              <a:gs pos="100000">
                <a:srgbClr val="75ff75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ages et limites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655720"/>
            <a:ext cx="2519280" cy="997200"/>
          </a:xfrm>
          <a:prstGeom prst="rect">
            <a:avLst/>
          </a:prstGeom>
          <a:gradFill rotWithShape="0">
            <a:gsLst>
              <a:gs pos="0">
                <a:srgbClr val="feefef"/>
              </a:gs>
              <a:gs pos="100000">
                <a:srgbClr val="ff0d0d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eff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10440" y="3722760"/>
            <a:ext cx="2519280" cy="2346120"/>
          </a:xfrm>
          <a:prstGeom prst="rect">
            <a:avLst/>
          </a:prstGeom>
          <a:gradFill rotWithShape="0">
            <a:gsLst>
              <a:gs pos="0">
                <a:srgbClr val="feecec"/>
              </a:gs>
              <a:gs pos="100000">
                <a:srgbClr val="ff373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e de la situation de trav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’améli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00720" y="6157800"/>
            <a:ext cx="2519280" cy="642600"/>
          </a:xfrm>
          <a:prstGeom prst="rect">
            <a:avLst/>
          </a:prstGeom>
          <a:gradFill rotWithShape="0">
            <a:gsLst>
              <a:gs pos="0">
                <a:srgbClr val="fef4f4"/>
              </a:gs>
              <a:gs pos="100000">
                <a:srgbClr val="ff6565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ages et limites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2646360"/>
            <a:ext cx="2519280" cy="99684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dom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38640" y="3713040"/>
            <a:ext cx="2519280" cy="23461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4b4b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éciation du risque : délimitation, identification, estimation, é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e suppression et/ou de réduction du ris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8920" y="6148440"/>
            <a:ext cx="2519280" cy="642600"/>
          </a:xfrm>
          <a:prstGeom prst="rect">
            <a:avLst/>
          </a:prstGeom>
          <a:gradFill rotWithShape="0">
            <a:gsLst>
              <a:gs pos="0">
                <a:srgbClr val="eeeefe"/>
              </a:gs>
              <a:gs pos="100000">
                <a:srgbClr val="7979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ages et limites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889308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7564"/>
                </a:moveTo>
                <a:lnTo>
                  <a:pt x="7301" y="7564"/>
                </a:lnTo>
                <a:lnTo>
                  <a:pt x="7301" y="12900"/>
                </a:lnTo>
                <a:cubicBezTo>
                  <a:pt x="7301" y="13822"/>
                  <a:pt x="8102" y="14554"/>
                  <a:pt x="9138" y="14554"/>
                </a:cubicBezTo>
                <a:lnTo>
                  <a:pt x="10800" y="14554"/>
                </a:lnTo>
                <a:cubicBezTo>
                  <a:pt x="11836" y="14554"/>
                  <a:pt x="12636" y="13822"/>
                  <a:pt x="12636" y="12900"/>
                </a:cubicBezTo>
                <a:lnTo>
                  <a:pt x="12636" y="7564"/>
                </a:lnTo>
                <a:lnTo>
                  <a:pt x="10800" y="7564"/>
                </a:lnTo>
                <a:lnTo>
                  <a:pt x="14308" y="4057"/>
                </a:lnTo>
                <a:lnTo>
                  <a:pt x="17981" y="7564"/>
                </a:lnTo>
                <a:lnTo>
                  <a:pt x="16144" y="7564"/>
                </a:lnTo>
                <a:lnTo>
                  <a:pt x="16144" y="12900"/>
                </a:lnTo>
                <a:cubicBezTo>
                  <a:pt x="16144" y="15668"/>
                  <a:pt x="13568" y="18227"/>
                  <a:pt x="10800" y="18227"/>
                </a:cubicBezTo>
                <a:lnTo>
                  <a:pt x="9138" y="18227"/>
                </a:lnTo>
                <a:cubicBezTo>
                  <a:pt x="6370" y="18227"/>
                  <a:pt x="3794" y="15668"/>
                  <a:pt x="3794" y="1290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ISE EN COHÉRENCE DES DIFFÉRENTES DÉMARCH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3080" y="2647800"/>
            <a:ext cx="2519280" cy="997200"/>
          </a:xfrm>
          <a:prstGeom prst="rect">
            <a:avLst/>
          </a:prstGeom>
          <a:gradFill rotWithShape="0">
            <a:gsLst>
              <a:gs pos="0">
                <a:srgbClr val="e9fee9"/>
              </a:gs>
              <a:gs pos="100000">
                <a:srgbClr val="47ff4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acc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1800" y="1886040"/>
            <a:ext cx="2514600" cy="642600"/>
          </a:xfrm>
          <a:prstGeom prst="rect">
            <a:avLst/>
          </a:prstGeom>
          <a:gradFill rotWithShape="0">
            <a:gsLst>
              <a:gs pos="0">
                <a:srgbClr val="e1fee1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ÉMARCHE D’ANALYSE    D’UN ACC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1905120"/>
            <a:ext cx="2514600" cy="642600"/>
          </a:xfrm>
          <a:prstGeom prst="rect">
            <a:avLst/>
          </a:prstGeom>
          <a:gradFill rotWithShape="0">
            <a:gsLst>
              <a:gs pos="0">
                <a:srgbClr val="feeff2"/>
              </a:gs>
              <a:gs pos="100000">
                <a:srgbClr val="ff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ÉMARCHE ERGONOM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3360" y="3714840"/>
            <a:ext cx="2519280" cy="2346120"/>
          </a:xfrm>
          <a:prstGeom prst="rect">
            <a:avLst/>
          </a:prstGeom>
          <a:gradFill rotWithShape="0">
            <a:gsLst>
              <a:gs pos="0">
                <a:srgbClr val="eafeea"/>
              </a:gs>
              <a:gs pos="100000">
                <a:srgbClr val="57ff5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eil des fa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ion de l’ar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e préven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6149880"/>
            <a:ext cx="2519280" cy="642600"/>
          </a:xfrm>
          <a:prstGeom prst="rect">
            <a:avLst/>
          </a:prstGeom>
          <a:gradFill rotWithShape="0">
            <a:gsLst>
              <a:gs pos="0">
                <a:srgbClr val="eafeea"/>
              </a:gs>
              <a:gs pos="100000">
                <a:srgbClr val="75ff75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ages et limites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19800" y="2655720"/>
            <a:ext cx="2519280" cy="997200"/>
          </a:xfrm>
          <a:prstGeom prst="rect">
            <a:avLst/>
          </a:prstGeom>
          <a:gradFill rotWithShape="0">
            <a:gsLst>
              <a:gs pos="0">
                <a:srgbClr val="feefef"/>
              </a:gs>
              <a:gs pos="100000">
                <a:srgbClr val="ff0d0d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eff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10440" y="3722760"/>
            <a:ext cx="2519280" cy="2346120"/>
          </a:xfrm>
          <a:prstGeom prst="rect">
            <a:avLst/>
          </a:prstGeom>
          <a:gradFill rotWithShape="0">
            <a:gsLst>
              <a:gs pos="0">
                <a:srgbClr val="feecec"/>
              </a:gs>
              <a:gs pos="100000">
                <a:srgbClr val="ff3737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e de la situation de trav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’améli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00720" y="6157800"/>
            <a:ext cx="2519280" cy="642600"/>
          </a:xfrm>
          <a:prstGeom prst="rect">
            <a:avLst/>
          </a:prstGeom>
          <a:gradFill rotWithShape="0">
            <a:gsLst>
              <a:gs pos="0">
                <a:srgbClr val="fef4f4"/>
              </a:gs>
              <a:gs pos="100000">
                <a:srgbClr val="ff6565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ages et limites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2646360"/>
            <a:ext cx="2519280" cy="99684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dom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38640" y="3713040"/>
            <a:ext cx="2519280" cy="23461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4b4b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            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éciation du risque : délimitation, identification, estimation, é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mesures de suppression et/ou de réduction du ris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895400"/>
            <a:ext cx="3097080" cy="2064600"/>
          </a:xfrm>
          <a:prstGeom prst="rect">
            <a:avLst/>
          </a:prstGeom>
          <a:gradFill rotWithShape="0">
            <a:gsLst>
              <a:gs pos="0">
                <a:srgbClr val="e8e8fe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ÉMARC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 MAÎT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S RIS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28920" y="6148440"/>
            <a:ext cx="2519280" cy="642600"/>
          </a:xfrm>
          <a:prstGeom prst="rect">
            <a:avLst/>
          </a:prstGeom>
          <a:gradFill rotWithShape="0">
            <a:gsLst>
              <a:gs pos="0">
                <a:srgbClr val="eeeefe"/>
              </a:gs>
              <a:gs pos="100000">
                <a:srgbClr val="7979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ages et limites de la démar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889308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7564"/>
                </a:moveTo>
                <a:lnTo>
                  <a:pt x="7301" y="7564"/>
                </a:lnTo>
                <a:lnTo>
                  <a:pt x="7301" y="12900"/>
                </a:lnTo>
                <a:cubicBezTo>
                  <a:pt x="7301" y="13822"/>
                  <a:pt x="8102" y="14554"/>
                  <a:pt x="9138" y="14554"/>
                </a:cubicBezTo>
                <a:lnTo>
                  <a:pt x="10800" y="14554"/>
                </a:lnTo>
                <a:cubicBezTo>
                  <a:pt x="11836" y="14554"/>
                  <a:pt x="12636" y="13822"/>
                  <a:pt x="12636" y="12900"/>
                </a:cubicBezTo>
                <a:lnTo>
                  <a:pt x="12636" y="7564"/>
                </a:lnTo>
                <a:lnTo>
                  <a:pt x="10800" y="7564"/>
                </a:lnTo>
                <a:lnTo>
                  <a:pt x="14308" y="4057"/>
                </a:lnTo>
                <a:lnTo>
                  <a:pt x="17981" y="7564"/>
                </a:lnTo>
                <a:lnTo>
                  <a:pt x="16144" y="7564"/>
                </a:lnTo>
                <a:lnTo>
                  <a:pt x="16144" y="12900"/>
                </a:lnTo>
                <a:cubicBezTo>
                  <a:pt x="16144" y="15668"/>
                  <a:pt x="13568" y="18227"/>
                  <a:pt x="10800" y="18227"/>
                </a:cubicBezTo>
                <a:lnTo>
                  <a:pt x="9138" y="18227"/>
                </a:lnTo>
                <a:cubicBezTo>
                  <a:pt x="6370" y="18227"/>
                  <a:pt x="3794" y="15668"/>
                  <a:pt x="3794" y="1290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348000" y="2646360"/>
            <a:ext cx="2519280" cy="99684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lin ang="135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ésentation schématique du processus d’apparition  d’un dom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1900080"/>
            <a:ext cx="3097080" cy="2064600"/>
          </a:xfrm>
          <a:prstGeom prst="rect">
            <a:avLst/>
          </a:prstGeom>
          <a:gradFill rotWithShape="0">
            <a:gsLst>
              <a:gs pos="0">
                <a:srgbClr val="e8e8fe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ÉMARC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 MAÎT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S RIS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3360" y="2843280"/>
            <a:ext cx="2951280" cy="3450960"/>
            <a:chOff x="63360" y="2843280"/>
            <a:chExt cx="2951280" cy="3450960"/>
          </a:xfrm>
        </p:grpSpPr>
        <p:sp>
          <p:nvSpPr>
            <p:cNvPr id="233" name=""/>
            <p:cNvSpPr/>
            <p:nvPr/>
          </p:nvSpPr>
          <p:spPr>
            <a:xfrm>
              <a:off x="63360" y="4737240"/>
              <a:ext cx="2951280" cy="15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Arial Narrow"/>
                </a:rPr>
                <a:t>Démarche qui s’applique à une très grande majorité de situa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rot="16200000">
              <a:off x="1151640" y="2878920"/>
              <a:ext cx="1224000" cy="1152720"/>
            </a:xfrm>
            <a:custGeom>
              <a:avLst/>
              <a:gdLst>
                <a:gd name="textAreaLeft" fmla="*/ 360 w 1224000"/>
                <a:gd name="textAreaRight" fmla="*/ 1224720 w 1224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161040" y="2843280"/>
            <a:ext cx="2874960" cy="3821400"/>
            <a:chOff x="6161040" y="2843280"/>
            <a:chExt cx="2874960" cy="3821400"/>
          </a:xfrm>
        </p:grpSpPr>
        <p:sp>
          <p:nvSpPr>
            <p:cNvPr id="236" name=""/>
            <p:cNvSpPr/>
            <p:nvPr/>
          </p:nvSpPr>
          <p:spPr>
            <a:xfrm>
              <a:off x="6161040" y="4741920"/>
              <a:ext cx="287496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Arial Narrow"/>
                </a:rPr>
                <a:t>Démarche qui permet de transcrire facilement les dangers       (document uniqu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5400000">
              <a:off x="6768360" y="2878920"/>
              <a:ext cx="1224000" cy="115272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132000" y="4138560"/>
            <a:ext cx="2951280" cy="1074240"/>
            <a:chOff x="3132000" y="4138560"/>
            <a:chExt cx="2951280" cy="1074240"/>
          </a:xfrm>
        </p:grpSpPr>
        <p:sp>
          <p:nvSpPr>
            <p:cNvPr id="239" name=""/>
            <p:cNvSpPr/>
            <p:nvPr/>
          </p:nvSpPr>
          <p:spPr>
            <a:xfrm>
              <a:off x="3132000" y="4753080"/>
              <a:ext cx="29512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Arial Narrow"/>
                </a:rPr>
                <a:t>Démarche « simple 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56000" y="4138560"/>
              <a:ext cx="503280" cy="504720"/>
            </a:xfrm>
            <a:prstGeom prst="downArrow">
              <a:avLst>
                <a:gd name="adj1" fmla="val 50000"/>
                <a:gd name="adj2" fmla="val 25072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3000" y="609120"/>
            <a:ext cx="902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PPLIQUER EN SITUATION RÉELL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773360"/>
            <a:ext cx="79250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r transformer des savoirs et des savoir-faire en véritable compétence à assurer sa sécurité et contribuer à celle des autr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ise en application doit être répétée tout au long du cycle de formation professionnelle pour pouvoir être intégrée dans les comportements et les pratiques professionnell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ise en application ne doit pas être limitée aux situations d’enseignement, elle doit également s’effectuer en entrepri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76320"/>
            <a:ext cx="1523880" cy="520200"/>
          </a:xfrm>
          <a:prstGeom prst="rect">
            <a:avLst/>
          </a:prstGeom>
          <a:gradFill rotWithShape="0">
            <a:gsLst>
              <a:gs pos="0">
                <a:srgbClr val="f5f9f7"/>
              </a:gs>
              <a:gs pos="100000">
                <a:srgbClr val="a0c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ÉER DE LA COMPRÉHEN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17840" y="76320"/>
            <a:ext cx="1524240" cy="52020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ORTER DE LA MÉTHOD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92840" y="76320"/>
            <a:ext cx="1600200" cy="520200"/>
          </a:xfrm>
          <a:prstGeom prst="rect">
            <a:avLst/>
          </a:prstGeom>
          <a:gradFill rotWithShape="0">
            <a:gsLst>
              <a:gs pos="0">
                <a:srgbClr val="feeff5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 Narrow"/>
              </a:rPr>
              <a:t>APPLIQUER EN SITUATION RÉ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7040" y="76320"/>
            <a:ext cx="1533600" cy="520200"/>
          </a:xfrm>
          <a:prstGeom prst="rect">
            <a:avLst/>
          </a:prstGeom>
          <a:gradFill rotWithShape="0">
            <a:gsLst>
              <a:gs pos="0">
                <a:srgbClr val="eff8fb"/>
              </a:gs>
              <a:gs pos="100000">
                <a:srgbClr val="00a3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AÎTRE L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838836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7564"/>
                </a:moveTo>
                <a:lnTo>
                  <a:pt x="7301" y="7564"/>
                </a:lnTo>
                <a:lnTo>
                  <a:pt x="7301" y="12900"/>
                </a:lnTo>
                <a:cubicBezTo>
                  <a:pt x="7301" y="13822"/>
                  <a:pt x="8102" y="14554"/>
                  <a:pt x="9138" y="14554"/>
                </a:cubicBezTo>
                <a:lnTo>
                  <a:pt x="10800" y="14554"/>
                </a:lnTo>
                <a:cubicBezTo>
                  <a:pt x="11836" y="14554"/>
                  <a:pt x="12636" y="13822"/>
                  <a:pt x="12636" y="12900"/>
                </a:cubicBezTo>
                <a:lnTo>
                  <a:pt x="12636" y="7564"/>
                </a:lnTo>
                <a:lnTo>
                  <a:pt x="10800" y="7564"/>
                </a:lnTo>
                <a:lnTo>
                  <a:pt x="14308" y="4057"/>
                </a:lnTo>
                <a:lnTo>
                  <a:pt x="17981" y="7564"/>
                </a:lnTo>
                <a:lnTo>
                  <a:pt x="16144" y="7564"/>
                </a:lnTo>
                <a:lnTo>
                  <a:pt x="16144" y="12900"/>
                </a:lnTo>
                <a:cubicBezTo>
                  <a:pt x="16144" y="15668"/>
                  <a:pt x="13568" y="18227"/>
                  <a:pt x="10800" y="18227"/>
                </a:cubicBezTo>
                <a:lnTo>
                  <a:pt x="9138" y="18227"/>
                </a:lnTo>
                <a:cubicBezTo>
                  <a:pt x="6370" y="18227"/>
                  <a:pt x="3794" y="15668"/>
                  <a:pt x="3794" y="1290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10666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L’ENSEIGNEMENT        DE LA PRÉVENTION    DES RISQUES PROFESSIONNEL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7362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NAÎTRE LES PRINCIPAUX RISQUES PROFESSIONN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989000"/>
            <a:ext cx="815364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haque risque constitue un champ de connaissances très important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l est nécessaire de bien délimiter les savoirs relatifs aux différentes familles de risqu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ermettre de situer chaque risque dans le cadre d’une approche transversale à partir des élément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0520" algn="just">
              <a:lnSpc>
                <a:spcPct val="60000"/>
              </a:lnSpc>
              <a:spcBef>
                <a:spcPts val="1375"/>
              </a:spcBef>
              <a:spcAft>
                <a:spcPts val="825"/>
              </a:spcAft>
              <a:buClr>
                <a:srgbClr val="ffcc66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hénomène dangereux / Danger 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0520" algn="just">
              <a:lnSpc>
                <a:spcPct val="60000"/>
              </a:lnSpc>
              <a:spcBef>
                <a:spcPts val="1375"/>
              </a:spcBef>
              <a:spcAft>
                <a:spcPts val="825"/>
              </a:spcAft>
              <a:buClr>
                <a:srgbClr val="ffcc66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ituation dangereuse 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0520" algn="just">
              <a:lnSpc>
                <a:spcPct val="60000"/>
              </a:lnSpc>
              <a:spcBef>
                <a:spcPts val="1375"/>
              </a:spcBef>
              <a:spcAft>
                <a:spcPts val="825"/>
              </a:spcAft>
              <a:buClr>
                <a:srgbClr val="ffcc66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énement dangereux 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0520" algn="just">
              <a:lnSpc>
                <a:spcPct val="60000"/>
              </a:lnSpc>
              <a:spcBef>
                <a:spcPts val="1375"/>
              </a:spcBef>
              <a:spcAft>
                <a:spcPts val="825"/>
              </a:spcAft>
              <a:buClr>
                <a:srgbClr val="ffcc66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ommage 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0520" algn="just">
              <a:lnSpc>
                <a:spcPct val="40000"/>
              </a:lnSpc>
              <a:spcBef>
                <a:spcPts val="1250"/>
              </a:spcBef>
              <a:spcAft>
                <a:spcPts val="751"/>
              </a:spcAft>
              <a:buClr>
                <a:srgbClr val="ffcc66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esure de préventi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76320"/>
            <a:ext cx="1523880" cy="520200"/>
          </a:xfrm>
          <a:prstGeom prst="rect">
            <a:avLst/>
          </a:prstGeom>
          <a:gradFill rotWithShape="0">
            <a:gsLst>
              <a:gs pos="0">
                <a:srgbClr val="f5f9f7"/>
              </a:gs>
              <a:gs pos="100000">
                <a:srgbClr val="a0c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ÉER DE LA COMPRÉHEN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17840" y="76320"/>
            <a:ext cx="1524240" cy="52020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ORTER DE LA MÉTHOD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92840" y="76320"/>
            <a:ext cx="1600200" cy="520200"/>
          </a:xfrm>
          <a:prstGeom prst="rect">
            <a:avLst/>
          </a:prstGeom>
          <a:gradFill rotWithShape="0">
            <a:gsLst>
              <a:gs pos="0">
                <a:srgbClr val="feeff5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LIQUER EN SITUATION RÉ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7040" y="76320"/>
            <a:ext cx="1533600" cy="520200"/>
          </a:xfrm>
          <a:prstGeom prst="rect">
            <a:avLst/>
          </a:prstGeom>
          <a:gradFill rotWithShape="0">
            <a:gsLst>
              <a:gs pos="0">
                <a:srgbClr val="eff8fb"/>
              </a:gs>
              <a:gs pos="100000">
                <a:srgbClr val="00a3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 Narrow"/>
              </a:rPr>
              <a:t>CONNAÎTRE L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838836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7564"/>
                </a:moveTo>
                <a:lnTo>
                  <a:pt x="7301" y="7564"/>
                </a:lnTo>
                <a:lnTo>
                  <a:pt x="7301" y="12900"/>
                </a:lnTo>
                <a:cubicBezTo>
                  <a:pt x="7301" y="13822"/>
                  <a:pt x="8102" y="14554"/>
                  <a:pt x="9138" y="14554"/>
                </a:cubicBezTo>
                <a:lnTo>
                  <a:pt x="10800" y="14554"/>
                </a:lnTo>
                <a:cubicBezTo>
                  <a:pt x="11836" y="14554"/>
                  <a:pt x="12636" y="13822"/>
                  <a:pt x="12636" y="12900"/>
                </a:cubicBezTo>
                <a:lnTo>
                  <a:pt x="12636" y="7564"/>
                </a:lnTo>
                <a:lnTo>
                  <a:pt x="10800" y="7564"/>
                </a:lnTo>
                <a:lnTo>
                  <a:pt x="14308" y="4057"/>
                </a:lnTo>
                <a:lnTo>
                  <a:pt x="17981" y="7564"/>
                </a:lnTo>
                <a:lnTo>
                  <a:pt x="16144" y="7564"/>
                </a:lnTo>
                <a:lnTo>
                  <a:pt x="16144" y="12900"/>
                </a:lnTo>
                <a:cubicBezTo>
                  <a:pt x="16144" y="15668"/>
                  <a:pt x="13568" y="18227"/>
                  <a:pt x="10800" y="18227"/>
                </a:cubicBezTo>
                <a:lnTo>
                  <a:pt x="9138" y="18227"/>
                </a:lnTo>
                <a:cubicBezTo>
                  <a:pt x="6370" y="18227"/>
                  <a:pt x="3794" y="15668"/>
                  <a:pt x="3794" y="1290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8000" y="2459160"/>
            <a:ext cx="9144000" cy="110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À partir d’une vidéo représentant un étudiant de BTS MI en s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24000" y="3089160"/>
            <a:ext cx="2682720" cy="3568680"/>
            <a:chOff x="324000" y="3089160"/>
            <a:chExt cx="2682720" cy="3568680"/>
          </a:xfrm>
        </p:grpSpPr>
        <p:sp>
          <p:nvSpPr>
            <p:cNvPr id="258" name=""/>
            <p:cNvSpPr/>
            <p:nvPr/>
          </p:nvSpPr>
          <p:spPr>
            <a:xfrm rot="6925200">
              <a:off x="1511280" y="3547800"/>
              <a:ext cx="1152360" cy="2160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4000" y="4232160"/>
              <a:ext cx="2682720" cy="2425680"/>
            </a:xfrm>
            <a:prstGeom prst="rect">
              <a:avLst/>
            </a:prstGeom>
            <a:gradFill rotWithShape="0">
              <a:gsLst>
                <a:gs pos="0">
                  <a:srgbClr val="fef9f0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Illustrer la dangerosité liée à l’activité industrielle et aux activités de mainten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203640" y="3151080"/>
            <a:ext cx="2682720" cy="3476160"/>
            <a:chOff x="3203640" y="3151080"/>
            <a:chExt cx="2682720" cy="3476160"/>
          </a:xfrm>
        </p:grpSpPr>
        <p:sp>
          <p:nvSpPr>
            <p:cNvPr id="261" name=""/>
            <p:cNvSpPr/>
            <p:nvPr/>
          </p:nvSpPr>
          <p:spPr>
            <a:xfrm rot="5400000">
              <a:off x="4030920" y="3547080"/>
              <a:ext cx="1008000" cy="215640"/>
            </a:xfrm>
            <a:custGeom>
              <a:avLst/>
              <a:gdLst>
                <a:gd name="textAreaLeft" fmla="*/ 157320 w 1008000"/>
                <a:gd name="textAreaRight" fmla="*/ 882000 w 100800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03640" y="4232160"/>
              <a:ext cx="2682720" cy="2395080"/>
            </a:xfrm>
            <a:prstGeom prst="rect">
              <a:avLst/>
            </a:prstGeom>
            <a:gradFill rotWithShape="0">
              <a:gsLst>
                <a:gs pos="0">
                  <a:srgbClr val="feeff5"/>
                </a:gs>
                <a:gs pos="100000">
                  <a:srgbClr val="ff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Mettre en évidence la difficulté des étudiant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à identifier les dang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210360" y="3089160"/>
            <a:ext cx="2682720" cy="3431520"/>
            <a:chOff x="6210360" y="3089160"/>
            <a:chExt cx="2682720" cy="3431520"/>
          </a:xfrm>
        </p:grpSpPr>
        <p:sp>
          <p:nvSpPr>
            <p:cNvPr id="264" name=""/>
            <p:cNvSpPr/>
            <p:nvPr/>
          </p:nvSpPr>
          <p:spPr>
            <a:xfrm flipH="1" rot="14674800">
              <a:off x="6408720" y="3547800"/>
              <a:ext cx="1152360" cy="2160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10360" y="4232160"/>
              <a:ext cx="2682720" cy="2288520"/>
            </a:xfrm>
            <a:prstGeom prst="rect">
              <a:avLst/>
            </a:prstGeom>
            <a:gradFill rotWithShape="0">
              <a:gsLst>
                <a:gs pos="0">
                  <a:srgbClr val="fefbf9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Mettre en évidence la nécessité d’une méthodologie pour assurer la sécurité et préserver la santé au trava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042920" y="1312920"/>
            <a:ext cx="7201080" cy="110808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rder la PRP à travers la problématique de santé et sécurité au travail en entre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3141720"/>
            <a:ext cx="367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ès la première sé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1312920"/>
            <a:ext cx="7201080" cy="1108080"/>
          </a:xfrm>
          <a:prstGeom prst="rect">
            <a:avLst/>
          </a:prstGeom>
          <a:gradFill rotWithShape="0">
            <a:gsLst>
              <a:gs pos="0">
                <a:srgbClr val="e8fee8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ésenter le processus d’apparition d’un dom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743200" y="3749040"/>
            <a:ext cx="2743200" cy="2710440"/>
            <a:chOff x="2743200" y="3749040"/>
            <a:chExt cx="2743200" cy="2710440"/>
          </a:xfrm>
        </p:grpSpPr>
        <p:sp>
          <p:nvSpPr>
            <p:cNvPr id="271" name=""/>
            <p:cNvSpPr/>
            <p:nvPr/>
          </p:nvSpPr>
          <p:spPr>
            <a:xfrm rot="5933400">
              <a:off x="3573360" y="4160880"/>
              <a:ext cx="1371600" cy="6285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56960 h 628560"/>
                <a:gd name="textAreaBottom" fmla="*/ 471600 h 62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43200" y="5240160"/>
              <a:ext cx="2743200" cy="1219320"/>
            </a:xfrm>
            <a:custGeom>
              <a:avLst/>
              <a:gdLst>
                <a:gd name="textAreaLeft" fmla="*/ 0 w 2743200"/>
                <a:gd name="textAreaRight" fmla="*/ 2743560 w 2743200"/>
                <a:gd name="textAreaTop" fmla="*/ 158040 h 1219320"/>
                <a:gd name="textAreaBottom" fmla="*/ 10612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fee9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71960" y="556416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Domm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95280" y="1557360"/>
            <a:ext cx="5343120" cy="2679480"/>
            <a:chOff x="395280" y="1557360"/>
            <a:chExt cx="5343120" cy="2679480"/>
          </a:xfrm>
        </p:grpSpPr>
        <p:grpSp>
          <p:nvGrpSpPr>
            <p:cNvPr id="275" name=""/>
            <p:cNvGrpSpPr/>
            <p:nvPr/>
          </p:nvGrpSpPr>
          <p:grpSpPr>
            <a:xfrm>
              <a:off x="3276720" y="2636640"/>
              <a:ext cx="2461680" cy="1600200"/>
              <a:chOff x="3276720" y="2636640"/>
              <a:chExt cx="2461680" cy="1600200"/>
            </a:xfrm>
          </p:grpSpPr>
          <p:sp>
            <p:nvSpPr>
              <p:cNvPr id="276" name=""/>
              <p:cNvSpPr/>
              <p:nvPr/>
            </p:nvSpPr>
            <p:spPr>
              <a:xfrm flipV="1">
                <a:off x="3330360" y="2636640"/>
                <a:ext cx="914040" cy="103572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3535200" y="2636640"/>
                <a:ext cx="1093320" cy="123948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3797280" y="2720160"/>
                <a:ext cx="1158480" cy="131328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4101840" y="2840400"/>
                <a:ext cx="1158840" cy="131328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4449600" y="3007080"/>
                <a:ext cx="1085400" cy="122976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4902120" y="3228480"/>
                <a:ext cx="836280" cy="94788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276720" y="2937600"/>
                <a:ext cx="326880" cy="37008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95280" y="1557360"/>
              <a:ext cx="4065120" cy="1515600"/>
              <a:chOff x="395280" y="1557360"/>
              <a:chExt cx="4065120" cy="1515600"/>
            </a:xfrm>
          </p:grpSpPr>
          <p:sp>
            <p:nvSpPr>
              <p:cNvPr id="284" name=""/>
              <p:cNvSpPr/>
              <p:nvPr/>
            </p:nvSpPr>
            <p:spPr>
              <a:xfrm flipH="1">
                <a:off x="395280" y="1557360"/>
                <a:ext cx="3208320" cy="459720"/>
              </a:xfrm>
              <a:prstGeom prst="rect">
                <a:avLst/>
              </a:prstGeom>
              <a:solidFill>
                <a:srgbClr val="fffee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rial"/>
                  </a:rPr>
                  <a:t>Situation dangereu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3604680" y="2249280"/>
                <a:ext cx="792360" cy="7653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4384080" y="3003840"/>
                <a:ext cx="75960" cy="6912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3260880" y="2362320"/>
            <a:ext cx="5438520" cy="2020680"/>
            <a:chOff x="3260880" y="2362320"/>
            <a:chExt cx="5438520" cy="2020680"/>
          </a:xfrm>
        </p:grpSpPr>
        <p:sp>
          <p:nvSpPr>
            <p:cNvPr id="288" name=""/>
            <p:cNvSpPr/>
            <p:nvPr/>
          </p:nvSpPr>
          <p:spPr>
            <a:xfrm>
              <a:off x="3260880" y="2362320"/>
              <a:ext cx="5438520" cy="202068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43600" y="3048120"/>
              <a:ext cx="252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Personn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80880" y="2387520"/>
            <a:ext cx="5453280" cy="2021040"/>
            <a:chOff x="380880" y="2387520"/>
            <a:chExt cx="5453280" cy="2021040"/>
          </a:xfrm>
        </p:grpSpPr>
        <p:sp>
          <p:nvSpPr>
            <p:cNvPr id="291" name=""/>
            <p:cNvSpPr/>
            <p:nvPr/>
          </p:nvSpPr>
          <p:spPr>
            <a:xfrm>
              <a:off x="393840" y="2387520"/>
              <a:ext cx="5440320" cy="20210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0880" y="2895480"/>
              <a:ext cx="31244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Phénomène dangereux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038480" y="1752480"/>
            <a:ext cx="4746600" cy="1925280"/>
            <a:chOff x="4038480" y="1752480"/>
            <a:chExt cx="4746600" cy="1925280"/>
          </a:xfrm>
        </p:grpSpPr>
        <p:sp>
          <p:nvSpPr>
            <p:cNvPr id="294" name=""/>
            <p:cNvSpPr/>
            <p:nvPr/>
          </p:nvSpPr>
          <p:spPr>
            <a:xfrm>
              <a:off x="4038480" y="3108240"/>
              <a:ext cx="914400" cy="569520"/>
            </a:xfrm>
            <a:prstGeom prst="irregularSeal1">
              <a:avLst/>
            </a:prstGeom>
            <a:solidFill>
              <a:srgbClr val="ff0033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76760" y="1752480"/>
              <a:ext cx="3208320" cy="825480"/>
            </a:xfrm>
            <a:prstGeom prst="rect">
              <a:avLst/>
            </a:prstGeom>
            <a:solidFill>
              <a:srgbClr val="fffee9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É</a:t>
              </a:r>
              <a:r>
                <a:rPr b="0" lang="fr-FR" sz="2400" spc="-1" strike="noStrike">
                  <a:solidFill>
                    <a:srgbClr val="ff0033"/>
                  </a:solidFill>
                  <a:latin typeface="Arial"/>
                </a:rPr>
                <a:t>vénement dangereu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572000" y="2129400"/>
              <a:ext cx="990720" cy="126288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95680" y="3392640"/>
              <a:ext cx="7632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79280" y="1268280"/>
            <a:ext cx="8785440" cy="5473800"/>
            <a:chOff x="179280" y="1268280"/>
            <a:chExt cx="8785440" cy="5473800"/>
          </a:xfrm>
        </p:grpSpPr>
        <p:sp>
          <p:nvSpPr>
            <p:cNvPr id="299" name=""/>
            <p:cNvSpPr/>
            <p:nvPr/>
          </p:nvSpPr>
          <p:spPr>
            <a:xfrm>
              <a:off x="179280" y="1268280"/>
              <a:ext cx="8785440" cy="5473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29440" y="621180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Situation de trava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9280" y="1376280"/>
            <a:ext cx="8785440" cy="5481720"/>
            <a:chOff x="179280" y="1376280"/>
            <a:chExt cx="8785440" cy="548172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539640" y="1376280"/>
              <a:ext cx="8140680" cy="548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179280" y="1378080"/>
              <a:ext cx="8785440" cy="5473440"/>
              <a:chOff x="179280" y="1378080"/>
              <a:chExt cx="8785440" cy="5473440"/>
            </a:xfrm>
          </p:grpSpPr>
          <p:sp>
            <p:nvSpPr>
              <p:cNvPr id="305" name=""/>
              <p:cNvSpPr/>
              <p:nvPr/>
            </p:nvSpPr>
            <p:spPr>
              <a:xfrm>
                <a:off x="179280" y="1378080"/>
                <a:ext cx="8785440" cy="547344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29440" y="6321240"/>
                <a:ext cx="26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Situation de travai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2743200" y="3749040"/>
            <a:ext cx="2743200" cy="2710440"/>
            <a:chOff x="2743200" y="3749040"/>
            <a:chExt cx="2743200" cy="2710440"/>
          </a:xfrm>
        </p:grpSpPr>
        <p:sp>
          <p:nvSpPr>
            <p:cNvPr id="308" name=""/>
            <p:cNvSpPr/>
            <p:nvPr/>
          </p:nvSpPr>
          <p:spPr>
            <a:xfrm rot="5933400">
              <a:off x="3573360" y="4160880"/>
              <a:ext cx="1371600" cy="6285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56960 h 628560"/>
                <a:gd name="textAreaBottom" fmla="*/ 471600 h 62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3200" y="5240160"/>
              <a:ext cx="2743200" cy="1219320"/>
            </a:xfrm>
            <a:custGeom>
              <a:avLst/>
              <a:gdLst>
                <a:gd name="textAreaLeft" fmla="*/ 0 w 2743200"/>
                <a:gd name="textAreaRight" fmla="*/ 2743560 w 2743200"/>
                <a:gd name="textAreaTop" fmla="*/ 158040 h 1219320"/>
                <a:gd name="textAreaBottom" fmla="*/ 10612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fee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71960" y="556416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Brûlure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96720" y="1557360"/>
            <a:ext cx="5369040" cy="2666520"/>
            <a:chOff x="396720" y="1557360"/>
            <a:chExt cx="5369040" cy="2666520"/>
          </a:xfrm>
        </p:grpSpPr>
        <p:grpSp>
          <p:nvGrpSpPr>
            <p:cNvPr id="312" name=""/>
            <p:cNvGrpSpPr/>
            <p:nvPr/>
          </p:nvGrpSpPr>
          <p:grpSpPr>
            <a:xfrm>
              <a:off x="3448080" y="2624040"/>
              <a:ext cx="2317680" cy="1599840"/>
              <a:chOff x="3448080" y="2624040"/>
              <a:chExt cx="2317680" cy="159984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3448080" y="2852280"/>
                <a:ext cx="596880" cy="67644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3562200" y="2624040"/>
                <a:ext cx="1094040" cy="123984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3824280" y="2706480"/>
                <a:ext cx="1158840" cy="131436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4129200" y="2827080"/>
                <a:ext cx="1158840" cy="131436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4476600" y="2993760"/>
                <a:ext cx="1086120" cy="123012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4929120" y="3215880"/>
                <a:ext cx="836640" cy="94788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396720" y="1557360"/>
              <a:ext cx="3407040" cy="1942560"/>
              <a:chOff x="396720" y="1557360"/>
              <a:chExt cx="3407040" cy="1942560"/>
            </a:xfrm>
          </p:grpSpPr>
          <p:sp>
            <p:nvSpPr>
              <p:cNvPr id="320" name=""/>
              <p:cNvSpPr/>
              <p:nvPr/>
            </p:nvSpPr>
            <p:spPr>
              <a:xfrm flipH="1" flipV="1">
                <a:off x="3203280" y="2349000"/>
                <a:ext cx="576360" cy="11509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396720" y="1557360"/>
                <a:ext cx="3208320" cy="825480"/>
              </a:xfrm>
              <a:prstGeom prst="rect">
                <a:avLst/>
              </a:prstGeom>
              <a:solidFill>
                <a:srgbClr val="fffee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Nettoyer avec des produits corrosif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3727440" y="3429000"/>
                <a:ext cx="76320" cy="6984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3440160" y="2470320"/>
            <a:ext cx="5667480" cy="2020680"/>
            <a:chOff x="3440160" y="2470320"/>
            <a:chExt cx="5667480" cy="2020680"/>
          </a:xfrm>
        </p:grpSpPr>
        <p:sp>
          <p:nvSpPr>
            <p:cNvPr id="324" name=""/>
            <p:cNvSpPr/>
            <p:nvPr/>
          </p:nvSpPr>
          <p:spPr>
            <a:xfrm>
              <a:off x="3440160" y="2470320"/>
              <a:ext cx="5438880" cy="202068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85120" y="2879640"/>
              <a:ext cx="252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Personn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80880" y="2387520"/>
            <a:ext cx="5453280" cy="2021040"/>
            <a:chOff x="380880" y="2387520"/>
            <a:chExt cx="5453280" cy="2021040"/>
          </a:xfrm>
        </p:grpSpPr>
        <p:sp>
          <p:nvSpPr>
            <p:cNvPr id="327" name=""/>
            <p:cNvSpPr/>
            <p:nvPr/>
          </p:nvSpPr>
          <p:spPr>
            <a:xfrm>
              <a:off x="393840" y="2387520"/>
              <a:ext cx="5440320" cy="20210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880" y="2895480"/>
              <a:ext cx="31244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Produit  dangereux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038480" y="1752480"/>
            <a:ext cx="4746600" cy="1925280"/>
            <a:chOff x="4038480" y="1752480"/>
            <a:chExt cx="4746600" cy="1925280"/>
          </a:xfrm>
        </p:grpSpPr>
        <p:sp>
          <p:nvSpPr>
            <p:cNvPr id="330" name=""/>
            <p:cNvSpPr/>
            <p:nvPr/>
          </p:nvSpPr>
          <p:spPr>
            <a:xfrm>
              <a:off x="4038480" y="3108240"/>
              <a:ext cx="914400" cy="569520"/>
            </a:xfrm>
            <a:prstGeom prst="irregularSeal1">
              <a:avLst/>
            </a:prstGeom>
            <a:solidFill>
              <a:srgbClr val="ff0033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76760" y="1752480"/>
              <a:ext cx="3208320" cy="825480"/>
            </a:xfrm>
            <a:prstGeom prst="rect">
              <a:avLst/>
            </a:prstGeom>
            <a:solidFill>
              <a:srgbClr val="fffee9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ontact du produit avec la pea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572000" y="2129400"/>
              <a:ext cx="990720" cy="126288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95680" y="3392640"/>
              <a:ext cx="7632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050920" y="3068640"/>
            <a:ext cx="48960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Appliquer cette analyse                          à toutes les situations de travail           lors des activités pra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RA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GIE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1341360"/>
            <a:ext cx="7488360" cy="963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Aborder l’EPRP à travers la problématique de santé et sécurité au travail en entrepri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2608200"/>
            <a:ext cx="7632720" cy="96516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ésenter le processus d’apparition d’un dommage et l’appliquer à toutes les situations en activités pratiqu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2560" y="3852720"/>
            <a:ext cx="7705800" cy="584280"/>
          </a:xfrm>
          <a:prstGeom prst="rect">
            <a:avLst/>
          </a:prstGeom>
          <a:gradFill rotWithShape="0">
            <a:gsLst>
              <a:gs pos="0">
                <a:srgbClr val="f7fef7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ésenter la démarche de maîtrise des risqu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44720" y="4726080"/>
            <a:ext cx="7630920" cy="9349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orter les savoirs liés aux principaux risques en commençant les plus rencontré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47640" y="5950080"/>
            <a:ext cx="7488360" cy="64764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orter les savoirs relatifs aux autres méthodolog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19280" y="2637000"/>
            <a:ext cx="5832360" cy="278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n intégrant dans chacune de ces étapes la composante rég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IMPLICATION 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DAGOG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44720" y="2681280"/>
            <a:ext cx="7127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s les enseigna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ivent être formé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à la démarche de maîtrise des risque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ormation à la prévention des risques d’origine électr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25099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risque électrique est un risque parmi d’autr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présente les caractéristiques suivant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796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équence des accidents fa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796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é import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796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églementation spécif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8360" y="5516640"/>
            <a:ext cx="8351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e intervention sur un équipement électrique ne réduit pas les risques au seul risqu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ormation à la prévention des risques d’origine électr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25640" y="1925640"/>
            <a:ext cx="2682720" cy="3895920"/>
            <a:chOff x="1025640" y="1925640"/>
            <a:chExt cx="2682720" cy="3895920"/>
          </a:xfrm>
        </p:grpSpPr>
        <p:sp>
          <p:nvSpPr>
            <p:cNvPr id="349" name=""/>
            <p:cNvSpPr/>
            <p:nvPr/>
          </p:nvSpPr>
          <p:spPr>
            <a:xfrm rot="6925200">
              <a:off x="2212920" y="2384280"/>
              <a:ext cx="1152360" cy="2160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25640" y="3068640"/>
              <a:ext cx="2682720" cy="2752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Formation théor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éalisée dans le cadre de l’enseignement de génie électrique, elle se termine par une validation des acquis théoriqu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435640" y="1925640"/>
            <a:ext cx="2682720" cy="4200840"/>
            <a:chOff x="5435640" y="1925640"/>
            <a:chExt cx="2682720" cy="4200840"/>
          </a:xfrm>
        </p:grpSpPr>
        <p:sp>
          <p:nvSpPr>
            <p:cNvPr id="352" name=""/>
            <p:cNvSpPr/>
            <p:nvPr/>
          </p:nvSpPr>
          <p:spPr>
            <a:xfrm flipH="1" rot="14674800">
              <a:off x="5634000" y="2384280"/>
              <a:ext cx="1152360" cy="2160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35640" y="3068640"/>
              <a:ext cx="2682720" cy="30578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Formation prat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éalisée dans le cadre des activités pratiques, elle se termine par une validation pratique à travers la mise en œuvre des tâches professionnel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ormation à la prévention des risques d’origine électr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2509920"/>
            <a:ext cx="7925040" cy="43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hase pratique nécessite d’intégrer la démarche de prévention au sein d’une démarche technique liée au travail à effectu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 manque d’expérience, associé à la difficulté de faire le lien entre la réglementation, les procédures qu’elle impose, et le risque de dommage associé, amènent souvent les élèves à se mettre en situation dangereuse sans qu’ils ne s’en rendent comp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 étudiants sont parfois (souvent ?) confrontés à un manque de rigueur des enseignants dans la mise en œuvre des mesures de prévention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 risque électrique n’est pas toujours facile à mettre en évidence sur les matériels existants : absence de situation de voisin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1943280"/>
            <a:ext cx="5832360" cy="39888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ématique liée à la formation pr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ormation à la prévention des risques d’origine électr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2781360"/>
            <a:ext cx="792504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dentification des situations dangereuses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se en œuvre des mesures de protection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796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Équipement de protection individuelle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796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Équipement individuel de sécurité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796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Équipement collectif de sécurit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se en œuvre de la consignation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se en place du dispositif de mise à la terre et en court circu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4360" y="2060640"/>
            <a:ext cx="3743280" cy="39888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entissage spécif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COM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TENCE VI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6360" y="1960560"/>
            <a:ext cx="8316720" cy="110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076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1.6 : Identifier les risques, définir et mettre en œuvre les mesures de prévention adapt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76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7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95280" y="3294000"/>
            <a:ext cx="2521080" cy="2387520"/>
            <a:chOff x="395280" y="3294000"/>
            <a:chExt cx="2521080" cy="2387520"/>
          </a:xfrm>
        </p:grpSpPr>
        <p:sp>
          <p:nvSpPr>
            <p:cNvPr id="92" name=""/>
            <p:cNvSpPr/>
            <p:nvPr/>
          </p:nvSpPr>
          <p:spPr>
            <a:xfrm>
              <a:off x="395280" y="4516560"/>
              <a:ext cx="2521080" cy="11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entifier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s risqu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6925200">
              <a:off x="1511280" y="3752640"/>
              <a:ext cx="1152360" cy="2160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156360" y="3294000"/>
            <a:ext cx="2663640" cy="2427480"/>
            <a:chOff x="6156360" y="3294000"/>
            <a:chExt cx="2663640" cy="2427480"/>
          </a:xfrm>
        </p:grpSpPr>
        <p:sp>
          <p:nvSpPr>
            <p:cNvPr id="95" name=""/>
            <p:cNvSpPr/>
            <p:nvPr/>
          </p:nvSpPr>
          <p:spPr>
            <a:xfrm>
              <a:off x="6156360" y="4502160"/>
              <a:ext cx="2663640" cy="121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tre en œuvre            les mesures de préven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14674800">
              <a:off x="6408720" y="3752640"/>
              <a:ext cx="1152360" cy="2160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03640" y="3284640"/>
            <a:ext cx="2663640" cy="2449440"/>
            <a:chOff x="3203640" y="3284640"/>
            <a:chExt cx="2663640" cy="2449440"/>
          </a:xfrm>
        </p:grpSpPr>
        <p:sp>
          <p:nvSpPr>
            <p:cNvPr id="98" name=""/>
            <p:cNvSpPr/>
            <p:nvPr/>
          </p:nvSpPr>
          <p:spPr>
            <a:xfrm>
              <a:off x="3203640" y="4502160"/>
              <a:ext cx="2663640" cy="123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éfinir            les mesures de préven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3958920" y="3753000"/>
              <a:ext cx="1152360" cy="21564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14360" y="4508640"/>
            <a:ext cx="8353440" cy="122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îtriser les ris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ormation à la prévention des risques d’origine électr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2781360"/>
            <a:ext cx="79250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 tâches doivent être intégrées aux activités pratiques en veillant à les situer dans un contexte le plus proche possible des réalités industriel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e activité pratique peut englober plusieurs tâches et avoir une finalité plus large que la ou les tâches considérées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taines tâches peuvent faire l’objet d’un scénario mettant en œuvre plusieurs intervena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2060640"/>
            <a:ext cx="5616360" cy="39888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e en œuvre de tâches professionne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ormation à la prévention des risques d’origine électr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2852640"/>
            <a:ext cx="7925040" cy="24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formation étant un préalable à la mise en situations professionnelles présentant des risques électriques, celle-ci doit débuter le plus tôt possible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’acquisition de la certification au niveau BR doit être visée avant le début du stage de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è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né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4360" y="2205000"/>
            <a:ext cx="5616360" cy="39888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e en œuvre de tâches professionne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8360" y="5229360"/>
            <a:ext cx="8351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 nouveau référentiel de formation a été élaboré et sera prochainement officialis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403280" y="287172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rci de votre atten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OMP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TENCE / ACTIVI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ÉS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 PROFESSIONNELL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3432240"/>
            <a:ext cx="331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îtriser               les ris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50920" y="1990800"/>
            <a:ext cx="3211560" cy="1555200"/>
            <a:chOff x="250920" y="1990800"/>
            <a:chExt cx="3211560" cy="1555200"/>
          </a:xfrm>
        </p:grpSpPr>
        <p:sp>
          <p:nvSpPr>
            <p:cNvPr id="104" name=""/>
            <p:cNvSpPr/>
            <p:nvPr/>
          </p:nvSpPr>
          <p:spPr>
            <a:xfrm>
              <a:off x="250920" y="1990800"/>
              <a:ext cx="295092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intenance correcti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3205400">
              <a:off x="2970360" y="3255480"/>
              <a:ext cx="504720" cy="144720"/>
            </a:xfrm>
            <a:custGeom>
              <a:avLst/>
              <a:gdLst>
                <a:gd name="textAreaLeft" fmla="*/ 78840 w 504720"/>
                <a:gd name="textAreaRight" fmla="*/ 441720 w 5047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736600" y="1990800"/>
            <a:ext cx="3155040" cy="1567440"/>
            <a:chOff x="5736600" y="1990800"/>
            <a:chExt cx="3155040" cy="1567440"/>
          </a:xfrm>
        </p:grpSpPr>
        <p:sp>
          <p:nvSpPr>
            <p:cNvPr id="107" name=""/>
            <p:cNvSpPr/>
            <p:nvPr/>
          </p:nvSpPr>
          <p:spPr>
            <a:xfrm>
              <a:off x="5940360" y="199080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intenance préventi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rot="8394600">
              <a:off x="5722920" y="3268440"/>
              <a:ext cx="505080" cy="144000"/>
            </a:xfrm>
            <a:custGeom>
              <a:avLst/>
              <a:gdLst>
                <a:gd name="textAreaLeft" fmla="*/ 78840 w 505080"/>
                <a:gd name="textAreaRight" fmla="*/ 442080 w 505080"/>
                <a:gd name="textAreaTop" fmla="*/ 36000 h 144000"/>
                <a:gd name="textAreaBottom" fmla="*/ 10800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750640" y="4652280"/>
            <a:ext cx="3141000" cy="1585080"/>
            <a:chOff x="5750640" y="4652280"/>
            <a:chExt cx="3141000" cy="1585080"/>
          </a:xfrm>
        </p:grpSpPr>
        <p:sp>
          <p:nvSpPr>
            <p:cNvPr id="110" name=""/>
            <p:cNvSpPr/>
            <p:nvPr/>
          </p:nvSpPr>
          <p:spPr>
            <a:xfrm>
              <a:off x="5940360" y="487044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égration de nouveaux bie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 rot="13205400">
              <a:off x="5738040" y="4797360"/>
              <a:ext cx="504720" cy="144720"/>
            </a:xfrm>
            <a:custGeom>
              <a:avLst/>
              <a:gdLst>
                <a:gd name="textAreaLeft" fmla="*/ 78840 w 504720"/>
                <a:gd name="textAreaRight" fmla="*/ 441720 w 5047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79280" y="4653000"/>
            <a:ext cx="3229200" cy="1584360"/>
            <a:chOff x="179280" y="4653000"/>
            <a:chExt cx="3229200" cy="1584360"/>
          </a:xfrm>
        </p:grpSpPr>
        <p:sp>
          <p:nvSpPr>
            <p:cNvPr id="113" name=""/>
            <p:cNvSpPr/>
            <p:nvPr/>
          </p:nvSpPr>
          <p:spPr>
            <a:xfrm>
              <a:off x="179280" y="487044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mélior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 rot="8394600">
              <a:off x="2916360" y="4798080"/>
              <a:ext cx="504720" cy="144720"/>
            </a:xfrm>
            <a:custGeom>
              <a:avLst/>
              <a:gdLst>
                <a:gd name="textAreaLeft" fmla="*/ 78840 w 504720"/>
                <a:gd name="textAreaRight" fmla="*/ 441720 w 5047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RTICULARITÉS DE L’EPR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989000"/>
            <a:ext cx="5048280" cy="1917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L’apport de savoirs et de savoir-faire doit être ancrés dans les pratiques professionnel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AVOIRS S9 </a:t>
            </a:r>
            <a:br>
              <a:rPr sz="4000"/>
            </a:b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ÉS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 PRATIQU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3376440"/>
            <a:ext cx="331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évention    des risques professionnel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66960" y="2190600"/>
            <a:ext cx="2092320" cy="968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2193840"/>
            <a:ext cx="2089080" cy="9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épa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4815000"/>
            <a:ext cx="2089080" cy="9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daptation amélioratio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12760" y="4815000"/>
            <a:ext cx="1946520" cy="898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33840" y="5335560"/>
            <a:ext cx="1946160" cy="901800"/>
          </a:xfrm>
          <a:prstGeom prst="ellipse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églages ess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3680" y="3559320"/>
            <a:ext cx="2092320" cy="968400"/>
          </a:xfrm>
          <a:prstGeom prst="ellipse">
            <a:avLst/>
          </a:prstGeom>
          <a:gradFill rotWithShape="0">
            <a:gsLst>
              <a:gs pos="0">
                <a:srgbClr val="fed2b5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urveillance inspectio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92360" y="1862280"/>
            <a:ext cx="2092320" cy="968400"/>
          </a:xfrm>
          <a:prstGeom prst="ellipse">
            <a:avLst/>
          </a:prstGeom>
          <a:gradFill rotWithShape="0">
            <a:gsLst>
              <a:gs pos="0">
                <a:srgbClr val="f6eff6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ganisation logistiqu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86560" y="3519360"/>
            <a:ext cx="2089080" cy="965160"/>
          </a:xfrm>
          <a:prstGeom prst="ellipse">
            <a:avLst/>
          </a:prstGeom>
          <a:gradFill rotWithShape="0">
            <a:gsLst>
              <a:gs pos="0">
                <a:srgbClr val="fee8e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RTICULARITÉS DE L’EPR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2276640"/>
            <a:ext cx="5048280" cy="19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L’apport de savoirs et de savoir-faire doit être ancrés dans les pratiques professionnel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4076640"/>
            <a:ext cx="4968720" cy="188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La PRP vise à développer des  «savoir-être» indispensables à la maîtrise des risques inhérents à l’activité professionnel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ONDEMENTS DE L’EPR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141720"/>
            <a:ext cx="331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dements de l’EPR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0920" y="1700280"/>
            <a:ext cx="3211560" cy="1555200"/>
            <a:chOff x="250920" y="1700280"/>
            <a:chExt cx="3211560" cy="1555200"/>
          </a:xfrm>
        </p:grpSpPr>
        <p:sp>
          <p:nvSpPr>
            <p:cNvPr id="133" name=""/>
            <p:cNvSpPr/>
            <p:nvPr/>
          </p:nvSpPr>
          <p:spPr>
            <a:xfrm>
              <a:off x="250920" y="1700280"/>
              <a:ext cx="295092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éer de la compréhens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3205400">
              <a:off x="2970360" y="2964960"/>
              <a:ext cx="504720" cy="144720"/>
            </a:xfrm>
            <a:custGeom>
              <a:avLst/>
              <a:gdLst>
                <a:gd name="textAreaLeft" fmla="*/ 78840 w 504720"/>
                <a:gd name="textAreaRight" fmla="*/ 441720 w 5047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736600" y="1700280"/>
            <a:ext cx="3155040" cy="1567440"/>
            <a:chOff x="5736600" y="1700280"/>
            <a:chExt cx="3155040" cy="1567440"/>
          </a:xfrm>
        </p:grpSpPr>
        <p:sp>
          <p:nvSpPr>
            <p:cNvPr id="136" name=""/>
            <p:cNvSpPr/>
            <p:nvPr/>
          </p:nvSpPr>
          <p:spPr>
            <a:xfrm>
              <a:off x="5940360" y="170028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orter de la méthodologi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8394600">
              <a:off x="5722920" y="2977920"/>
              <a:ext cx="505080" cy="144000"/>
            </a:xfrm>
            <a:custGeom>
              <a:avLst/>
              <a:gdLst>
                <a:gd name="textAreaLeft" fmla="*/ 78840 w 505080"/>
                <a:gd name="textAreaRight" fmla="*/ 442080 w 505080"/>
                <a:gd name="textAreaTop" fmla="*/ 36000 h 144000"/>
                <a:gd name="textAreaBottom" fmla="*/ 10800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750640" y="4361760"/>
            <a:ext cx="3141000" cy="1585080"/>
            <a:chOff x="5750640" y="4361760"/>
            <a:chExt cx="3141000" cy="1585080"/>
          </a:xfrm>
        </p:grpSpPr>
        <p:sp>
          <p:nvSpPr>
            <p:cNvPr id="139" name=""/>
            <p:cNvSpPr/>
            <p:nvPr/>
          </p:nvSpPr>
          <p:spPr>
            <a:xfrm>
              <a:off x="5940360" y="457992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naître les principaux risqu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 rot="13205400">
              <a:off x="5738040" y="4506840"/>
              <a:ext cx="504720" cy="144720"/>
            </a:xfrm>
            <a:custGeom>
              <a:avLst/>
              <a:gdLst>
                <a:gd name="textAreaLeft" fmla="*/ 78840 w 504720"/>
                <a:gd name="textAreaRight" fmla="*/ 441720 w 5047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79280" y="4362480"/>
            <a:ext cx="3229200" cy="1584360"/>
            <a:chOff x="179280" y="4362480"/>
            <a:chExt cx="3229200" cy="1584360"/>
          </a:xfrm>
        </p:grpSpPr>
        <p:sp>
          <p:nvSpPr>
            <p:cNvPr id="142" name=""/>
            <p:cNvSpPr/>
            <p:nvPr/>
          </p:nvSpPr>
          <p:spPr>
            <a:xfrm>
              <a:off x="179280" y="457992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liquer en situation réel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 rot="8394600">
              <a:off x="2916360" y="4507560"/>
              <a:ext cx="504720" cy="144720"/>
            </a:xfrm>
            <a:custGeom>
              <a:avLst/>
              <a:gdLst>
                <a:gd name="textAreaLeft" fmla="*/ 78840 w 504720"/>
                <a:gd name="textAreaRight" fmla="*/ 441720 w 5047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2743200" y="76320"/>
            <a:ext cx="1523880" cy="520200"/>
          </a:xfrm>
          <a:prstGeom prst="rect">
            <a:avLst/>
          </a:prstGeom>
          <a:gradFill rotWithShape="0">
            <a:gsLst>
              <a:gs pos="0">
                <a:srgbClr val="f5f9f7"/>
              </a:gs>
              <a:gs pos="100000">
                <a:srgbClr val="a0c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ÉER DE LA COMPRÉHEN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4317840" y="76320"/>
            <a:ext cx="1524240" cy="520200"/>
          </a:xfrm>
          <a:prstGeom prst="rect">
            <a:avLst/>
          </a:prstGeom>
          <a:gradFill rotWithShape="0">
            <a:gsLst>
              <a:gs pos="0">
                <a:srgbClr val="fefee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ORTER DE LA MÉTHOD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5892840" y="76320"/>
            <a:ext cx="1600200" cy="520200"/>
          </a:xfrm>
          <a:prstGeom prst="rect">
            <a:avLst/>
          </a:prstGeom>
          <a:gradFill rotWithShape="0">
            <a:gsLst>
              <a:gs pos="0">
                <a:srgbClr val="feeff5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LIQUER EN SITUATION RÉE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7547040" y="76320"/>
            <a:ext cx="1533600" cy="520200"/>
          </a:xfrm>
          <a:prstGeom prst="rect">
            <a:avLst/>
          </a:prstGeom>
          <a:gradFill rotWithShape="0">
            <a:gsLst>
              <a:gs pos="0">
                <a:srgbClr val="eff8fb"/>
              </a:gs>
              <a:gs pos="100000">
                <a:srgbClr val="00a3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AÎTRE L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3141720"/>
            <a:ext cx="331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ndements de l’EPR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845964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3865"/>
                </a:moveTo>
                <a:lnTo>
                  <a:pt x="17806" y="10872"/>
                </a:lnTo>
                <a:lnTo>
                  <a:pt x="3794" y="1787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repmi</dc:creator>
  <dc:description/>
  <dc:language>en-US</dc:language>
  <cp:lastModifiedBy>Giezek François</cp:lastModifiedBy>
  <dcterms:modified xsi:type="dcterms:W3CDTF">2005-12-01T20:21:21Z</dcterms:modified>
  <cp:revision>75</cp:revision>
  <dc:subject/>
  <dc:title>activités et tâches professionnelles </dc:title>
</cp:coreProperties>
</file>