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440" y="4114440"/>
            <a:ext cx="8077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4720" y="14475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411444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24720" y="411444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16400" y="144756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47720" y="144756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440" y="411444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16400" y="411444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47720" y="4114440"/>
            <a:ext cx="260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440" y="14475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941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24720" y="1447560"/>
            <a:ext cx="3941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4720" y="1447560"/>
            <a:ext cx="3941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440" y="411444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941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4475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24720" y="411444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15084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4720" y="1447560"/>
            <a:ext cx="3941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4114440"/>
            <a:ext cx="8077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4475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1300320" indent="-53352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947960" indent="-4572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2519280" indent="-38088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090960" indent="-38124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090960" indent="-38124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090960" indent="-38124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1066680"/>
            <a:ext cx="8763120" cy="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2- Circulation des donné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981080" y="396216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Émetteurs et récepteurs sont identifiés,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le réseau se construit,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mais comment circulent les informations ?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La trame Etherne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es informations qui circulent sur le réseau Ethernet sont regroupées par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rame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4495680"/>
            <a:ext cx="6629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fr-FR" sz="1800" spc="-1" strike="noStrike">
                <a:solidFill>
                  <a:srgbClr val="ffffcc"/>
                </a:solidFill>
                <a:latin typeface="Courier New"/>
                <a:ea typeface="Times New Roman"/>
              </a:rPr>
              <a:t>00 50 bf 4f 28 ca 00 d0 59 9c 2f 97 08 00 45 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Courier New"/>
                <a:ea typeface="Times New Roman"/>
              </a:rPr>
              <a:t>00 3c 00 c7 00 00 80 01 91 f6 c0 00 14 02 c0 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fr-FR" sz="1800" spc="-1" strike="noStrike">
                <a:solidFill>
                  <a:srgbClr val="ffffcc"/>
                </a:solidFill>
                <a:latin typeface="Courier New"/>
                <a:ea typeface="Times New Roman"/>
              </a:rPr>
              <a:t>14 01 08 00 36 5c 02 00 15 00 61 62 63 64 65 6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Courier New"/>
                <a:ea typeface="Times New Roman"/>
              </a:rPr>
              <a:t>67 68 69 6a 6b 6c 6d 6e 6f 70 71 72 73 74 75 7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Courier New"/>
                <a:ea typeface="Times New Roman"/>
              </a:rPr>
              <a:t>77 61 62 63 64 65 66 67 68 69</a:t>
            </a: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057400" y="2666880"/>
            <a:ext cx="1447920" cy="1602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638680" y="2666880"/>
            <a:ext cx="1981440" cy="684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95480" y="2679840"/>
            <a:ext cx="3429000" cy="1117440"/>
          </a:xfrm>
          <a:custGeom>
            <a:avLst/>
            <a:gdLst/>
            <a:ahLst/>
            <a:rect l="l" t="t" r="r" b="b"/>
            <a:pathLst>
              <a:path w="2160" h="704">
                <a:moveTo>
                  <a:pt x="0" y="88"/>
                </a:moveTo>
                <a:cubicBezTo>
                  <a:pt x="192" y="44"/>
                  <a:pt x="384" y="0"/>
                  <a:pt x="576" y="88"/>
                </a:cubicBezTo>
                <a:cubicBezTo>
                  <a:pt x="768" y="176"/>
                  <a:pt x="936" y="528"/>
                  <a:pt x="1152" y="616"/>
                </a:cubicBezTo>
                <a:cubicBezTo>
                  <a:pt x="1368" y="704"/>
                  <a:pt x="1704" y="664"/>
                  <a:pt x="1872" y="616"/>
                </a:cubicBezTo>
                <a:cubicBezTo>
                  <a:pt x="2040" y="568"/>
                  <a:pt x="2120" y="376"/>
                  <a:pt x="2160" y="328"/>
                </a:cubicBezTo>
              </a:path>
            </a:pathLst>
          </a:custGeom>
          <a:noFill/>
          <a:ln w="381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676520" y="3581280"/>
            <a:ext cx="6781680" cy="2667240"/>
            <a:chOff x="1676520" y="3581280"/>
            <a:chExt cx="6781680" cy="2667240"/>
          </a:xfrm>
        </p:grpSpPr>
        <p:sp>
          <p:nvSpPr>
            <p:cNvPr id="48" name=""/>
            <p:cNvSpPr/>
            <p:nvPr/>
          </p:nvSpPr>
          <p:spPr>
            <a:xfrm>
              <a:off x="5105520" y="3581280"/>
              <a:ext cx="304560" cy="304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76520" y="4419720"/>
              <a:ext cx="6781680" cy="1828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4800600" y="3886200"/>
              <a:ext cx="38088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00200" y="4648320"/>
            <a:ext cx="5791320" cy="304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La trame Etherne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00200" y="4648320"/>
            <a:ext cx="6553080" cy="1676160"/>
            <a:chOff x="1600200" y="4648320"/>
            <a:chExt cx="6553080" cy="1676160"/>
          </a:xfrm>
        </p:grpSpPr>
        <p:sp>
          <p:nvSpPr>
            <p:cNvPr id="54" name=""/>
            <p:cNvSpPr/>
            <p:nvPr/>
          </p:nvSpPr>
          <p:spPr>
            <a:xfrm>
              <a:off x="1600200" y="4952880"/>
              <a:ext cx="6553080" cy="13716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520" y="4648320"/>
              <a:ext cx="761760" cy="3045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600200" y="4648320"/>
            <a:ext cx="6629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fr-FR" sz="1800" spc="-1" strike="noStrike">
                <a:solidFill>
                  <a:srgbClr val="ffffcc"/>
                </a:solidFill>
                <a:latin typeface="Courier New"/>
                <a:ea typeface="Times New Roman"/>
              </a:rPr>
              <a:t>00 50 bf 4f 28 ca 00 d0 59 9c 2f 97 08 00 45 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Courier New"/>
                <a:ea typeface="Times New Roman"/>
              </a:rPr>
              <a:t>00 3c 00 c7 00 00 80 01 91 f6 c0 00 14 02 c0 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fr-FR" sz="1800" spc="-1" strike="noStrike">
                <a:solidFill>
                  <a:srgbClr val="ffffcc"/>
                </a:solidFill>
                <a:latin typeface="Courier New"/>
                <a:ea typeface="Times New Roman"/>
              </a:rPr>
              <a:t>14 01 08 00 36 5c 02 00 15 00 61 62 63 64 65 6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Courier New"/>
                <a:ea typeface="Times New Roman"/>
              </a:rPr>
              <a:t>67 68 69 6a 6b 6c 6d 6e 6f 70 71 72 73 74 75 7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Courier New"/>
                <a:ea typeface="Times New Roman"/>
              </a:rPr>
              <a:t>77 61 62 63 64 65 66 67 68 69</a:t>
            </a:r>
            <a:r>
              <a:rPr b="1" lang="fr-FR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447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es trames Ethernet respectent toutes la même structur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438280"/>
            <a:ext cx="8076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es 14 premiers octets constituent l’entête de la tram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42900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ous les octets suivants (de 46 à 1500) sont les données véhiculées par la tram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1828800"/>
            <a:ext cx="5410080" cy="673200"/>
          </a:xfrm>
          <a:prstGeom prst="flowChartProcess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ntêt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4952880"/>
            <a:ext cx="6553080" cy="1371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4648320"/>
            <a:ext cx="5791320" cy="304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La trame Etherne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812960"/>
            <a:ext cx="2362320" cy="685800"/>
          </a:xfrm>
          <a:prstGeom prst="flowChartProcess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resse MA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 destin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1812960"/>
            <a:ext cx="2286000" cy="685800"/>
          </a:xfrm>
          <a:prstGeom prst="flowChartProcess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Adresse MA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de la sourc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1812960"/>
            <a:ext cx="761760" cy="685800"/>
          </a:xfrm>
          <a:prstGeom prst="flowChartProcess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rotocol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1812960"/>
            <a:ext cx="2667240" cy="685800"/>
          </a:xfrm>
          <a:prstGeom prst="flowChartProcess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Donné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275436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6 octe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275436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6 octe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2754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2 oct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356544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(46 à 1500 octet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3200400"/>
            <a:ext cx="2362320" cy="0"/>
          </a:xfrm>
          <a:prstGeom prst="line">
            <a:avLst/>
          </a:prstGeom>
          <a:ln w="2844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3200400"/>
            <a:ext cx="2362320" cy="0"/>
          </a:xfrm>
          <a:prstGeom prst="line">
            <a:avLst/>
          </a:prstGeom>
          <a:ln w="2844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4120" y="320040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5880" y="4038480"/>
            <a:ext cx="2743200" cy="0"/>
          </a:xfrm>
          <a:prstGeom prst="line">
            <a:avLst/>
          </a:prstGeom>
          <a:ln w="2844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35812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ntête Ethernet (14 octet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038480"/>
            <a:ext cx="5410080" cy="0"/>
          </a:xfrm>
          <a:prstGeom prst="line">
            <a:avLst/>
          </a:prstGeom>
          <a:ln w="2844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575080"/>
            <a:ext cx="0" cy="182880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5880" y="2498760"/>
            <a:ext cx="0" cy="182880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25146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onnées encapsulées dans la trame Etherne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600200" y="4648320"/>
            <a:ext cx="6629400" cy="1752480"/>
            <a:chOff x="1600200" y="4648320"/>
            <a:chExt cx="6629400" cy="1752480"/>
          </a:xfrm>
        </p:grpSpPr>
        <p:sp>
          <p:nvSpPr>
            <p:cNvPr id="82" name=""/>
            <p:cNvSpPr/>
            <p:nvPr/>
          </p:nvSpPr>
          <p:spPr>
            <a:xfrm>
              <a:off x="7391520" y="4648320"/>
              <a:ext cx="761760" cy="3045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600200" y="4648320"/>
              <a:ext cx="6629400" cy="1752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fr-FR" sz="1800" spc="-1" strike="noStrike">
                  <a:solidFill>
                    <a:srgbClr val="ffffcc"/>
                  </a:solidFill>
                  <a:latin typeface="Courier New"/>
                  <a:ea typeface="Times New Roman"/>
                </a:rPr>
                <a:t>00 50 bf 4f 28 ca 00 d0 59 9c 2f 97 08 00 45 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GB" sz="1800" spc="-1" strike="noStrike">
                  <a:solidFill>
                    <a:srgbClr val="ffffcc"/>
                  </a:solidFill>
                  <a:latin typeface="Courier New"/>
                  <a:ea typeface="Times New Roman"/>
                </a:rPr>
                <a:t>00 3c 00 c7 00 00 80 01 91 f6 c0 00 14 02 c0 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fr-FR" sz="1800" spc="-1" strike="noStrike">
                  <a:solidFill>
                    <a:srgbClr val="ffffcc"/>
                  </a:solidFill>
                  <a:latin typeface="Courier New"/>
                  <a:ea typeface="Times New Roman"/>
                </a:rPr>
                <a:t>14 01 08 00 36 5c 02 00 15 00 61 62 63 64 65 66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GB" sz="1800" spc="-1" strike="noStrike">
                  <a:solidFill>
                    <a:srgbClr val="ffffcc"/>
                  </a:solidFill>
                  <a:latin typeface="Courier New"/>
                  <a:ea typeface="Times New Roman"/>
                </a:rPr>
                <a:t>67 68 69 6a 6b 6c 6d 6e 6f 70 71 72 73 74 75 76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GB" sz="1800" spc="-1" strike="noStrike">
                  <a:solidFill>
                    <a:srgbClr val="ffffcc"/>
                  </a:solidFill>
                  <a:latin typeface="Courier New"/>
                  <a:ea typeface="Times New Roman"/>
                </a:rPr>
                <a:t>77 61 62 63 64 65 66 67 68 69</a:t>
              </a:r>
              <a:r>
                <a:rPr b="1" lang="fr-FR" sz="18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600200" y="4648320"/>
            <a:ext cx="2438280" cy="304560"/>
          </a:xfrm>
          <a:prstGeom prst="flowChartProcess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0 50 bf 4f 28 c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38480" y="4648320"/>
            <a:ext cx="2514600" cy="304560"/>
          </a:xfrm>
          <a:prstGeom prst="flowChartProcess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Courier New"/>
                <a:ea typeface="Times New Roman"/>
              </a:rPr>
              <a:t>00 d0 59 9c 2f 97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4648320"/>
            <a:ext cx="838440" cy="304560"/>
          </a:xfrm>
          <a:prstGeom prst="flowChartProcess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8 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  <a:ea typeface="Times New Roman"/>
              </a:rPr>
              <a:t>La trame Etherne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es données sont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ncapsulée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dans la trame Ethernet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Un ordinateur sur le réseau, par sa couche 2, se reconnaît s’il retrouve son adresse MAC dans l’entête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l récupère toute la trame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l extrait le paquet de données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e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code de protocol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(ici 08 00) lui indique vers quel protocole de la couche 3 les orienter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4952880"/>
            <a:ext cx="6553080" cy="1371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648320"/>
            <a:ext cx="5791320" cy="304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600200" y="4648320"/>
            <a:ext cx="6629400" cy="1752480"/>
            <a:chOff x="1600200" y="4648320"/>
            <a:chExt cx="6629400" cy="1752480"/>
          </a:xfrm>
        </p:grpSpPr>
        <p:sp>
          <p:nvSpPr>
            <p:cNvPr id="92" name=""/>
            <p:cNvSpPr/>
            <p:nvPr/>
          </p:nvSpPr>
          <p:spPr>
            <a:xfrm>
              <a:off x="7391520" y="4648320"/>
              <a:ext cx="761760" cy="3045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00200" y="4648320"/>
              <a:ext cx="6629400" cy="1752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fr-FR" sz="1800" spc="-1" strike="noStrike">
                  <a:solidFill>
                    <a:srgbClr val="ffffcc"/>
                  </a:solidFill>
                  <a:latin typeface="Courier New"/>
                  <a:ea typeface="Times New Roman"/>
                </a:rPr>
                <a:t>00 50 bf 4f 28 ca 00 d0 59 9c 2f 97 08 00 45 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GB" sz="1800" spc="-1" strike="noStrike">
                  <a:solidFill>
                    <a:srgbClr val="ffffcc"/>
                  </a:solidFill>
                  <a:latin typeface="Courier New"/>
                  <a:ea typeface="Times New Roman"/>
                </a:rPr>
                <a:t>00 3c 00 c7 00 00 80 01 91 f6 c0 00 14 02 c0 0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fr-FR" sz="1800" spc="-1" strike="noStrike">
                  <a:solidFill>
                    <a:srgbClr val="ffffcc"/>
                  </a:solidFill>
                  <a:latin typeface="Courier New"/>
                  <a:ea typeface="Times New Roman"/>
                </a:rPr>
                <a:t>14 01 08 00 36 5c 02 00 15 00 61 62 63 64 65 66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GB" sz="1800" spc="-1" strike="noStrike">
                  <a:solidFill>
                    <a:srgbClr val="ffffcc"/>
                  </a:solidFill>
                  <a:latin typeface="Courier New"/>
                  <a:ea typeface="Times New Roman"/>
                </a:rPr>
                <a:t>67 68 69 6a 6b 6c 6d 6e 6f 70 71 72 73 74 75 76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0" lang="en-GB" sz="1800" spc="-1" strike="noStrike">
                  <a:solidFill>
                    <a:srgbClr val="ffffcc"/>
                  </a:solidFill>
                  <a:latin typeface="Courier New"/>
                  <a:ea typeface="Times New Roman"/>
                </a:rPr>
                <a:t>77 61 62 63 64 65 66 67 68 69</a:t>
              </a:r>
              <a:r>
                <a:rPr b="1" lang="fr-FR" sz="18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600200" y="4648320"/>
            <a:ext cx="2438280" cy="304560"/>
          </a:xfrm>
          <a:prstGeom prst="flowChartProcess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0 50 bf 4f 28 c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4648320"/>
            <a:ext cx="2514600" cy="304560"/>
          </a:xfrm>
          <a:prstGeom prst="flowChartProcess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Courier New"/>
                <a:ea typeface="Times New Roman"/>
              </a:rPr>
              <a:t>00 d0 59 9c 2f 97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4648320"/>
            <a:ext cx="838440" cy="304560"/>
          </a:xfrm>
          <a:prstGeom prst="flowChartProcess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8 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16:58:36Z</dcterms:created>
  <dc:creator>Schanen Thierry</dc:creator>
  <dc:description/>
  <dc:language>en-US</dc:language>
  <cp:lastModifiedBy>LERMYTTE</cp:lastModifiedBy>
  <dcterms:modified xsi:type="dcterms:W3CDTF">2006-10-01T12:24:38Z</dcterms:modified>
  <cp:revision>115</cp:revision>
  <dc:subject/>
  <dc:title>Les réseaux</dc:title>
</cp:coreProperties>
</file>