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4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PlaceHolder 1"/>
          <p:cNvSpPr>
            <a:spLocks noGrp="1"/>
          </p:cNvSpPr>
          <p:nvPr>
            <p:ph type="dt" idx="6"/>
          </p:nvPr>
        </p:nvSpPr>
        <p:spPr>
          <a:xfrm>
            <a:off x="3884760" y="0"/>
            <a:ext cx="29700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0" name="PlaceHolder 2"/>
          <p:cNvSpPr>
            <a:spLocks noGrp="1"/>
          </p:cNvSpPr>
          <p:nvPr>
            <p:ph type="sldImg"/>
          </p:nvPr>
        </p:nvSpPr>
        <p:spPr>
          <a:xfrm>
            <a:off x="1143000" y="685440"/>
            <a:ext cx="4570560" cy="342756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1"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2"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PlaceHolder 4"/>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Calibri"/>
                <a:ea typeface="DejaVu Sans Condensed"/>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386DAC-830C-4451-9E43-594DD3B858F3}" type="slidenum">
              <a:rPr b="0" lang="fr-FR" sz="1200" spc="-1" strike="noStrike">
                <a:solidFill>
                  <a:srgbClr val="000000"/>
                </a:solidFill>
                <a:latin typeface="Calibri"/>
                <a:ea typeface="DejaVu Sans Condense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D701CC-126F-4F82-A62F-5FC198EB7833}"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26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867117-B66D-4F96-983A-966619D2F14B}"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B5601A-45DE-4FEF-BF68-0B64186890B6}"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26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388795-68B3-4D24-AD62-6AFD66ACE4EA}"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FA49AE-8781-4B75-A6E8-6AEA19FDF207}"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27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22A8EF-7DF6-4BBD-98A6-BB388ACBF07D}"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273" name="Text Box 4"/>
          <p:cNvSpPr/>
          <p:nvPr/>
        </p:nvSpPr>
        <p:spPr>
          <a:xfrm>
            <a:off x="1079640" y="4500720"/>
            <a:ext cx="5040000" cy="17334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CD6EF8-24E8-4A35-9B45-3C37DB8693D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3E96771-43CB-47E4-B34E-B879EF67A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6F2545A-1392-4A9C-A150-E9F7AD2DF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1F10C4A-3AE8-4526-83B9-EED61B4F420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C200A1-D1FA-49DD-8707-00EA28F76C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C88CA3F-24F2-449D-9240-E6CBAFCEDA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517F751-2055-4464-95FA-91B3DF853C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2B7C718-BE79-4C7E-B241-C5F3118B27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CFF64645-9203-4009-BF5B-5042F12629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34097EB-F9C5-4904-B0C1-7B5C133BBC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AD58A98-B6D1-4B03-83E0-067923DC82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43A2E3E-2B4D-44B7-A5C7-BFC2097D4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A38AADD-3A4C-408E-B6AF-9206CD0F81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1F2F8FD-BFD7-4C33-90B6-E3AD244F94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BA947E0-5F7B-4DE2-B33A-26ED6A94A5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8DD214B-6666-4FC8-9E26-4C6825B687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77FB630-A0D8-487C-BF0A-82CD45BFC5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288EF8A-ADCD-409C-97EB-EC47E93C1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A78CC6E-3D17-4AB6-ACC0-CEF3C1CED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80147808-D36B-485D-A084-FB0855F8E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55EC9F0-CE7C-4859-8EF4-9C6E5FF4C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DCADD3D-7210-48BB-9A18-CABEAFEB495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0E68943-D859-4ED2-94CB-B5C2C4E8B64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5824DDC-A408-4227-89B7-95FEC23CC22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6DE376F-D749-48C1-8BA9-A77C1C5CF03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CC393835-134C-4E79-A705-6C62DD19189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F8FF161-0D10-4061-8DEA-674894F919F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D429814-F6B7-4D4A-A3D5-9DE94E9729E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6"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EA51C1F-8CD3-4922-985B-22D856D5930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51005B9-8B3E-4C3B-91C8-A5BF5DD8F2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DF84022-2671-43F2-9342-49B130DED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4D03257-6BB9-4F5A-8A6F-21455DBFD60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8"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7F95078-8388-434D-95AE-2C7B2993293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2"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5"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6EAB81A-520B-42C5-9429-9B91769BDE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6BAD830-6812-41C8-B07E-2EB31402C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355406C-538F-4FC8-8D45-1B68E353206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179280" y="500040"/>
            <a:ext cx="8964720" cy="1224000"/>
          </a:xfrm>
          <a:prstGeom prst="rect">
            <a:avLst/>
          </a:prstGeom>
          <a:ln w="0">
            <a:noFill/>
          </a:ln>
        </p:spPr>
      </p:pic>
      <p:sp>
        <p:nvSpPr>
          <p:cNvPr id="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C94018-FAD9-4F78-B538-3897A83044F7}"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 descr=""/>
          <p:cNvPicPr/>
          <p:nvPr/>
        </p:nvPicPr>
        <p:blipFill>
          <a:blip r:embed="rId2"/>
          <a:stretch/>
        </p:blipFill>
        <p:spPr>
          <a:xfrm>
            <a:off x="179280" y="500040"/>
            <a:ext cx="8964720" cy="1224000"/>
          </a:xfrm>
          <a:prstGeom prst="rect">
            <a:avLst/>
          </a:prstGeom>
          <a:ln w="0">
            <a:noFill/>
          </a:ln>
        </p:spPr>
      </p:pic>
      <p:sp>
        <p:nvSpPr>
          <p:cNvPr id="43"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Text Box 1"/>
          <p:cNvSpPr/>
          <p:nvPr/>
        </p:nvSpPr>
        <p:spPr>
          <a:xfrm>
            <a:off x="-36360" y="181080"/>
            <a:ext cx="9180360" cy="94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Arial Narrow"/>
              </a:rPr>
              <a:t> </a:t>
            </a:r>
            <a:r>
              <a:rPr b="1" lang="fr-FR" sz="2800" spc="-1" strike="noStrike">
                <a:solidFill>
                  <a:srgbClr val="000000"/>
                </a:solidFill>
                <a:latin typeface="Arial Narrow"/>
              </a:rPr>
              <a:t>Journée pédagogique pour l’enseignement des science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Arial Narrow"/>
              </a:rPr>
              <a:t>            </a:t>
            </a:r>
            <a:r>
              <a:rPr b="1" lang="fr-FR" sz="2800" spc="-1" strike="noStrike">
                <a:solidFill>
                  <a:srgbClr val="000000"/>
                </a:solidFill>
                <a:latin typeface="Arial Narrow"/>
              </a:rPr>
              <a:t>industrielles pour l’ingénieur en CPG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000" spc="-1" strike="noStrike">
                <a:solidFill>
                  <a:srgbClr val="000000"/>
                </a:solidFill>
                <a:latin typeface="Arial Narrow"/>
              </a:rPr>
              <a:t>                                   </a:t>
            </a:r>
            <a:r>
              <a:rPr b="1" lang="fr-FR" sz="2000" spc="-1" strike="noStrike">
                <a:solidFill>
                  <a:srgbClr val="000000"/>
                </a:solidFill>
                <a:latin typeface="Arial Narrow"/>
              </a:rPr>
              <a:t>à l’ENSAM de Lille, le 25 juin 2012 </a:t>
            </a:r>
            <a:endParaRPr b="0" lang="en-US" sz="2000" spc="-1" strike="noStrike">
              <a:solidFill>
                <a:srgbClr val="ffffff"/>
              </a:solidFill>
              <a:latin typeface="Arial"/>
            </a:endParaRPr>
          </a:p>
        </p:txBody>
      </p:sp>
      <p:sp>
        <p:nvSpPr>
          <p:cNvPr id="4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E0CC28-7512-4F5F-9E72-7D65BE1F0C6F}"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 descr=""/>
          <p:cNvPicPr/>
          <p:nvPr/>
        </p:nvPicPr>
        <p:blipFill>
          <a:blip r:embed="rId2"/>
          <a:stretch/>
        </p:blipFill>
        <p:spPr>
          <a:xfrm>
            <a:off x="179280" y="500040"/>
            <a:ext cx="8964720" cy="1224000"/>
          </a:xfrm>
          <a:prstGeom prst="rect">
            <a:avLst/>
          </a:prstGeom>
          <a:ln w="0">
            <a:noFill/>
          </a:ln>
        </p:spPr>
      </p:pic>
      <p:sp>
        <p:nvSpPr>
          <p:cNvPr id="8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 descr=""/>
          <p:cNvPicPr/>
          <p:nvPr/>
        </p:nvPicPr>
        <p:blipFill>
          <a:blip r:embed="rId2"/>
          <a:stretch/>
        </p:blipFill>
        <p:spPr>
          <a:xfrm>
            <a:off x="179280" y="500040"/>
            <a:ext cx="8964720" cy="1224000"/>
          </a:xfrm>
          <a:prstGeom prst="rect">
            <a:avLst/>
          </a:prstGeom>
          <a:ln w="0">
            <a:noFill/>
          </a:ln>
        </p:spPr>
      </p:pic>
      <p:sp>
        <p:nvSpPr>
          <p:cNvPr id="12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 descr=""/>
          <p:cNvPicPr/>
          <p:nvPr/>
        </p:nvPicPr>
        <p:blipFill>
          <a:blip r:embed="rId2"/>
          <a:stretch/>
        </p:blipFill>
        <p:spPr>
          <a:xfrm>
            <a:off x="179280" y="500040"/>
            <a:ext cx="8964720" cy="1224000"/>
          </a:xfrm>
          <a:prstGeom prst="rect">
            <a:avLst/>
          </a:prstGeom>
          <a:ln w="0">
            <a:noFill/>
          </a:ln>
        </p:spPr>
      </p:pic>
      <p:sp>
        <p:nvSpPr>
          <p:cNvPr id="16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 descr=""/>
          <p:cNvPicPr/>
          <p:nvPr/>
        </p:nvPicPr>
        <p:blipFill>
          <a:blip r:embed="rId2"/>
          <a:stretch/>
        </p:blipFill>
        <p:spPr>
          <a:xfrm>
            <a:off x="179280" y="500040"/>
            <a:ext cx="8964720" cy="1224000"/>
          </a:xfrm>
          <a:prstGeom prst="rect">
            <a:avLst/>
          </a:prstGeom>
          <a:ln w="0">
            <a:noFill/>
          </a:ln>
        </p:spPr>
      </p:pic>
      <p:sp>
        <p:nvSpPr>
          <p:cNvPr id="20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sldNum" idx="5"/>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ea typeface="DejaVu Sans Condensed"/>
              </a:rPr>
              <a:t>16/02/2012</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428760" y="1571760"/>
            <a:ext cx="828648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5" name="Text Box 4"/>
          <p:cNvSpPr/>
          <p:nvPr/>
        </p:nvSpPr>
        <p:spPr>
          <a:xfrm>
            <a:off x="539640" y="5818320"/>
            <a:ext cx="3081600" cy="85068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2 : classe de terminale</a:t>
            </a:r>
            <a:endParaRPr b="0" lang="en-US" sz="1400" spc="-1" strike="noStrike">
              <a:solidFill>
                <a:srgbClr val="ffffff"/>
              </a:solidFill>
              <a:latin typeface="Arial"/>
            </a:endParaRPr>
          </a:p>
        </p:txBody>
      </p:sp>
      <p:sp>
        <p:nvSpPr>
          <p:cNvPr id="256" name="ZoneTexte 5"/>
          <p:cNvSpPr/>
          <p:nvPr/>
        </p:nvSpPr>
        <p:spPr>
          <a:xfrm>
            <a:off x="250920" y="2395440"/>
            <a:ext cx="8642160" cy="394812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600" spc="-1" strike="noStrike">
                <a:solidFill>
                  <a:srgbClr val="000000"/>
                </a:solidFill>
                <a:latin typeface="Arial"/>
                <a:ea typeface="Calibri"/>
              </a:rPr>
              <a:t>Journée pédagogique pour l’enseignement des sciences industrielles pour l’ingénieur en CPGE</a:t>
            </a:r>
            <a:endParaRPr b="0" lang="en-US" sz="36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000000"/>
                </a:solidFill>
                <a:latin typeface="Arial"/>
                <a:ea typeface="Calibri"/>
              </a:rPr>
              <a:t> </a:t>
            </a:r>
            <a:endParaRPr b="0" lang="en-US" sz="32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ea typeface="Calibri"/>
              </a:rPr>
              <a:t>25 juin 2012 </a:t>
            </a:r>
            <a:endParaRPr b="0" lang="en-US" sz="24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ea typeface="Calibri"/>
              </a:rPr>
              <a:t>ENSAM de Lille</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3"/>
          <p:cNvSpPr/>
          <p:nvPr/>
        </p:nvSpPr>
        <p:spPr>
          <a:xfrm>
            <a:off x="539640" y="5219640"/>
            <a:ext cx="2935440" cy="9414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2 : classe de terminale</a:t>
            </a:r>
            <a:br>
              <a:rPr sz="1400"/>
            </a:br>
            <a:r>
              <a:rPr b="0" lang="fr-FR" sz="1400" spc="-1" strike="noStrike">
                <a:solidFill>
                  <a:srgbClr val="ffffff"/>
                </a:solidFill>
                <a:latin typeface="Arial"/>
              </a:rPr>
              <a:t>+ Première STMG (ex STG)</a:t>
            </a:r>
            <a:endParaRPr b="0" lang="en-US" sz="1400" spc="-1" strike="noStrike">
              <a:solidFill>
                <a:srgbClr val="ffffff"/>
              </a:solidFill>
              <a:latin typeface="Arial"/>
            </a:endParaRPr>
          </a:p>
        </p:txBody>
      </p:sp>
      <p:graphicFrame>
        <p:nvGraphicFramePr>
          <p:cNvPr id="258" name=""/>
          <p:cNvGraphicFramePr/>
          <p:nvPr/>
        </p:nvGraphicFramePr>
        <p:xfrm>
          <a:off x="0" y="1521000"/>
          <a:ext cx="9325080" cy="5422680"/>
        </p:xfrm>
        <a:graphic>
          <a:graphicData uri="http://schemas.openxmlformats.org/drawingml/2006/table">
            <a:tbl>
              <a:tblPr/>
              <a:tblGrid>
                <a:gridCol w="774720"/>
                <a:gridCol w="3227400"/>
                <a:gridCol w="5322960"/>
              </a:tblGrid>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9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Accueil</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Éric DUMETZ,</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Directeur de l’école Arts et Métiers ParisTech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9h1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a réforme du lycée</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Jean-Jacques DIVERCHY</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IA-IPR STI</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71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9h4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 baccalauréat STI2D</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Federico BERERA</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IA-IPR STI</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0h1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nseignement SI en pré-bac S</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Jean-Michel GAREL</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IA-IPR STI</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0h4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a réforme des CPGE ATS</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Dider DUHEM et Philippe MARSE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Professeurs en CPGE ATS au lycée Baggio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6897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1h1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écoconception</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Olivier FORT</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Chef de travaux du lycée Pierre-Forest – Maubeuge</a:t>
                      </a:r>
                      <a:endParaRPr b="0" lang="en-US" sz="1800" spc="-1" strike="noStrike">
                        <a:solidFill>
                          <a:srgbClr val="ffffff"/>
                        </a:solidFill>
                        <a:latin typeface="Arial"/>
                      </a:endParaRPr>
                    </a:p>
                  </a:txBody>
                  <a:tcPr anchor="t" marL="38880" marR="38880">
                    <a:lnL>
                      <a:noFill/>
                    </a:lnL>
                    <a:lnR>
                      <a:noFill/>
                    </a:lnR>
                    <a:lnT>
                      <a:noFill/>
                    </a:lnT>
                    <a:lnB>
                      <a:no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3"/>
          <p:cNvSpPr/>
          <p:nvPr/>
        </p:nvSpPr>
        <p:spPr>
          <a:xfrm>
            <a:off x="539640" y="5219640"/>
            <a:ext cx="2935440" cy="9414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2 : classe de terminale</a:t>
            </a:r>
            <a:br>
              <a:rPr sz="1400"/>
            </a:br>
            <a:r>
              <a:rPr b="0" lang="fr-FR" sz="1400" spc="-1" strike="noStrike">
                <a:solidFill>
                  <a:srgbClr val="ffffff"/>
                </a:solidFill>
                <a:latin typeface="Arial"/>
              </a:rPr>
              <a:t>+ Première STMG (ex STG)</a:t>
            </a:r>
            <a:endParaRPr b="0" lang="en-US" sz="1400" spc="-1" strike="noStrike">
              <a:solidFill>
                <a:srgbClr val="ffffff"/>
              </a:solidFill>
              <a:latin typeface="Arial"/>
            </a:endParaRPr>
          </a:p>
        </p:txBody>
      </p:sp>
      <p:graphicFrame>
        <p:nvGraphicFramePr>
          <p:cNvPr id="260" name=""/>
          <p:cNvGraphicFramePr/>
          <p:nvPr/>
        </p:nvGraphicFramePr>
        <p:xfrm>
          <a:off x="0" y="1628640"/>
          <a:ext cx="9144000" cy="5316840"/>
        </p:xfrm>
        <a:graphic>
          <a:graphicData uri="http://schemas.openxmlformats.org/drawingml/2006/table">
            <a:tbl>
              <a:tblPr/>
              <a:tblGrid>
                <a:gridCol w="758880"/>
                <a:gridCol w="4965480"/>
                <a:gridCol w="3419640"/>
              </a:tblGrid>
              <a:tr h="15782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4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Travaux de recherche découlant de l’utilisation de la modélisation Graphe Informationnel Causal (GIC)</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Richard BEAREE et Julien GOMAND</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Maîtres de Conférences de l’école Arts et Métiers ParisTech – Lille et Aix-en-Provenc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38880" marR="38880">
                    <a:lnL>
                      <a:noFill/>
                    </a:lnL>
                    <a:lnR>
                      <a:noFill/>
                    </a:lnR>
                    <a:lnT>
                      <a:noFill/>
                    </a:lnT>
                    <a:lnB>
                      <a:noFill/>
                    </a:lnB>
                    <a:noFill/>
                  </a:tcPr>
                </a:tc>
              </a:tr>
              <a:tr h="198108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5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 langage de description SysML</a:t>
                      </a:r>
                      <a:endParaRPr b="0" lang="en-US" sz="1800" spc="-1" strike="noStrike">
                        <a:solidFill>
                          <a:srgbClr val="ffffff"/>
                        </a:solidFill>
                        <a:latin typeface="Arial"/>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s processus de modélisation d'un système et démarche de conception à l'aide de l'outil SysML</a:t>
                      </a:r>
                      <a:endParaRPr b="0" lang="en-US" sz="1800" spc="-1" strike="noStrike">
                        <a:solidFill>
                          <a:srgbClr val="ffffff"/>
                        </a:solidFill>
                        <a:latin typeface="Arial"/>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Exemple d'un modèle MATLAB basé sur une description SysML : étude de la balance HALO</a:t>
                      </a:r>
                      <a:endParaRPr b="0" lang="en-US" sz="1800" spc="-1" strike="noStrike">
                        <a:solidFill>
                          <a:srgbClr val="ffffff"/>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Yann LE GALLOU</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Professeur au lycée Baggio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12621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6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 point de vue des Arts et Métiers : les évolutions, les projets, quels ingénieurs pour demain…</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Éric DUMETZ</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Directeur de l’école Arts et Métiers ParisTech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4953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6h30 </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Échanges</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14:35:38Z</dcterms:created>
  <dc:creator>nfranquet</dc:creator>
  <dc:description/>
  <dc:language>en-US</dc:language>
  <cp:lastModifiedBy>DIVERCHY Jean-Jacques</cp:lastModifiedBy>
  <dcterms:modified xsi:type="dcterms:W3CDTF">2012-06-25T19:46:10Z</dcterms:modified>
  <cp:revision>11</cp:revision>
  <dc:subject/>
  <dc:title>Diapositive 1</dc:title>
</cp:coreProperties>
</file>